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E24E-5DAF-4A61-9133-1F150C8392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Weisweiler, Dirscherl, Brauman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Grundlagen des Zeit- und Selbstmana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Gruppieren 13"/>
          <p:cNvGrpSpPr/>
          <p:nvPr/>
        </p:nvGrpSpPr>
        <p:grpSpPr>
          <a:xfrm>
            <a:off x="1071720" y="1895400"/>
            <a:ext cx="6983280" cy="4176720"/>
            <a:chOff x="1071720" y="1895400"/>
            <a:chExt cx="6983280" cy="4176720"/>
          </a:xfrm>
        </p:grpSpPr>
        <p:sp>
          <p:nvSpPr>
            <p:cNvPr id="42" name="Oval 4"/>
            <p:cNvSpPr/>
            <p:nvPr/>
          </p:nvSpPr>
          <p:spPr>
            <a:xfrm>
              <a:off x="1071720" y="1895400"/>
              <a:ext cx="698328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>
              <a:off x="3572280" y="2019960"/>
              <a:ext cx="1955160" cy="980640"/>
            </a:xfrm>
            <a:prstGeom prst="ellipse">
              <a:avLst/>
            </a:prstGeom>
            <a:solidFill>
              <a:srgbClr val="d3d3d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Grundlagen 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Zeit- und Selbs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manag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8"/>
            <p:cNvSpPr/>
            <p:nvPr/>
          </p:nvSpPr>
          <p:spPr>
            <a:xfrm>
              <a:off x="5384880" y="2642040"/>
              <a:ext cx="196200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Ziel- u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rioritätensetz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9"/>
            <p:cNvSpPr/>
            <p:nvPr/>
          </p:nvSpPr>
          <p:spPr>
            <a:xfrm>
              <a:off x="4727160" y="476568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Selbs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6027840" y="385632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Zeitplan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1779840" y="2622240"/>
              <a:ext cx="196200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Zeit- und Selbs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management i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rojektko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2670120" y="476568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Delegation u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Partizip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3460680" y="3454200"/>
              <a:ext cx="226512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Wissenschaftlich fundi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u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anwendungsorienti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1369440" y="3856320"/>
              <a:ext cx="1729080" cy="98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Besprechungs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Fußzeilenplatzhalter 12"/>
          <p:cNvSpPr/>
          <p:nvPr/>
        </p:nvSpPr>
        <p:spPr>
          <a:xfrm>
            <a:off x="539640" y="6356520"/>
            <a:ext cx="813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12 Springer-Verlag Berlin Heidelberg.  Aus: Weisweiler S., Dirscherl B., Braumandl I.: Zeit- und Selbst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7:08:32Z</dcterms:created>
  <dc:creator>root</dc:creator>
  <dc:description/>
  <dc:language>en-US</dc:language>
  <cp:lastModifiedBy>Akin</cp:lastModifiedBy>
  <dcterms:modified xsi:type="dcterms:W3CDTF">2013-07-08T12:40:15Z</dcterms:modified>
  <cp:revision>64</cp:revision>
  <dc:subject/>
  <dc:title>Folie 1</dc:title>
</cp:coreProperties>
</file>