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EFC-F375-4483-A139-55EF315A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E8A-D688-44D7-A992-1F59B90C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C05-F9A2-4BB8-9980-2C0C3546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C5F-C021-4678-B789-2E94921E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702-03A7-431E-A3AD-A428FB86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1EE-944A-459D-86DC-5BB2D348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EDF-1C7A-442D-B482-B634C130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581-29A5-461F-85E8-B3DC644C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122-17E3-490B-9454-D0C75AE8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10D-3E1C-4A50-BE57-A33CCA1C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EED-9DA8-40E1-9F9A-4769DF31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BC0-D611-4039-934C-2EADE77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94EB-178C-4597-A9FB-E68C82E27E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Zeitkompetenzmod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uppieren 27"/>
          <p:cNvGrpSpPr/>
          <p:nvPr/>
        </p:nvGrpSpPr>
        <p:grpSpPr>
          <a:xfrm>
            <a:off x="2050920" y="1700280"/>
            <a:ext cx="4929480" cy="4390920"/>
            <a:chOff x="2050920" y="1700280"/>
            <a:chExt cx="4929480" cy="4390920"/>
          </a:xfrm>
        </p:grpSpPr>
        <p:grpSp>
          <p:nvGrpSpPr>
            <p:cNvPr id="43" name="Gruppieren 23"/>
            <p:cNvGrpSpPr/>
            <p:nvPr/>
          </p:nvGrpSpPr>
          <p:grpSpPr>
            <a:xfrm>
              <a:off x="3693960" y="4305240"/>
              <a:ext cx="1643040" cy="1214280"/>
              <a:chOff x="3693960" y="4305240"/>
              <a:chExt cx="1643040" cy="1214280"/>
            </a:xfrm>
          </p:grpSpPr>
          <p:sp>
            <p:nvSpPr>
              <p:cNvPr id="44" name="Textfeld 16"/>
              <p:cNvSpPr/>
              <p:nvPr/>
            </p:nvSpPr>
            <p:spPr>
              <a:xfrm>
                <a:off x="3845160" y="4453200"/>
                <a:ext cx="1334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fer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halten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msetz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Ellipse 19"/>
              <p:cNvSpPr/>
              <p:nvPr/>
            </p:nvSpPr>
            <p:spPr>
              <a:xfrm>
                <a:off x="3693960" y="4305240"/>
                <a:ext cx="1643040" cy="1214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uppieren 15"/>
            <p:cNvGrpSpPr/>
            <p:nvPr/>
          </p:nvGrpSpPr>
          <p:grpSpPr>
            <a:xfrm>
              <a:off x="2693880" y="1700280"/>
              <a:ext cx="3643560" cy="2143080"/>
              <a:chOff x="2693880" y="1700280"/>
              <a:chExt cx="3643560" cy="2143080"/>
            </a:xfrm>
          </p:grpSpPr>
          <p:sp>
            <p:nvSpPr>
              <p:cNvPr id="47" name="Textfeld 8"/>
              <p:cNvSpPr/>
              <p:nvPr/>
            </p:nvSpPr>
            <p:spPr>
              <a:xfrm>
                <a:off x="4122720" y="2348640"/>
                <a:ext cx="8571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om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ni-k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feld 9"/>
              <p:cNvSpPr/>
              <p:nvPr/>
            </p:nvSpPr>
            <p:spPr>
              <a:xfrm>
                <a:off x="5123160" y="2629080"/>
                <a:ext cx="107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feld 6"/>
              <p:cNvSpPr/>
              <p:nvPr/>
            </p:nvSpPr>
            <p:spPr>
              <a:xfrm>
                <a:off x="2765160" y="2348640"/>
                <a:ext cx="1714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iel- und Prioritäten-setz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Ellipse 12"/>
              <p:cNvSpPr/>
              <p:nvPr/>
            </p:nvSpPr>
            <p:spPr>
              <a:xfrm>
                <a:off x="2693880" y="1700280"/>
                <a:ext cx="2286360" cy="2143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Ellipse 13"/>
              <p:cNvSpPr/>
              <p:nvPr/>
            </p:nvSpPr>
            <p:spPr>
              <a:xfrm>
                <a:off x="4051080" y="1700280"/>
                <a:ext cx="2286360" cy="2143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uppieren 24"/>
            <p:cNvGrpSpPr/>
            <p:nvPr/>
          </p:nvGrpSpPr>
          <p:grpSpPr>
            <a:xfrm>
              <a:off x="2050920" y="5305680"/>
              <a:ext cx="1500120" cy="785520"/>
              <a:chOff x="2050920" y="5305680"/>
              <a:chExt cx="1500120" cy="785520"/>
            </a:xfrm>
          </p:grpSpPr>
          <p:sp>
            <p:nvSpPr>
              <p:cNvPr id="53" name="Textfeld 18"/>
              <p:cNvSpPr/>
              <p:nvPr/>
            </p:nvSpPr>
            <p:spPr>
              <a:xfrm>
                <a:off x="2355840" y="550764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s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Ellipse 20"/>
              <p:cNvSpPr/>
              <p:nvPr/>
            </p:nvSpPr>
            <p:spPr>
              <a:xfrm>
                <a:off x="2050920" y="5305680"/>
                <a:ext cx="1500120" cy="785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uppieren 22"/>
            <p:cNvGrpSpPr/>
            <p:nvPr/>
          </p:nvGrpSpPr>
          <p:grpSpPr>
            <a:xfrm>
              <a:off x="5480280" y="5305680"/>
              <a:ext cx="1500120" cy="785520"/>
              <a:chOff x="5480280" y="5305680"/>
              <a:chExt cx="1500120" cy="785520"/>
            </a:xfrm>
          </p:grpSpPr>
          <p:sp>
            <p:nvSpPr>
              <p:cNvPr id="56" name="Textfeld 17"/>
              <p:cNvSpPr/>
              <p:nvPr/>
            </p:nvSpPr>
            <p:spPr>
              <a:xfrm>
                <a:off x="5733360" y="5507640"/>
                <a:ext cx="95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on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Ellipse 21"/>
              <p:cNvSpPr/>
              <p:nvPr/>
            </p:nvSpPr>
            <p:spPr>
              <a:xfrm>
                <a:off x="5480280" y="5305680"/>
                <a:ext cx="1500120" cy="785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Pfeil nach oben und unten 29"/>
            <p:cNvSpPr/>
            <p:nvPr/>
          </p:nvSpPr>
          <p:spPr>
            <a:xfrm rot="1800000">
              <a:off x="4874760" y="3851280"/>
              <a:ext cx="236520" cy="500040"/>
            </a:xfrm>
            <a:prstGeom prst="upDownArrow">
              <a:avLst>
                <a:gd name="adj1" fmla="val 50000"/>
                <a:gd name="adj2" fmla="val 5000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feil nach oben und unten 30"/>
            <p:cNvSpPr/>
            <p:nvPr/>
          </p:nvSpPr>
          <p:spPr>
            <a:xfrm rot="19800000">
              <a:off x="3919320" y="3850920"/>
              <a:ext cx="236520" cy="500040"/>
            </a:xfrm>
            <a:prstGeom prst="upDownArrow">
              <a:avLst>
                <a:gd name="adj1" fmla="val 50000"/>
                <a:gd name="adj2" fmla="val 5000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feil nach oben und unten 31"/>
            <p:cNvSpPr/>
            <p:nvPr/>
          </p:nvSpPr>
          <p:spPr>
            <a:xfrm rot="3600000">
              <a:off x="3350520" y="4970520"/>
              <a:ext cx="236520" cy="500040"/>
            </a:xfrm>
            <a:prstGeom prst="upDownArrow">
              <a:avLst>
                <a:gd name="adj1" fmla="val 50000"/>
                <a:gd name="adj2" fmla="val 5000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feil nach oben und unten 32"/>
            <p:cNvSpPr/>
            <p:nvPr/>
          </p:nvSpPr>
          <p:spPr>
            <a:xfrm rot="18000000">
              <a:off x="5443560" y="4970160"/>
              <a:ext cx="236520" cy="500040"/>
            </a:xfrm>
            <a:prstGeom prst="upDownArrow">
              <a:avLst>
                <a:gd name="adj1" fmla="val 50000"/>
                <a:gd name="adj2" fmla="val 5000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Fußzeilenplatzhalter 22"/>
          <p:cNvSpPr/>
          <p:nvPr/>
        </p:nvSpPr>
        <p:spPr>
          <a:xfrm>
            <a:off x="755640" y="6356520"/>
            <a:ext cx="77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12 Springer-Verlag Berlin Heidelberg.  Aus: Weisweiler S., Dirscherl B., Braumandl I.: Zeit- und Selbst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07:34:31Z</dcterms:created>
  <dc:creator>root</dc:creator>
  <dc:description/>
  <dc:language>en-US</dc:language>
  <cp:lastModifiedBy>Karin und Klaus Dembowsky</cp:lastModifiedBy>
  <dcterms:modified xsi:type="dcterms:W3CDTF">2012-03-29T14:45:10Z</dcterms:modified>
  <cp:revision>10</cp:revision>
  <dc:subject/>
  <dc:title>Zeitkompetenzmodell (Weisweiler, Dirscherl, Braumandl, 2010)</dc:title>
</cp:coreProperties>
</file>