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2F86-6BAE-4764-BFBC-0F7C1C5AC99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Weisweiler, Dirscherl, Brauman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528120"/>
            <a:ext cx="828036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finition Selbstmanagement</a:t>
            </a:r>
            <a:br>
              <a:rPr sz="36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ehr 200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ähigkeit, persönliche Ziele und Werte/Motive so in Einklang zu bringen, dass die Ziele erreicht werden und dabei Zufriedenheit erlebt wi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heit von Kopf (Ziele) und Bauch (Werte/Mo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es keinen Konsens zwischen Zielen und Werten/Motiven gibt, ist es besser, die eigenen Ziele anzupass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rte/Motive werden über lange Zeit erlernt (durch Sozialisation) und sind deshalb schwer und nur langfristig zu veränd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ußzeilenplatzhalter 3"/>
          <p:cNvSpPr/>
          <p:nvPr/>
        </p:nvSpPr>
        <p:spPr>
          <a:xfrm>
            <a:off x="755640" y="6356520"/>
            <a:ext cx="77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12 Springer-Verlag Berlin Heidelberg.  Aus: Weisweiler S., Dirscherl B., Braumandl I.: Zeit- und Selbst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7:08:32Z</dcterms:created>
  <dc:creator>root</dc:creator>
  <dc:description/>
  <dc:language>en-US</dc:language>
  <cp:lastModifiedBy>Karin und Klaus Dembowsky</cp:lastModifiedBy>
  <dcterms:modified xsi:type="dcterms:W3CDTF">2012-03-29T14:45:53Z</dcterms:modified>
  <cp:revision>61</cp:revision>
  <dc:subject/>
  <dc:title>Folie 1</dc:title>
</cp:coreProperties>
</file>