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73F3-F00D-4FD7-B487-41C81634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44C1-E1C0-494C-A43D-E10CC148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9316-82FD-4C5B-9601-8F5182B5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2FD6C-A1EA-4104-9FBD-DB57EE0C9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70DB-CAA7-4697-A1E9-E063CB64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C349-BDD0-4E07-80BD-6A1711D9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AEA02-86EE-4559-8146-8E1FF2EE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5813-2D17-4CD0-8C4F-9217AFE4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59B7-1538-46A9-9384-68B5C038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440" y="1736280"/>
            <a:ext cx="776916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0B56-BFCB-41D9-9B44-0D82A2868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72C9-E60F-4CB5-8446-5681713F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12DCE-3BF8-4F63-9DE0-43FAE6EF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03CE-C14D-4DCD-B346-0AD2FA97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3ADF-59E5-4591-B930-AC2161F5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5E29-9407-4183-9547-BA50E16D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B9BF-CF56-448F-84AE-326AFCC2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5114-BACC-4B86-B572-017AC48E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9C2D-5EB5-4295-9362-A2A22DB1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1424-43AD-46C4-9D69-C4BB39E1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5F34-D688-410A-8BD4-D6AE7E11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736280"/>
            <a:ext cx="776916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DF53-634F-480A-A65E-490C6912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61B03-7C64-48AC-92B3-1B339D8D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9850E-06C0-4396-8062-9A87E46B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7227A-8A7B-48CE-BE16-BFFAFCB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CD16-0E28-4C44-9198-F8B1FDB6704B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2000" cy="26496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5480" cy="1284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19800" cy="15350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0360" cy="33066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78200" cy="85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4040" cy="2436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37520" cy="28162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2000" cy="26496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5480" cy="1284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19800" cy="15350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0360" cy="33066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78200" cy="85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4040" cy="2436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37520" cy="28162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9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532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A9D798B-D7E7-4A7E-99E5-3CD0D3C78BBF}" type="slidenum">
              <a: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Lunar Domes</a:t>
            </a:r>
            <a:br>
              <a:rPr sz="4000"/>
            </a:br>
            <a:r>
              <a:rPr b="1" i="1" lang="it-IT" sz="3600" spc="-1" strike="noStrike">
                <a:solidFill>
                  <a:srgbClr val="e5e5ff"/>
                </a:solidFill>
                <a:latin typeface="Garamond"/>
              </a:rPr>
              <a:t>Properties and Formation Process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785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cc00"/>
                </a:solidFill>
                <a:latin typeface="Garamond"/>
              </a:rPr>
              <a:t>Appendix B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cc00"/>
                </a:solidFill>
                <a:latin typeface="Garamond"/>
              </a:rPr>
              <a:t>Further Resources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6091200"/>
            <a:ext cx="65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Lena, R., Wöhler, C., Phillips, J., Chiocchetta, M.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8920" y="6335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XI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24000" y="503280"/>
            <a:ext cx="655164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8920" y="6335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IV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5280" y="388800"/>
            <a:ext cx="6591600" cy="558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58920" y="6273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V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2000" y="936720"/>
            <a:ext cx="7488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63356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V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16000" y="863640"/>
            <a:ext cx="539748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87640" y="623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VI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36720" y="1584360"/>
            <a:ext cx="727236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8920" y="6335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VII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50960" y="431640"/>
            <a:ext cx="583740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58920" y="626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08000" y="1079640"/>
            <a:ext cx="712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626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84360" y="863640"/>
            <a:ext cx="57592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8920" y="6335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X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48000" y="557280"/>
            <a:ext cx="4392360" cy="549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3:58Z</dcterms:created>
  <dc:creator>lucilla</dc:creator>
  <dc:description/>
  <dc:language>en-US</dc:language>
  <cp:lastModifiedBy>lucilla</cp:lastModifiedBy>
  <dcterms:modified xsi:type="dcterms:W3CDTF">2012-07-21T11:02:46Z</dcterms:modified>
  <cp:revision>18</cp:revision>
  <dc:subject/>
  <dc:title>Diapositiva 1</dc:title>
</cp:coreProperties>
</file>