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D589-0AB8-4D74-8784-39666B59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7E391-A1FC-4EF7-9599-A860C2E4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CD7C6-BFFB-481F-BB6C-23903CE5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7BA82-174B-4FA3-BE51-948B71EA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44FF-465F-414D-AE0B-C8CBB5C0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C258-B7B1-4345-9363-7D180653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4BC1-E86F-4E9D-A30A-EBA5A2C69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552F-6CAC-43D5-A2A5-ED8CBB40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FB8C-55AB-47CE-83EE-EC20AC42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BFC2-E751-42B9-9D77-F3417468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A501-EE14-487C-A4BF-AB41508E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349BB-A855-416D-89B3-2C8BEBCC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9C9B-E62D-4F2D-8C3D-3E86792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3BA8-1B03-4BB8-B01A-BA05CE24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723F-F558-49C4-8084-9D18CFE0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3467-DBFC-4B01-87B2-F9A9CC0A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FC1F-0994-4482-996E-5B413349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0568-498E-436C-BA18-051C2B3D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4D195-6205-42CB-BAA8-2C877772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D429-7EB0-492B-B51F-A826F9B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99204-C981-4BCA-8D04-B6F94F3D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A0E4-D6C4-4B89-B01F-5E92C235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1EB77-DBF3-41F6-8057-5F794F58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BB0A-2776-485D-877B-BDC69988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D9B7-A095-4504-BD37-C07F115CB3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2647-E72B-45BD-A27A-969049D297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Lunar Domes</a:t>
            </a:r>
            <a:br>
              <a:rPr sz="4000"/>
            </a:b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it-IT" sz="4000" spc="-1" strike="noStrike">
                <a:solidFill>
                  <a:srgbClr val="ffffff"/>
                </a:solidFill>
                <a:latin typeface="Garamond"/>
              </a:rPr>
              <a:t>Properties and Formation Process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510920" y="6091920"/>
            <a:ext cx="65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Lena, R., Wöhler, C., Phillips, J., Chiocchetta, M.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6338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5.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5530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3280" y="6338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5.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60483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6338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5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333360"/>
            <a:ext cx="4608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1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4149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56000" y="63388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5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115920"/>
            <a:ext cx="446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670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3:58Z</dcterms:created>
  <dc:creator>lucilla</dc:creator>
  <dc:description/>
  <dc:language>en-US</dc:language>
  <cp:lastModifiedBy>lucilla</cp:lastModifiedBy>
  <dcterms:modified xsi:type="dcterms:W3CDTF">2012-07-18T12:47:31Z</dcterms:modified>
  <cp:revision>5</cp:revision>
  <dc:subject/>
  <dc:title>Diapositiva 1</dc:title>
</cp:coreProperties>
</file>