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CA177-F01A-4F6E-9935-2260D5BF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7282-7C34-4453-82F5-14D41277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4939-30D2-4861-85E7-A11A5974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9247-5472-49DD-8C02-0D8CF6D0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73CA-463B-4FF9-8255-AA0B880F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781D-4D68-4A13-9DA4-723C4777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3EB3-C0C7-4F08-86FD-5A851414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6C6-EC7F-40F0-8E26-13F4AA0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DC4C-EF55-4D74-8040-C397DD34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0AD4-EFAC-4F84-A2F5-179FAE4C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36B3-8EF5-49B3-8FD7-59FDD9C7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F465-7035-4640-88EC-8C381FD8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4D63-961F-4760-8434-04FB28C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E2C0-5EE0-4A36-8D1E-64D6269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7E13-C3F6-4ACC-8998-0251B23F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9089-6E88-47EA-A4DB-22E20AE96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E2FB-EED4-4C01-A893-B3BEBA4B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0C7C5-8E46-478C-A594-DB75C6B2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F37F3-382E-4764-8081-205F0C3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04B11-8E4F-4EC4-B98C-2DBA7852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9A5B-EA03-4C5B-9FE2-F0F40D55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0634-85EC-48C6-A238-3BD615AB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1929-8BD4-4C87-8041-D4C58343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E544C-04FC-42AF-9F77-282CDD54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F47-3402-4627-A8EC-D398A98D69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894E-1001-4903-9249-3A1ADDA553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it-IT" sz="4000" spc="-1" strike="noStrike">
                <a:solidFill>
                  <a:srgbClr val="ffffff"/>
                </a:solidFill>
                <a:latin typeface="Garamond"/>
              </a:rPr>
              <a:t>Properties and Formation Process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10920" y="609192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19308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6338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1592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12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33360"/>
            <a:ext cx="460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1592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1592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468360" y="1628640"/>
            <a:ext cx="813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18T12:47:00Z</dcterms:modified>
  <cp:revision>5</cp:revision>
  <dc:subject/>
  <dc:title>Diapositiva 1</dc:title>
</cp:coreProperties>
</file>