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7FEE9-B08D-49B6-B97F-6A3DE71BF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4292E-A19B-4350-B1C2-6C90F728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36AD4-DCC7-4E26-944B-A9969E314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2F464-9734-4DF0-8402-D87856CAD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D2C3-5432-4C19-B709-7DCE06BAC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01949-3176-4C06-85FA-53AA1AE9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EA19-05E9-432E-89CF-BE5E20D5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4FD0-0E1F-4754-9830-96B75F63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91D6-1FD6-46F8-8AB7-6E34BDC0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D418-A113-44BF-BCCA-E5DD3F37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CDCE-5AF0-4329-BFE8-173FC388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66F1F-D42F-492D-B298-420DA17F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1745-DD69-4E91-9DC2-DD272C54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BD39-F91D-460C-AB42-6CB0B3CE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58FA-E694-465A-A671-3B320EB1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C2DF-FC96-4900-9E39-BAA73E60F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55C8-233C-470F-AB6E-171C8704E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DC9EC-6B49-4215-87CD-21ED5F2E2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797AA-5863-4A11-9019-BF8F4671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9D439-3353-401C-ABB9-745365DD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C3EFB-EE07-4AC2-A3F0-3F7227C7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D2CF0-7558-4F1C-A9EF-0789D3C4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1FF92-B7DD-4490-AB8E-09DD4E5E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3FF83-F350-4ED6-8BBB-645E5000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D0DF-DD19-4387-A005-BA394D1B9D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87F2-FDB3-4BFA-9B0A-2DB89166F5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e5e5ff"/>
                </a:solidFill>
                <a:latin typeface="Garamond"/>
              </a:rPr>
              <a:t>Lunar Domes</a:t>
            </a:r>
            <a:br>
              <a:rPr sz="4000"/>
            </a:br>
            <a:r>
              <a:rPr b="1" i="1" lang="it-IT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i="1" lang="it-IT" sz="4000" spc="-1" strike="noStrike">
                <a:solidFill>
                  <a:srgbClr val="ffffff"/>
                </a:solidFill>
                <a:latin typeface="Garamond"/>
              </a:rPr>
              <a:t>Properties and Formation Process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2276280"/>
            <a:ext cx="87854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cc00"/>
                </a:solidFill>
                <a:latin typeface="Garamond"/>
              </a:rPr>
              <a:t>Chapter 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cc00"/>
                </a:solidFill>
                <a:latin typeface="Garamond"/>
              </a:rPr>
              <a:t>Modelling of lunar effusive and intrusive dom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1510920" y="6091920"/>
            <a:ext cx="65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Lena, R., Wöhler, C., Phillips, J., Chiocchetta, M.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58920" y="63388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ig. 4.1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5280" y="0"/>
            <a:ext cx="5761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cc00"/>
                </a:solidFill>
                <a:latin typeface="Garamond"/>
              </a:rPr>
              <a:t>Chapter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00"/>
                </a:solidFill>
                <a:latin typeface="Garamond"/>
              </a:rPr>
              <a:t>Modelling of lunar effusive and intrusive dom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47640" y="1125360"/>
            <a:ext cx="6193080" cy="45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042920" y="6338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ig. 4.2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763640" y="115920"/>
            <a:ext cx="5761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cc00"/>
                </a:solidFill>
                <a:latin typeface="Garamond"/>
              </a:rPr>
              <a:t>Chapter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00"/>
                </a:solidFill>
                <a:latin typeface="Garamond"/>
              </a:rPr>
              <a:t>Modelling of lunar effusive and intrusive dom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19128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58920" y="63388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ig. 4.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11280" y="333360"/>
            <a:ext cx="46087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27280" y="115920"/>
            <a:ext cx="4572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63640" y="115920"/>
            <a:ext cx="5761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cc00"/>
                </a:solidFill>
                <a:latin typeface="Garamond"/>
              </a:rPr>
              <a:t>Chapter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00"/>
                </a:solidFill>
                <a:latin typeface="Garamond"/>
              </a:rPr>
              <a:t>Modelling of lunar effusive and intrusive dom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>
            <a:alphaModFix amt="76000"/>
          </a:blip>
          <a:stretch/>
        </p:blipFill>
        <p:spPr>
          <a:xfrm>
            <a:off x="468360" y="1628640"/>
            <a:ext cx="8136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1T16:13:58Z</dcterms:created>
  <dc:creator>lucilla</dc:creator>
  <dc:description/>
  <dc:language>en-US</dc:language>
  <cp:lastModifiedBy>lucilla</cp:lastModifiedBy>
  <dcterms:modified xsi:type="dcterms:W3CDTF">2012-07-18T12:47:00Z</dcterms:modified>
  <cp:revision>5</cp:revision>
  <dc:subject/>
  <dc:title>Diapositiva 1</dc:title>
</cp:coreProperties>
</file>