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A7DA-BDE0-4B52-A349-7C8526DA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AEA0-01FD-47FE-B3FE-F23D8DAA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24E8D-AF3F-40E7-87FE-45B52E6AF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F91D-775B-4640-B0CE-C4811B44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DF970-744C-4519-9D27-157A0A84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AFAC-500C-482A-8AAA-DC547A677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9B58-82CC-4BAE-9140-D909F10D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927A-D4B0-4CD4-AB23-5B7E65BD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30CD-6CAE-4523-81FF-413C2D7B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BCC0-DB5F-4D45-A625-A465F564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B831E-E57C-4F34-BACD-6F551117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4F91C-81D2-4920-A47D-37011D45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C1CF-C6D7-4790-BB34-CA2EEB8B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C5BF-9913-4576-9BB5-7A4D785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8D49-F327-4C90-B238-7618990E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FCA2-5D8A-47A1-9392-A291098F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CCA9A-9172-4121-AAE6-BD7942F0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7CFBC-ED3C-4BAE-8FA3-F3D76D1B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6569-DB9F-45D2-A296-833AC5A2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E751F-7753-45F5-8224-18316C55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69AA0-093A-417A-A723-3ADCB40A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23E7F-6EE5-42FC-9365-D5ADA086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2E43-4A62-475B-B0EB-6EA8EE07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A8CDB-82E6-42AE-B142-42EB9FFB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8A87-4D4F-40D2-B311-4117DDF071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D793-7E94-45BE-9AEC-4F8CA711A2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Lunar Domes</a:t>
            </a:r>
            <a:br>
              <a:rPr sz="4000"/>
            </a:b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it-IT" sz="4000" spc="-1" strike="noStrike">
                <a:solidFill>
                  <a:srgbClr val="ffffff"/>
                </a:solidFill>
                <a:latin typeface="Garamond"/>
              </a:rPr>
              <a:t>Properties and Formation Process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510920" y="6091920"/>
            <a:ext cx="65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Lena, R., Wöhler, C., Phillips, J., Chiocchetta, M.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8920" y="6338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5.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55308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03280" y="6338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5.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6048360" cy="50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32000" y="6338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5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333360"/>
            <a:ext cx="4608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159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4149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556000" y="6338880"/>
            <a:ext cx="38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5.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115920"/>
            <a:ext cx="44640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95640" y="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Lunar domes classification sch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700360" y="549360"/>
            <a:ext cx="367020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3:58Z</dcterms:created>
  <dc:creator>lucilla</dc:creator>
  <dc:description/>
  <dc:language>en-US</dc:language>
  <cp:lastModifiedBy>lucilla</cp:lastModifiedBy>
  <dcterms:modified xsi:type="dcterms:W3CDTF">2012-07-18T12:47:31Z</dcterms:modified>
  <cp:revision>5</cp:revision>
  <dc:subject/>
  <dc:title>Diapositiva 1</dc:title>
</cp:coreProperties>
</file>