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58DF1-4FDB-48EB-B114-EA268368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91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19DB3-0003-4357-93A6-B02A24DC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91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C6A95-0FAD-402F-8806-BD9ABC04A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91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47CA1-95F5-4120-9B07-58FCB7E37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B592-D6D1-495A-AC0B-A6680868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91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18E0-4647-4DD3-A70F-BC05324A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91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CA4B4-48B2-47A5-8BD4-FD547C97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91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079D-0661-47E3-BE99-4B530A4A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91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3893-AA55-44F9-B779-7574EE05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440" y="1736280"/>
            <a:ext cx="776916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D632-3681-4F17-80E6-711CA9B4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91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1BFE-0DA7-435E-BB11-C3DA2D17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91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1AF3F-87BD-4BF7-96B8-15DB2704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91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2A18-98B1-4A0F-8758-D2BD7401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91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B0DC-5553-4033-ACCF-DCDF04C8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91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9EBF-102D-488C-9415-D564D0BB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91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2530-26DA-4B8C-9769-6E5DC734D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91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820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9560" y="396756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B92B-5A3C-4FF9-A509-06FD98894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91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37B95-2AEF-45D3-988E-A639976A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91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FB6E8-84D1-4CD1-92F1-8207789D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91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68F0C-34F3-44A1-81D5-5EA2E499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440" y="1736280"/>
            <a:ext cx="7769160" cy="88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73784-F58E-4DC4-A50F-293FC8BC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91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1F359-2FE2-4E3C-AA29-1D891F94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91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2440" y="396756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EE4DE-56D5-4E4C-AC54-7CBFC015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91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756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C058C-5AC7-42CE-9B1D-561F8FB3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24996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C1DE2-39F4-4677-9A32-A68AE0852634}" type="slidenum">
              <a:rPr b="0" lang="it-IT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37520" cy="6846840"/>
            <a:chOff x="0" y="0"/>
            <a:chExt cx="9137520" cy="684684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89640" cy="3306600"/>
              <a:chOff x="2743200" y="3540240"/>
              <a:chExt cx="6389640" cy="330660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2000" cy="264960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5480" cy="128448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19800" cy="153504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0360" cy="330660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78200" cy="85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c85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4040" cy="243684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1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37520" cy="281628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3720" y="624852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37520" cy="6846840"/>
            <a:chOff x="0" y="0"/>
            <a:chExt cx="9137520" cy="684684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89640" cy="3306600"/>
              <a:chOff x="2743200" y="3540240"/>
              <a:chExt cx="6389640" cy="330660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2000" cy="264960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5480" cy="128448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19800" cy="153504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0360" cy="330660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78200" cy="85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c85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4040" cy="243684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1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37520" cy="281628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736280"/>
            <a:ext cx="776916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3720" y="624996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5320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1D2453F-CCA9-4F56-AF4A-91C95B680689}" type="slidenum">
              <a:rPr b="0" lang="it-IT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4000" spc="-1" strike="noStrike">
                <a:solidFill>
                  <a:srgbClr val="e5e5ff"/>
                </a:solidFill>
                <a:latin typeface="Garamond"/>
              </a:rPr>
              <a:t>Lunar Domes</a:t>
            </a:r>
            <a:br>
              <a:rPr sz="4000"/>
            </a:br>
            <a:r>
              <a:rPr b="1" i="1" lang="it-IT" sz="3600" spc="-1" strike="noStrike">
                <a:solidFill>
                  <a:srgbClr val="e5e5ff"/>
                </a:solidFill>
                <a:latin typeface="Garamond"/>
              </a:rPr>
              <a:t>Properties and Formation Process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2276280"/>
            <a:ext cx="87854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fcc00"/>
                </a:solidFill>
                <a:latin typeface="Garamond"/>
              </a:rPr>
              <a:t>Appendix B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4400" spc="-1" strike="noStrike">
                <a:solidFill>
                  <a:srgbClr val="ffcc00"/>
                </a:solidFill>
                <a:latin typeface="Garamond"/>
              </a:rPr>
              <a:t>Further Resources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6091200"/>
            <a:ext cx="656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Garamond"/>
              </a:rPr>
              <a:t>Lena, R., Wöhler, C., Phillips, J., Chiocchetta, M.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58920" y="633564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Plate XXII</a:t>
            </a: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35280" y="0"/>
            <a:ext cx="5761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24000" y="503280"/>
            <a:ext cx="6551640" cy="56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58920" y="633564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Plate XIV</a:t>
            </a: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35280" y="0"/>
            <a:ext cx="5761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95280" y="388800"/>
            <a:ext cx="6591600" cy="558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58920" y="62737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Plate XV</a:t>
            </a: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35280" y="0"/>
            <a:ext cx="5761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92000" y="936720"/>
            <a:ext cx="748836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95280" y="633564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Plate XVI</a:t>
            </a: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35280" y="0"/>
            <a:ext cx="5761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016000" y="863640"/>
            <a:ext cx="5397480" cy="47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987640" y="623736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Plate XVII</a:t>
            </a: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35280" y="0"/>
            <a:ext cx="5761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36720" y="1584360"/>
            <a:ext cx="7272360" cy="41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58920" y="633564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Plate XVIII</a:t>
            </a: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35280" y="0"/>
            <a:ext cx="5761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50960" y="431640"/>
            <a:ext cx="5837400" cy="589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258920" y="626436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Plate XI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35280" y="0"/>
            <a:ext cx="5761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08000" y="1079640"/>
            <a:ext cx="7128000" cy="43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58920" y="626436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Plate X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35280" y="0"/>
            <a:ext cx="5761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84360" y="863640"/>
            <a:ext cx="575928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58920" y="633564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Garamond"/>
              </a:rPr>
              <a:t>Plate XXI</a:t>
            </a: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35280" y="0"/>
            <a:ext cx="5761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448000" y="557280"/>
            <a:ext cx="4392360" cy="5491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1T16:13:58Z</dcterms:created>
  <dc:creator>lucilla</dc:creator>
  <dc:description/>
  <dc:language>en-US</dc:language>
  <cp:lastModifiedBy>lucilla</cp:lastModifiedBy>
  <dcterms:modified xsi:type="dcterms:W3CDTF">2012-07-21T11:02:46Z</dcterms:modified>
  <cp:revision>18</cp:revision>
  <dc:subject/>
  <dc:title>Diapositiva 1</dc:title>
</cp:coreProperties>
</file>