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19.pct" ContentType="image/x-pict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C00-1206-410F-B59B-85E13820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7DE-BA82-48FF-8544-E9102A20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E173-78C4-462A-80CE-49F199B7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A71-8877-4E7A-81A1-3A59336D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7595-1A31-4EFA-A4BA-30A12081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7E83-63DE-4F01-82E7-9800882F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9886-4B72-4502-A071-94A50B3A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3DFF-A72B-4002-AD4D-384DA6F3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E2BE-F2DE-4B93-AA44-8C789474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D337-29EC-4986-814C-CC6CA027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0864-09A2-45BF-B78A-BFE0FEA7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B9E-80BA-4033-A754-AC229EE0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ECDD-7826-4A0B-8C93-D3C9DAAE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A4E4-F6C3-4477-BC2A-5E32DE8F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489F-2742-49DB-973C-41F6240B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E2C6-C6DF-4035-9574-48679926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06E0-C67F-446F-8594-8AAACEFD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0962C-7474-4D36-9042-8DCDDC24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F33A9-892A-47F5-9856-19CA032C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7CBB0-DCF6-4D90-B70B-E88C4BE0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93CCB-8AF4-4775-A25F-8356287A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20BC-31BC-4797-A41D-3BF7C1FA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14E-A8CF-47E5-AE40-FB7C2633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9086-D733-4780-9AC2-C127C14B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414A-17F3-43D8-90ED-7332BE7C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0DEF5-71F2-4BE9-8D88-14020D6E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EE74-D159-48B4-A770-BA9AA67B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A3E89-469F-435D-A66F-A0E0F53B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7AB90-88D2-4896-A39A-D6CD2C72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54DB1-D733-4B19-A5F5-AA67E7D3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868F5-CF0F-4015-BC2F-3E647FE6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82C9C-5D77-4BFF-A9C8-3764AEA4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14B20-9729-4653-B221-1E6D5653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43F-DDBB-4607-A02C-453CCF2E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827CC-136E-4BCF-B0AC-384B37F3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57624-6CAE-4C9A-85E9-2693B169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45FF2-05FC-4646-8C58-10FA4FDF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24DE4-B86F-49CB-AB87-564E0F2A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0CFCB-7564-49EE-8E6E-40EECDEC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845BF-B633-4BB8-963D-EC11A4F2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4A880-9903-4397-B392-59D52BD2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65012-9BF7-4A50-9E61-45F50713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7B55A-9B40-472C-A961-9F63CDF2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2550A-CC61-4144-BD76-4DF12D55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A01-A8BC-4406-80CD-FD792131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EC79A-EB0D-474D-A4AD-E2C81E32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39EC9-B43D-4535-B87B-6C1C551B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D7876-4817-49C6-A3A8-00F39706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E0AAE-6839-46BD-8818-F4681CDB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68035-77A0-4444-8C3E-5349DB12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E4842-42D9-4EA5-B4A4-8BEA572C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8284B-5F47-44A4-B230-A6D0D6CB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16E9D-8E7A-4AE4-A106-5B333CB7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0E105-9ED8-4DC5-9414-702A7D83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0746F-0A08-4B87-858A-0DD7D892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09D-A93F-402B-961A-B9D0F45B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AC1E3-E431-412D-AB2C-D9930EA4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0A13E-DD8D-4BB8-BC03-CD6CC992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873ED-78A6-49B6-98D7-75904976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D5F34-BFDA-4B5B-A31F-004FBF1D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84F4E-9E8E-4B4B-B379-3AF573AB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5884D-FB1C-4D31-9448-F6268E3A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3D38D-FB5D-4D04-88E1-CAC0AC59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AB7DB-505D-4064-9315-BBE9E859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A9D6D-1A2A-4181-AF05-342FB40D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F7628-74EE-4D37-BCCB-BE11B81A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FB3-1644-4C1C-9F47-10FDF8DA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862B7-C480-48C4-94EE-EC468175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F011D-5869-4559-9F43-79020FF8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4F50B-3277-49D7-9025-5DEB7929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D2807-2EB5-4191-AD57-E6416680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8DDB3-5448-4D70-91BC-514C2695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DCC5D-928C-4004-95FA-360BBE75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AD05B-935B-4EB1-8705-6305EC86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FCE6F-76C8-4CE0-B748-AC8FF85B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9F032-CE40-4598-9B3A-53744216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794B6-F4AD-4029-ADBB-8C5171C3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8A1-9D35-4327-B846-2737847F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F9374-71B9-48A6-B131-3C21F178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2BCCE-600A-46EB-A9BA-937C030D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4FDF4-4F69-4CB9-A6EC-937DBC15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3A6CD-A52C-4C04-AB73-0E0A6745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CE536-A280-439C-8647-F2409FCE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E642C-D956-43C8-A2FE-AB94F3A4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AFEDD-4184-4429-A8BB-14642A63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08F5D-762F-4A49-B539-D9E672B1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8E36B-9249-4DC0-BDBA-C54935B7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6DEF6-039D-48D0-B7FD-08DE3E01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9EA8-C020-442C-A126-FE538A39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8D165-CF8F-4E6A-AAA6-A9B74ED3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12817-A16B-4F17-9509-A13F925E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7C98D-ACDB-4990-8551-7E42CD26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A8E25-81CA-4B44-A804-5620473B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96826-930E-4196-A428-B19E2C9D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93622-3C6F-4CEB-A8A7-8CDB67EE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E51B2-2DFF-4696-BFCB-3BD25440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ECB28-915B-4B0F-B885-2DD22304BFD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53541-5D4A-4685-B394-7C135D92FE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9E86B-4B7C-49DD-8B5F-856CB345AD5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22AAA-263D-45D9-809E-9E6E11F40A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FF715-209C-4F82-A7E1-C728C086237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84372-6E8A-4E01-84E3-7D5A5E2D66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E66E6-48BA-4CD8-BEE0-3DF74FA6158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2406E-F2AB-4701-8A7B-4BD1196E18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8E0FC-BC1E-4C8C-B980-952040AF011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BECE5-9252-4F18-8FFC-5FFDC256AA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F6DF4-0F3D-4126-924A-E9C07305C94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351B0-0E6B-485C-9702-4744D42A9D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0E1DB-018C-4254-9D3B-E3CDB8E4769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A1A4E-965B-4D04-863A-57AF47464A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0F40B-19D0-46B9-9CB9-7C131096BC7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1CAD2-4264-4CB3-81FE-2CB7205D8C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78880" cy="2060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G. S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408480" cy="3578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4584600" y="507960"/>
            <a:ext cx="41022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2683080" cy="136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3124080" y="304920"/>
            <a:ext cx="5829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1866960" y="2063880"/>
            <a:ext cx="5410080" cy="273024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2138760" y="5602320"/>
            <a:ext cx="66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lue – anorthosites; gray – granitoids; green – ferrodiorit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6427440" y="641988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Emslie et al. 1994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4224600" cy="1359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735120" y="1417680"/>
            <a:ext cx="3327120" cy="4432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3"/>
          <a:stretch/>
        </p:blipFill>
        <p:spPr>
          <a:xfrm>
            <a:off x="4062240" y="4406760"/>
            <a:ext cx="2908440" cy="2451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"/>
          <p:cNvPicPr/>
          <p:nvPr/>
        </p:nvPicPr>
        <p:blipFill>
          <a:blip r:embed="rId4"/>
          <a:stretch/>
        </p:blipFill>
        <p:spPr>
          <a:xfrm>
            <a:off x="4952880" y="495360"/>
            <a:ext cx="341640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457200" y="2168640"/>
            <a:ext cx="82296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2031840" y="1892160"/>
            <a:ext cx="58564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237960" y="1417680"/>
            <a:ext cx="3854520" cy="344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3"/>
          <a:stretch/>
        </p:blipFill>
        <p:spPr>
          <a:xfrm>
            <a:off x="4416480" y="1909800"/>
            <a:ext cx="4481280" cy="29574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6"/>
          <p:cNvSpPr/>
          <p:nvPr/>
        </p:nvSpPr>
        <p:spPr>
          <a:xfrm>
            <a:off x="6384600" y="61642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Longhi et al. 1999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4105440" y="374760"/>
            <a:ext cx="4841640" cy="64832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451080" y="1397160"/>
            <a:ext cx="26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enesis of AMCG Sui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3"/>
          <a:stretch/>
        </p:blipFill>
        <p:spPr>
          <a:xfrm>
            <a:off x="4863960" y="1994040"/>
            <a:ext cx="382284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281160" y="2206800"/>
            <a:ext cx="2412720" cy="1365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2857680" y="274680"/>
            <a:ext cx="582912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2" descr=""/>
          <p:cNvPicPr/>
          <p:nvPr/>
        </p:nvPicPr>
        <p:blipFill>
          <a:blip r:embed="rId1"/>
          <a:stretch/>
        </p:blipFill>
        <p:spPr>
          <a:xfrm>
            <a:off x="1731960" y="268200"/>
            <a:ext cx="6961320" cy="115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1911240" y="1974960"/>
            <a:ext cx="532152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1243080" y="2190600"/>
            <a:ext cx="6978600" cy="30178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6213960" y="641988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uppert &amp; Sparks (1985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457200" y="1689120"/>
            <a:ext cx="4199040" cy="4246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3"/>
          <a:stretch/>
        </p:blipFill>
        <p:spPr>
          <a:xfrm>
            <a:off x="4656240" y="2216160"/>
            <a:ext cx="4147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"/>
          <p:cNvPicPr/>
          <p:nvPr/>
        </p:nvPicPr>
        <p:blipFill>
          <a:blip r:embed="rId2"/>
          <a:stretch/>
        </p:blipFill>
        <p:spPr>
          <a:xfrm>
            <a:off x="457200" y="1730520"/>
            <a:ext cx="3073320" cy="2946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"/>
          <p:cNvPicPr/>
          <p:nvPr/>
        </p:nvPicPr>
        <p:blipFill>
          <a:blip r:embed="rId3"/>
          <a:stretch/>
        </p:blipFill>
        <p:spPr>
          <a:xfrm>
            <a:off x="4572000" y="1679400"/>
            <a:ext cx="29718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63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2298600" y="1530360"/>
            <a:ext cx="45468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3760920" cy="1366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4405320" y="274680"/>
            <a:ext cx="42814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2693880" y="268200"/>
            <a:ext cx="599940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2698920" y="1809720"/>
            <a:ext cx="48369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2109960" y="268200"/>
            <a:ext cx="658332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1241280" y="1836720"/>
            <a:ext cx="68072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2841840" cy="29131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3860640" y="272880"/>
            <a:ext cx="4826160" cy="63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432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1917720" y="1600200"/>
            <a:ext cx="63514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804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3786120" y="3330720"/>
            <a:ext cx="5145120" cy="3527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5137200" y="0"/>
            <a:ext cx="4006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2413080" y="2260440"/>
            <a:ext cx="431784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3:45:12Z</dcterms:created>
  <dc:creator>ACG-CAAD-IT</dc:creator>
  <dc:description/>
  <dc:language>en-US</dc:language>
  <cp:lastModifiedBy>ACG-CAAD-IT</cp:lastModifiedBy>
  <dcterms:modified xsi:type="dcterms:W3CDTF">2013-10-26T15:16:05Z</dcterms:modified>
  <cp:revision>26</cp:revision>
  <dc:subject/>
  <dc:title>Petrology Chapter 12</dc:title>
</cp:coreProperties>
</file>