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50.png" ContentType="image/png"/>
  <Override PartName="/ppt/media/image19.pct" ContentType="image/x-pict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6.png" ContentType="image/png"/>
  <Override PartName="/ppt/media/image35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386-37F0-433F-A8E7-108A75D1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6FD9-F1E2-4A66-8D3E-E3102A41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A638-6CFC-4038-B899-CD53C4E7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35EA-B414-4734-90B5-B66AE700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80B6-EFAC-4026-9743-2CFE827B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0D6F-DD7D-4456-A9BA-8CC909E9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C1FB-4A91-4905-9A4C-3E8FAACE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CA80-E839-4E36-962B-4112AA1B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616F-47DB-43B9-9017-AF96C385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CA64-DFAF-49D2-A726-FAA599BB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A951-C9C7-4D5A-87BF-EA76AD48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4F9-DA09-4130-82E5-49297B7C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8D23-D9EE-44E7-AE10-7099B823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9993-E84B-4C6E-B1DF-9643CFC7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2DA2-64B5-4DAF-AFE7-CF761F22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8EF0-2E1A-46AB-891B-502FAB4C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3FEC-8CC9-4370-96FD-12818B69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8E59E-AA73-4444-83D2-15064BEE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8CD7E-B098-4CD9-A4F9-C3370523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EA163-BAC6-4554-9716-1286CC95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98B0D-3A21-431D-A0F3-4AD321DF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C87D4-CF1F-43AC-A2E5-F981DC66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A27-0F97-4EDC-A9DA-2476D5BB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978E5-ECE0-4AE0-821B-F5C59F18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3588B-FB5B-4D5E-A63B-FBFB8EB9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CC07E-E6C6-4767-9557-ED7BD836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5B0C0-A92E-45B3-A42E-AC4D9B95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E1516-7DA7-4CBB-AEFA-E8B29C3E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58C4A-23C8-4E3C-B8E8-5AAE215F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1B522-9003-49E8-A965-F1CC3AFC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22675-7CB1-42C6-B400-259E6526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66ADE-A07E-4F64-911B-396A6F19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F3AEA-43A9-44EB-8CA0-795BA7C6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0951-2661-4419-9283-47B332E7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B3701-5DDA-4D02-AFD9-F502E00F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2933C-5A6C-4025-AE83-9615BFE1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8D927-D58A-4DC3-A5AC-A6AC11EA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9695F-DFBF-41B8-B335-49965300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886C6-76A9-49F0-A9C5-614D9D5E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E9BEC-01CF-439D-B117-0B45D575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BA4D5-7E3D-4383-B076-764C3BAF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16376-BC5D-4717-B219-6D7AB18F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9CBB8-4950-4DCB-9C88-68BEAAD5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71F5A-5A64-4886-A721-F11B9C95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B93-7895-4702-990A-4485327B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52C7D-EB0F-49AD-9002-AC4D0EA3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79F0B-73A3-4115-9CC7-0ECC8C31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79E09-E351-4D58-9AE7-0E9DC79B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14D82-7316-4687-8F7A-4CAC12C1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A6F74-A0A6-4280-B26C-C3C1218A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7C8F9-6DEF-45CB-970F-BA7C4D2F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88FCC-05AA-49AA-B2A2-0D75342B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74166-2C4D-44A3-864A-930286C3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11C3D-1863-4D42-AE33-8F38C580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92061-6F50-40A5-8E9B-F844F816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01C-99F6-418B-988A-80798363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BE88C-F2CF-4416-9981-A434F475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B4F4F-32CC-40F9-A714-B40EB31A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2BD7B-C747-4D85-A499-8ABFC789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9CB57-90C2-445A-BB20-374E0DB2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42027-C088-40A9-AEDE-7EB93AE4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D1A31-C873-4585-B36E-5641036B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65020-F197-4D03-83C8-415739B2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D6B01-CF9C-462C-A042-EFED85B8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E1A7E-4B4B-48C9-83B6-EF1AA4F9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2AB36-996F-4CAC-83DD-992557CF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40C-7AAD-4120-9D8A-0C1346F6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BBB13-8A9F-4EE6-986A-5BD21612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D3FC7-8643-4523-87D6-8992F4E5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84F44-ACC1-489A-83BD-72A3618F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BD0CA-5D0D-4967-9C60-106C2455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42531-375D-4624-9206-5E48B4B5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2AACF-CF8D-497E-958F-531A5C95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DB57C-09B7-42C8-82AF-AAD01779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E5C9F-B366-4CCB-8994-2B2B8CA9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2401E-12D2-40E6-8026-9A8A51B6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4D631-64C9-410A-AB3B-A4B1237D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41D6-7F9F-4695-A715-BBEF3833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B87EA-8680-47CC-8141-79395FBC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5CD47-6821-4F8A-A6D2-400E23CB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5F5F0-2FB2-48D6-9368-A4577463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060C3-8BAA-4C06-BEEB-EE3EB26F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87A83-A027-4121-B2EF-84CAD402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B84E4-C576-41A7-8FE1-0AAEE4F9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4A271-972A-4C0A-A644-9A9605D0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128EB-1101-402E-AF19-DC59E40F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3C63A-C291-452E-8514-8CE713B6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D2C10-7691-4E43-BED5-861A1111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14A2-B400-4C18-828B-59B36354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7A40E-29E1-4CDF-BC9D-706ACB22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57C8B-9AAB-4671-B02B-AEE97F06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404C4-67E8-423E-919C-ED8B5F7A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99965-B09C-4C93-A383-A636AFA2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2CBCC-173E-46D3-A089-44B0DFC8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E59FC-438F-4487-BF65-5AA8AE8E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14E8F-32B7-470A-A60A-7753598E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2E95B-9F65-4ECA-AE26-D8A499CAB36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CD57E-174D-4247-9725-6B0566BA4F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8B95D-51F4-41BC-A7AD-9B92651B9C0E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CBC3F-4F96-4194-93B3-42C787BF55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8ECFC-B01B-4085-917D-C66E40CEC9D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F394F-41BB-4226-A904-306827734F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14FCD-F356-475B-B064-2FD93660700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0289A-B082-4215-ABB2-EFE79BB30E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61D74-E506-4924-8FD9-C5CA45A418C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2C867-EA23-42E3-A4DB-6E56E6FE8B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FD949-67A7-49F3-BC63-C2FEFA489A2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1F2A4-699F-4965-B329-83AC141C87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8E3BF-6675-4FFD-B502-452CA09ADB1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92C2F-01CF-4DA4-89A8-476D62F189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D27F2-55BA-4B13-920A-FEBD34FC9CA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38444-5FF4-411B-AD97-919D9F0571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78880" cy="20602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G. S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408480" cy="3578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4584600" y="507960"/>
            <a:ext cx="410220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2683080" cy="1366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2"/>
          <a:stretch/>
        </p:blipFill>
        <p:spPr>
          <a:xfrm>
            <a:off x="3124080" y="304920"/>
            <a:ext cx="5829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1866960" y="2063880"/>
            <a:ext cx="5410080" cy="273024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2138760" y="5602320"/>
            <a:ext cx="66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lue – anorthosites; gray – granitoids; green – ferrodiorite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6427440" y="641988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Emslie et al. 1994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4224600" cy="1359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2"/>
          <a:stretch/>
        </p:blipFill>
        <p:spPr>
          <a:xfrm>
            <a:off x="735120" y="1417680"/>
            <a:ext cx="3327120" cy="4432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3"/>
          <a:stretch/>
        </p:blipFill>
        <p:spPr>
          <a:xfrm>
            <a:off x="4062240" y="4406760"/>
            <a:ext cx="2908440" cy="2451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"/>
          <p:cNvPicPr/>
          <p:nvPr/>
        </p:nvPicPr>
        <p:blipFill>
          <a:blip r:embed="rId4"/>
          <a:stretch/>
        </p:blipFill>
        <p:spPr>
          <a:xfrm>
            <a:off x="4952880" y="495360"/>
            <a:ext cx="341640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366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457200" y="2168640"/>
            <a:ext cx="822960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2031840" y="1892160"/>
            <a:ext cx="58564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"/>
          <p:cNvPicPr/>
          <p:nvPr/>
        </p:nvPicPr>
        <p:blipFill>
          <a:blip r:embed="rId2"/>
          <a:stretch/>
        </p:blipFill>
        <p:spPr>
          <a:xfrm>
            <a:off x="237960" y="1417680"/>
            <a:ext cx="3854520" cy="3449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3"/>
          <a:stretch/>
        </p:blipFill>
        <p:spPr>
          <a:xfrm>
            <a:off x="4416480" y="1909800"/>
            <a:ext cx="4481280" cy="2957400"/>
          </a:xfrm>
          <a:prstGeom prst="rect">
            <a:avLst/>
          </a:prstGeom>
          <a:ln w="0">
            <a:noFill/>
          </a:ln>
        </p:spPr>
      </p:pic>
      <p:sp>
        <p:nvSpPr>
          <p:cNvPr id="408" name="TextBox 6"/>
          <p:cNvSpPr/>
          <p:nvPr/>
        </p:nvSpPr>
        <p:spPr>
          <a:xfrm>
            <a:off x="6384600" y="616428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Longhi et al. 1999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4105440" y="374760"/>
            <a:ext cx="4841640" cy="648324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451080" y="1397160"/>
            <a:ext cx="26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enesis of AMCG Suit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3"/>
          <a:stretch/>
        </p:blipFill>
        <p:spPr>
          <a:xfrm>
            <a:off x="4863960" y="1994040"/>
            <a:ext cx="382284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281160" y="2206800"/>
            <a:ext cx="2412720" cy="1365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"/>
          <p:cNvPicPr/>
          <p:nvPr/>
        </p:nvPicPr>
        <p:blipFill>
          <a:blip r:embed="rId2"/>
          <a:stretch/>
        </p:blipFill>
        <p:spPr>
          <a:xfrm>
            <a:off x="2857680" y="274680"/>
            <a:ext cx="582912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2" descr=""/>
          <p:cNvPicPr/>
          <p:nvPr/>
        </p:nvPicPr>
        <p:blipFill>
          <a:blip r:embed="rId1"/>
          <a:stretch/>
        </p:blipFill>
        <p:spPr>
          <a:xfrm>
            <a:off x="1731960" y="268200"/>
            <a:ext cx="6961320" cy="115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1911240" y="1974960"/>
            <a:ext cx="532152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1243080" y="2190600"/>
            <a:ext cx="6978600" cy="30178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4"/>
          <p:cNvSpPr/>
          <p:nvPr/>
        </p:nvSpPr>
        <p:spPr>
          <a:xfrm>
            <a:off x="6213960" y="641988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uppert &amp; Sparks (1985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457200" y="1689120"/>
            <a:ext cx="4199040" cy="4246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3"/>
          <a:stretch/>
        </p:blipFill>
        <p:spPr>
          <a:xfrm>
            <a:off x="4656240" y="2216160"/>
            <a:ext cx="41479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"/>
          <p:cNvPicPr/>
          <p:nvPr/>
        </p:nvPicPr>
        <p:blipFill>
          <a:blip r:embed="rId2"/>
          <a:stretch/>
        </p:blipFill>
        <p:spPr>
          <a:xfrm>
            <a:off x="457200" y="1730520"/>
            <a:ext cx="3073320" cy="29462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"/>
          <p:cNvPicPr/>
          <p:nvPr/>
        </p:nvPicPr>
        <p:blipFill>
          <a:blip r:embed="rId3"/>
          <a:stretch/>
        </p:blipFill>
        <p:spPr>
          <a:xfrm>
            <a:off x="4572000" y="1679400"/>
            <a:ext cx="29718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63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2298600" y="1530360"/>
            <a:ext cx="45468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3760920" cy="1366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2"/>
          <a:stretch/>
        </p:blipFill>
        <p:spPr>
          <a:xfrm>
            <a:off x="4405320" y="274680"/>
            <a:ext cx="428148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2693880" y="268200"/>
            <a:ext cx="599940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2"/>
          <a:stretch/>
        </p:blipFill>
        <p:spPr>
          <a:xfrm>
            <a:off x="2698920" y="1809720"/>
            <a:ext cx="483696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2" descr=""/>
          <p:cNvPicPr/>
          <p:nvPr/>
        </p:nvPicPr>
        <p:blipFill>
          <a:blip r:embed="rId1"/>
          <a:stretch/>
        </p:blipFill>
        <p:spPr>
          <a:xfrm>
            <a:off x="2109960" y="268200"/>
            <a:ext cx="658332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1241280" y="1836720"/>
            <a:ext cx="68072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2841840" cy="29131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2"/>
          <a:stretch/>
        </p:blipFill>
        <p:spPr>
          <a:xfrm>
            <a:off x="3860640" y="272880"/>
            <a:ext cx="4826160" cy="631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432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1917720" y="1600200"/>
            <a:ext cx="63514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804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3786120" y="3330720"/>
            <a:ext cx="5145120" cy="35272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3"/>
          <a:stretch/>
        </p:blipFill>
        <p:spPr>
          <a:xfrm>
            <a:off x="5137200" y="0"/>
            <a:ext cx="40068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366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2413080" y="2260440"/>
            <a:ext cx="4317840" cy="23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6T13:45:12Z</dcterms:created>
  <dc:creator>ACG-CAAD-IT</dc:creator>
  <dc:description/>
  <dc:language>en-US</dc:language>
  <cp:lastModifiedBy>ACG-CAAD-IT</cp:lastModifiedBy>
  <dcterms:modified xsi:type="dcterms:W3CDTF">2013-10-26T15:16:05Z</dcterms:modified>
  <cp:revision>26</cp:revision>
  <dc:subject/>
  <dc:title>Petrology Chapter 12</dc:title>
</cp:coreProperties>
</file>