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19.pct" ContentType="image/x-pict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151-C101-41C2-A669-F7833A5B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D5F-6CC3-4247-B823-58E4A6A8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EDD-0DBC-4A5B-A16E-D736D7F3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4B7-60CB-4A9A-AF04-74A245F7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6AA8-23D7-4BEC-9592-2CC6C103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E3BF-0488-4633-93D3-FF98EAC7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830E-B3F8-4228-83BE-6F65AC06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CE5D-CE71-4164-BF97-DE09D710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7BE7-89B2-4AEE-8E92-56F55347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9772-A889-445F-BB67-AF72C2BE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128C-A166-4A9C-9CAF-C0147C87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5C1-5083-4854-9722-91BDB6DC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5B66-5687-4B6A-8250-0C7FC814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03B8-5A67-493A-9E56-C32075A6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49EF-3D3B-4463-BEB2-F19A434D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6474-1091-4F46-AA1E-CDEF9CE7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C07D-28AF-4860-9693-CBEF8E44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065EA-5F3C-486A-88C8-15C1539B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794C2-AF9A-407D-BA10-5CD548FC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CC0D9-9F11-4C30-97A0-E4AB201B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3C45-E3A1-48E5-8AE6-8DD47EEC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EC97-E327-4C1B-B4B4-6EF8E212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EE3-4949-4139-8BC3-1D539629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F4769-A24B-438B-B9D0-85EA9661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A19CD-603A-41F0-AB8A-FE5EE626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63AD9-914F-4CDD-A7DC-7A64F1E4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F8CD-F5CE-463F-89A9-42BDA6B5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CBE4A-9BDD-4593-BD33-BFEDEF6D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DFC2-7936-42B9-A765-48833D68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8D39-EC54-446F-BC09-211A13DE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C4E82-12C2-4E82-A80F-0CCECE94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8222-0D36-49BA-94E2-B5D7B716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719FA-4F01-4B67-9225-B7FAAEE1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02D-B975-4A50-8F40-04916E59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A198-9908-4E7D-B8FB-64BEEAA9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9E411-983D-4D57-BE33-A52AFD46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DFBC1-37B9-4A6C-83CE-77F7D301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67663-34E8-4D20-8235-C651B7EA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3F681-D27D-43C1-B6DD-9F9D4D6D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2F1DE-2A1A-4823-B592-B7D7A4D9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7C67-5A98-4EC4-BD39-D6658BAD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F4B1D-CEA1-4700-BDB0-607D4189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F634C-19EE-4E01-865F-0FD5B3A2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A0B61-3D58-4182-8002-6DF0535A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516-813E-4A5C-AC4C-84034F95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6CED8-F3D8-4DE1-95E9-BAD037AF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F4EB7-F5E7-43C6-839A-EACB798B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F6C61-BE9E-4C86-AD73-2C8E27E7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6C50-7E23-4034-9AB4-2C0C8CD5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43BAD-97E8-40A5-88FB-CAC606FC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A0D79-B730-4C60-881A-6A92F0EB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0886E-3B13-4C84-9E08-D9698944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E5603-7D11-4907-9BF3-141FA22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879C5-E50C-40F6-9008-472744D4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AC153-AB7C-41BA-BDF8-BEDBC1EA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840-4D8C-44AB-A98C-B45E063C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4CF0-9947-49E5-BA61-9FCF2CF2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89FE8-7E44-4C6F-8BB5-974279F3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D9335-7C7C-4527-92E9-825AA0DB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2859E-8989-45E1-B92F-33E239DC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0D97B-8CE4-4899-9C4C-024EE21B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3CE76-09FD-404C-8A76-0B3D3118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24278-BF58-4DF1-86D3-7557A641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4AFE2-6A08-4253-8A0F-654E2498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0FC44-EE8F-4D49-AE2A-ED0AEC9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73FD9-0DEE-478F-94DC-0684DF2C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226-5EA2-4FB0-A589-11842C35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BEE5-D095-4D23-B248-5378ED59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86E7C-1858-44F2-A84D-6000960B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1A969-5676-4C3E-A25E-B9E4D013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BCD88-FD26-4D7D-BDC9-F274F636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8D829-3354-406D-92A1-C145DFC5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0CD7F-9D38-4207-8A43-359DBDF5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95B8F-A28E-42D9-A329-5E168D21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6B958-DB28-4E11-850B-B79E56F9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7962E-3600-4519-AE2F-7A0124E3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AED12-CA06-4F98-BAC2-770EAC5D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0AA-424A-4B4F-9276-4209F5B8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9EDB2-3C71-4CEB-BD1C-13F44D54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2AB69-1ED7-4662-89F3-20D8ABEC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A6677-CD10-4F6C-A9C8-2B9923F8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328EE-D152-4759-8979-871FAC88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A137-63FA-4DF5-A9F0-8CB235CD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5582A-F4DB-46C3-A7E5-D9577BEC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FF733-EF63-4DFD-A2F0-11D8DD01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BAA0A-C340-44EB-AC26-5926FB78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E867F-525C-4437-B0ED-70BABD1C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071C0-63CF-41A8-8377-02B9249C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25D-B080-473D-AE7D-643C2FA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3F2A0-B071-447C-A9AF-951D5946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5133D-6070-4380-83E8-AA6716D5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11C38-6D2E-4461-AACE-81766BB2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EDFBF-C659-4836-89A3-F11596EF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16A20-DFC7-46D5-8088-2419CFB9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82B27-E0EF-454C-91A9-9F3128B9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CE113-4443-4DBB-AEA2-1EECFBF7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CCBFC-5C01-4586-B74F-DEE6E7B06C5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1F006-B7FE-41AA-BEE2-8938AA79F2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3E06F-AFE4-4594-AD60-76DF6B83E57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36D10-B002-4545-B5D5-B7D59B47BF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70152-E8B7-4978-871C-D2D9705E39A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EB200-F83E-4ECA-AEEE-67381EF6EF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269C9-A5D7-4179-BA2C-A2E438D70E3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66EB9-5283-4DCE-B128-86C0504503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8445E-956B-4FC7-9539-0B6CA32A20E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5EFA8-BB2B-49DD-AB3F-4F46E42D7D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32AD6-FCC8-4DB4-94CB-6DBAF72AE55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95DDA-499D-4B98-882D-77C71AD122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13237-8368-4E53-9CB1-67FF2404B34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7B744-BFE3-475E-9244-BF2752CC48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5EAFA-3F76-475C-B9B0-480F6D1622D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AAA73-E84C-412C-B510-7E84A28B10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G. S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408480" cy="3578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4584600" y="507960"/>
            <a:ext cx="41022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2683080" cy="136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3124080" y="304920"/>
            <a:ext cx="5829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1866960" y="2063880"/>
            <a:ext cx="5410080" cy="273024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2138760" y="5602320"/>
            <a:ext cx="66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lue – anorthosites; gray – granitoids; green – ferrodiorit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6427440" y="641988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Emslie et al. 1994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4224600" cy="1359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735120" y="1417680"/>
            <a:ext cx="3327120" cy="4432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3"/>
          <a:stretch/>
        </p:blipFill>
        <p:spPr>
          <a:xfrm>
            <a:off x="4062240" y="4406760"/>
            <a:ext cx="2908440" cy="2451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4"/>
          <a:stretch/>
        </p:blipFill>
        <p:spPr>
          <a:xfrm>
            <a:off x="4952880" y="495360"/>
            <a:ext cx="34164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457200" y="2168640"/>
            <a:ext cx="82296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2031840" y="1892160"/>
            <a:ext cx="585648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237960" y="1417680"/>
            <a:ext cx="3854520" cy="344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3"/>
          <a:stretch/>
        </p:blipFill>
        <p:spPr>
          <a:xfrm>
            <a:off x="4416480" y="1909800"/>
            <a:ext cx="4481280" cy="29574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6384600" y="6164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Longhi et al. 1999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4105440" y="374760"/>
            <a:ext cx="4841640" cy="64832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451080" y="139716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enesis of AMCG Sui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4863960" y="1994040"/>
            <a:ext cx="382284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281160" y="2206800"/>
            <a:ext cx="2412720" cy="1365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2857680" y="274680"/>
            <a:ext cx="58291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1731960" y="268200"/>
            <a:ext cx="696132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1911240" y="1974960"/>
            <a:ext cx="532152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1243080" y="2190600"/>
            <a:ext cx="6978600" cy="30178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6213960" y="641988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uppert &amp; Sparks (1985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457200" y="1689120"/>
            <a:ext cx="4199040" cy="4246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3"/>
          <a:stretch/>
        </p:blipFill>
        <p:spPr>
          <a:xfrm>
            <a:off x="4656240" y="2216160"/>
            <a:ext cx="4147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457200" y="1730520"/>
            <a:ext cx="3073320" cy="2946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"/>
          <p:cNvPicPr/>
          <p:nvPr/>
        </p:nvPicPr>
        <p:blipFill>
          <a:blip r:embed="rId3"/>
          <a:stretch/>
        </p:blipFill>
        <p:spPr>
          <a:xfrm>
            <a:off x="4572000" y="1679400"/>
            <a:ext cx="29718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63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2298600" y="1530360"/>
            <a:ext cx="45468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3760920" cy="1366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4405320" y="274680"/>
            <a:ext cx="42814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2693880" y="268200"/>
            <a:ext cx="599940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2698920" y="1809720"/>
            <a:ext cx="48369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2109960" y="268200"/>
            <a:ext cx="658332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1241280" y="1836720"/>
            <a:ext cx="68072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2841840" cy="2913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3860640" y="272880"/>
            <a:ext cx="4826160" cy="63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432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1917720" y="1600200"/>
            <a:ext cx="63514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804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3786120" y="3330720"/>
            <a:ext cx="5145120" cy="3527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5137200" y="0"/>
            <a:ext cx="4006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366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2413080" y="2260440"/>
            <a:ext cx="431784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3:45:12Z</dcterms:created>
  <dc:creator>ACG-CAAD-IT</dc:creator>
  <dc:description/>
  <dc:language>en-US</dc:language>
  <cp:lastModifiedBy>ACG-CAAD-IT</cp:lastModifiedBy>
  <dcterms:modified xsi:type="dcterms:W3CDTF">2013-10-26T15:16:05Z</dcterms:modified>
  <cp:revision>26</cp:revision>
  <dc:subject/>
  <dc:title>Petrology Chapter 12</dc:title>
</cp:coreProperties>
</file>