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9.pct" ContentType="image/x-pict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C63-C622-409F-B8FF-A93B9E30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5BC-7077-4952-9BE1-082566F9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AA3-D6FC-45E4-BF6C-CD94BD15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57A-651F-46A1-A9CE-E7F29D6B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9C6-01E4-42FB-B0D9-57C76358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A346-8EB7-49C1-A0CF-E9605152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4A66-7B9A-46AA-AED0-BD01275B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EF98-3299-46C4-8591-002D99CD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093C-4C4D-4BEC-8F1C-C9D8FD8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70FF-AE1E-45F7-88AF-EF4EB001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C8FB-70DD-4159-A36C-9D5BC0E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468-2677-447D-A8FF-63F7B900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4F9C-6C6C-4189-A144-D8E0EA56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A76F-EAE2-4103-90FB-EC367AE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12A1-007A-4511-B767-103991B6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54EF-B6E5-4153-8613-B90D8973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5746-CF6A-4381-81A0-7C38627E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6273-A325-4422-9373-6511C8B2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8359-2D1B-45F0-A7F4-B336809A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A5F6-9CAD-4C65-8194-D0F9265B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E5FE-E83C-4B79-A621-A7AEA380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BD91-CD0A-4A94-A01D-16F9C827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453-5A2C-4DEF-BE58-6367408B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25A3-CEA0-4028-8EC8-A4C42811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DDFF-791F-4586-9698-68A5B3C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9CBA-8C36-4179-8A91-BA629EF2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F720-E75F-4E42-956B-433CBA17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BF3D-3C6C-4A67-9BE2-81F953C5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B1D9-852D-4D46-927D-C2C1B4C8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DECD-B5E7-463A-B991-4F5FC78F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8086-A1D0-4146-BC53-206F865F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710D-7D41-4695-85E5-FC14D953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55E1-AE83-4FBC-987F-18129F8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E73-3D7F-41DB-A65E-C45677B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B031-DDC6-4DCD-8DF5-3C115A03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815B-7E2D-4728-8CF2-FAA80E07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1258F-80EB-4C61-A492-D515DE5D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A5875-F5C8-477B-9A53-B6BDEBA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2B091-2C66-48BA-9863-20405A5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3F4D-87AE-48B7-A719-72D595CA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2F0E-97E9-4D34-96E5-71110150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DDBA-8A25-40C5-93EA-C1861332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A710-FA16-471C-A9A6-9F531391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BF8E-02F5-4EEC-B310-1E670153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65C-3D43-4452-85FF-2126B4C0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0D81-BBD9-4710-9492-A3E438FC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0EAA-9B27-4C95-9A78-A0E88CF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2F4BD-0140-47E0-80D3-6BE9CDEE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AA5A-86BD-4312-AA20-4AEA8F1B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B78B-D979-450E-AD1A-00089CFC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848D-5FDC-436A-BF13-D3E7135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B6A5-917E-4494-BFE1-D2A348C2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FC85A-3498-439C-949A-8C356A3E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E6A5A-FB40-4FA0-8909-4085A4E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E980-8F5A-44CB-BC28-743206F4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D83-3778-4269-81EA-43FD49A1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EEFE-03D5-464B-83C2-C6EAD79C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8F88E-7CDD-4CB0-BFE9-B2939E60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C462-5902-4406-A84F-7C5C2E9F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2DAF-F271-40BE-A954-FEC410EE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A06E9-1700-4947-8B39-532FF6D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CF07F-F24D-4B5B-92E0-3B3C8964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601F1-9570-4639-A07A-8FF51B48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42054-B65B-4899-B253-865ED54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65C3-C392-4209-BAD4-685BFE3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3200-F947-46C7-BECE-0BE5CD8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25D-5428-4192-A18A-8FD9034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3C510-0F9B-4DF4-A497-5C68FE5C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50C55-B8E8-4EF0-8CFD-4D019C84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EE6E-01AC-4593-9799-49FE80AC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29430-F49D-4B1A-B3EF-56E0BFC6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47CE0-4D36-4B5E-892C-EF888DD8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E00A-7C0D-4378-BE54-DDEDEC40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E5ED-B6A9-448B-87FB-17BECF7B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111A3-A2EB-43E3-A15C-4F0EABD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3B5E2-6E31-4C35-8B67-9201ED6A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FF7CC-83F7-495B-8005-94C57A5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721-BC9F-4DDF-A4AA-E22143A1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D0FE-E975-45E5-8A46-58BAB8A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E98FC-D231-450D-BD7A-F624F1A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E5B97-A42E-4A2E-9908-8881978F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D5176-A4A8-431D-831A-76BD7123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C3F5A-F039-4F0C-8F43-E96C2255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6EE48-89EC-4D5A-9048-4627A28B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E66C2-3068-43B8-A255-32E3BA40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BF95-85D4-4540-9FA8-3B51F9DD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4DAB3-D399-4F7A-8D30-4262064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FE0B-B8CA-4F85-BBE5-160A6A79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47F-35EC-4519-8340-A49F6F6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06E6-6258-4658-B98C-36C0257F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DA661-10AD-4A65-95B1-7E2EAEFD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2178-0F70-425A-92E7-9AC84A2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758E-4202-4FB9-A5D5-41EC382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E5B2-5F3B-4CB4-8230-10459D24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8C2A-C43F-44F0-817A-3CB987C9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CD8D-2738-4A2A-A7A2-0C51EFCE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881F8-9EEF-4265-8CF2-D7F6A6CC63A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F686F-DD2A-4DB8-9D64-B7902586AD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71879-5566-4F4C-807C-60803468C02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10185-0AB4-4CB5-BA4D-CA9AE28E02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62204-62B6-4044-8A6B-6C1348A5AD6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DEBB9-65D5-409B-854E-7529F734B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1B8C6-5ECE-4D8C-9366-AF6CD08E18E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607F0-EFFE-4F36-AE3D-5612110F27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F088F-0217-432A-92A7-AFF53C5A612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A0B8D-BEDA-436E-963D-57C231003E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44ABD-A974-4DB4-B219-89A50399A42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AFBDF-020B-4C0B-9A66-C0A59221E7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57439-CDDB-438C-95D0-A1AFB682E4E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EFB63-521D-4524-9E9A-40B5851116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7E016-23F3-40C0-B295-6E0C52D9B1B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F85D5-853B-4327-BA13-800E0C89CE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. S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408480" cy="3578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4584600" y="507960"/>
            <a:ext cx="41022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2683080" cy="136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5829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1866960" y="2063880"/>
            <a:ext cx="5410080" cy="27302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138760" y="5602320"/>
            <a:ext cx="66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ue – anorthosites; gray – granitoids; green – ferrodiorit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427440" y="6419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Emslie et al. 199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4224600" cy="135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735120" y="1417680"/>
            <a:ext cx="3327120" cy="4432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4062240" y="4406760"/>
            <a:ext cx="2908440" cy="245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4952880" y="495360"/>
            <a:ext cx="34164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" y="2168640"/>
            <a:ext cx="82296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031840" y="1892160"/>
            <a:ext cx="58564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37960" y="1417680"/>
            <a:ext cx="3854520" cy="344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4416480" y="1909800"/>
            <a:ext cx="4481280" cy="29574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384600" y="6164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Longhi et al. 199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4105440" y="374760"/>
            <a:ext cx="4841640" cy="64832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1080" y="139716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sis of AMCG Sui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4863960" y="1994040"/>
            <a:ext cx="38228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2412720" cy="136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2857680" y="274680"/>
            <a:ext cx="58291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731960" y="268200"/>
            <a:ext cx="696132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1911240" y="1974960"/>
            <a:ext cx="53215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243080" y="2190600"/>
            <a:ext cx="6978600" cy="30178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6213960" y="64198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ppert &amp; Sparks (198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7200" y="1689120"/>
            <a:ext cx="4199040" cy="4246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4656240" y="2216160"/>
            <a:ext cx="4147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730520"/>
            <a:ext cx="3073320" cy="29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3"/>
          <a:stretch/>
        </p:blipFill>
        <p:spPr>
          <a:xfrm>
            <a:off x="4572000" y="1679400"/>
            <a:ext cx="2971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2298600" y="1530360"/>
            <a:ext cx="4546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760920" cy="1366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405320" y="274680"/>
            <a:ext cx="42814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2693880" y="268200"/>
            <a:ext cx="59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698920" y="1809720"/>
            <a:ext cx="4836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109960" y="268200"/>
            <a:ext cx="65833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241280" y="1836720"/>
            <a:ext cx="6807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2841840" cy="2913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860640" y="272880"/>
            <a:ext cx="482616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3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917720" y="1600200"/>
            <a:ext cx="63514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04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786120" y="3330720"/>
            <a:ext cx="51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5137200" y="0"/>
            <a:ext cx="400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13080" y="2260440"/>
            <a:ext cx="43178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3:45:12Z</dcterms:created>
  <dc:creator>ACG-CAAD-IT</dc:creator>
  <dc:description/>
  <dc:language>en-US</dc:language>
  <cp:lastModifiedBy>ACG-CAAD-IT</cp:lastModifiedBy>
  <dcterms:modified xsi:type="dcterms:W3CDTF">2013-10-26T15:16:05Z</dcterms:modified>
  <cp:revision>26</cp:revision>
  <dc:subject/>
  <dc:title>Petrology Chapter 12</dc:title>
</cp:coreProperties>
</file>