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50.png" ContentType="image/png"/>
  <Override PartName="/ppt/media/image19.pct" ContentType="image/x-pict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E85-D71B-42AD-8955-A33C1BCB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02D-6ED3-4E8F-A3A9-015C5A79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8E2-5609-40B8-9254-8EDB89AD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7AE8-0BEA-4DDD-957D-11C8B6D4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5467-C870-4382-9537-250FB349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37A2-41D9-4943-A69C-34D2612F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776D-D3E6-4AE7-B65E-9B6271BD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0DEE-7A31-4B3F-9B07-5F611611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18DE-45EB-4B8D-ACDA-A681E045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8006-3173-473C-BA3C-AF8B881B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5907-202D-40DD-AAB3-319D548F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C12-5769-426C-BA1D-07254AD2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421E-8182-4689-932F-23FCA49D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F45E-C570-49D6-BC8D-04BC3579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87BB-036A-420F-8C5C-6A7AC1F5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35AF-3563-499B-8426-F5B37530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1542-74A4-4F73-BD05-AD75E8C4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60D11-7CE5-4B93-A573-08261BA8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82379-B46B-49E2-8A01-22D74CFC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5F43C-FA21-48A4-B964-C0C2FEF7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C513E-1A92-4D8D-9550-B8C34976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9CE13-ED5A-44BB-A5F4-8D53D04E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F6E1-994D-414F-8A60-38105EB2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49C85-385A-4EB2-9007-786F17F3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2D880-C7C1-4CE7-82DA-B5AA2942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6CB2C-D8E1-49D5-A798-15759C04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8B6B2-1D6C-46AA-8996-C6A2C38C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2D004-6953-4E40-86E6-DE642097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C2726-01AB-423B-A73A-A20097C5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EE819-E228-49EE-B670-5BD440B2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2A7CC-90D4-4D4A-A677-8EFB8387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C18D2-DDEA-4A91-AE6E-46631ABF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81F3F-BE92-43C4-96F5-E032B1FC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DBF-1EFD-404D-B431-18DA935F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5FBAB-CCAA-4776-B876-69024945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7DC9F-4E83-4D2E-84A8-C3F5DCC5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8A826-8A85-4F90-8BE3-2001A63A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43C95-CAC5-4A11-B9AF-70310E0E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BEA4C-1DF3-4C5F-882E-CE3BE185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E1B61-B681-4FF2-B89D-56767FFD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23778-55A1-4259-8877-12683E7D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FF2EE-F240-48BB-A46F-64C803D3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01533-22D7-44E3-9D1D-0DE54662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039D6-D687-49BB-986D-727B00C6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712-4AE1-446E-8E49-4613F675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0590D-AE96-4BF8-A989-48EDFC34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C35AF-932D-444F-9131-43D7C53F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99E42-3952-4FAE-9786-FD482DB7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A6524-3298-4C11-9649-376BD284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15AB2-D31A-457F-8160-2437EF82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DC9B7-1567-4C30-BD91-5FD35346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889B3-6FB2-4C78-8526-BCAFC654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C5AD7-E734-449F-9C56-A1BA769A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E5773-3319-4B30-9F93-8E9A48F5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CB77D-0CA2-4BF4-8CB7-0F492BCA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670-90E8-43A4-8C2E-4D619159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D9BEF-373E-42CD-A32C-506CF337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C724B-A331-41BC-B943-FAE71A1A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401E9-959C-43AC-9515-B56104DB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32A01-A03C-4EF1-AC69-637CBB44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F85F9-4584-4E48-B916-6267A0A1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CBEA3-ED8D-4583-870F-D17D2452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F0DCE-5E57-45E6-A2C9-AF34194C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3B536-F3F7-4545-AAC0-6B0DC3F8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603F4-0C41-4572-AEB3-1E06F2F3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AEF65-8821-4A8C-8258-7A703107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95D-307D-4610-8E37-1984EFF4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F9438-99D4-4645-BDBF-400CF850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185E8-0ABB-40D3-93B4-523E2BF1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1D8C3-E660-444B-8F41-9619A6E5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8A3ED-F70B-4B5A-9C89-408A360C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CBC9B-4B95-4C58-A2B3-98F91CDB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6D828-27E1-4351-9CFF-54899B59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18CF8-8DE3-4C9A-8E20-DDA7A8E5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08377-56D0-48E0-9556-B46E6FBA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799B4-8E88-4B47-839B-433C8A26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F0F79-12E5-43E8-BBFC-DD3E9CDD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CA7-DD8A-437E-A485-12C1EEAA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4D9A6-25F7-43D7-988B-E175C3FB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791E7-BC6D-41E5-AC9F-5332E404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508EA-3E03-4050-8BEC-38208AF8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4C132-85DF-475D-A0A1-57690C6C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AF98E-F1AD-46D2-862F-E25635AF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29AC8-5878-4120-8CBE-EC0E70CA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CB9F6-6447-4DDE-85B6-39EF0F30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5DA7D-BA44-49A7-A7E6-44505A2A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28F06-6254-4DFA-A8C1-B55A031C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26C59-13BF-4D62-A16C-A47A3A0B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35C-B21B-4957-8E7C-FEF64A06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C0647-B41A-4DC4-A95E-11DE3475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C5DC4-C3E0-4A89-AA06-6E6DCAE5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3100A-03BB-40B1-A475-E8D8CB67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015C5-88F8-4754-AD2D-975EAD3F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C55DE-5F4F-4E54-AB01-11451FF3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FAA0E-588B-4151-91E3-A479916C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0F352-E618-41CA-B972-6C78B294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21D43-1596-4F10-9010-F5D375005D3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3309C-314A-442A-B55C-635346153C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29774-8361-4B6D-ADB0-2A423430C516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1715A-3C5B-4E54-BC60-50394E1AC3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4D4E0-095C-4BD7-A565-A76BA5F46DA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26EB0-DFE2-451D-9849-35D70DDD7E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AF0B9-A43C-4B21-B999-F415FE368ED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7D4A9-CE06-4764-A33B-6580843FA0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A8248-D445-4B1E-AC72-43E0877B515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4A263-E23D-490E-8BE2-9D37211BD2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619E4-34B3-4B5C-8B0A-893FDDA9DC9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6C7B1-8025-4219-BC49-5B0CF47608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B5271-6B01-4A41-BDE9-7AD6B64FF50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0A97F-528B-4BEF-B00F-2841D7855C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815FE-C915-4B9E-8CEE-AC6DDAF6590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FE9A9-F7E9-4C1D-9AEE-CBC1A65C54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78880" cy="2060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G. S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408480" cy="3578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4584600" y="507960"/>
            <a:ext cx="410220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2683080" cy="1366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3124080" y="304920"/>
            <a:ext cx="5829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1866960" y="2063880"/>
            <a:ext cx="5410080" cy="273024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2138760" y="5602320"/>
            <a:ext cx="66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lue – anorthosites; gray – granitoids; green – ferrodiorit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6427440" y="641988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Emslie et al. 1994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4224600" cy="1359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735120" y="1417680"/>
            <a:ext cx="3327120" cy="4432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3"/>
          <a:stretch/>
        </p:blipFill>
        <p:spPr>
          <a:xfrm>
            <a:off x="4062240" y="4406760"/>
            <a:ext cx="2908440" cy="2451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"/>
          <p:cNvPicPr/>
          <p:nvPr/>
        </p:nvPicPr>
        <p:blipFill>
          <a:blip r:embed="rId4"/>
          <a:stretch/>
        </p:blipFill>
        <p:spPr>
          <a:xfrm>
            <a:off x="4952880" y="495360"/>
            <a:ext cx="341640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366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457200" y="2168640"/>
            <a:ext cx="82296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2031840" y="1892160"/>
            <a:ext cx="58564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2"/>
          <a:stretch/>
        </p:blipFill>
        <p:spPr>
          <a:xfrm>
            <a:off x="237960" y="1417680"/>
            <a:ext cx="3854520" cy="344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3"/>
          <a:stretch/>
        </p:blipFill>
        <p:spPr>
          <a:xfrm>
            <a:off x="4416480" y="1909800"/>
            <a:ext cx="4481280" cy="29574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6"/>
          <p:cNvSpPr/>
          <p:nvPr/>
        </p:nvSpPr>
        <p:spPr>
          <a:xfrm>
            <a:off x="6384600" y="61642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Longhi et al. 1999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4105440" y="374760"/>
            <a:ext cx="4841640" cy="64832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451080" y="1397160"/>
            <a:ext cx="26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enesis of AMCG Suit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3"/>
          <a:stretch/>
        </p:blipFill>
        <p:spPr>
          <a:xfrm>
            <a:off x="4863960" y="1994040"/>
            <a:ext cx="382284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281160" y="2206800"/>
            <a:ext cx="2412720" cy="1365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2"/>
          <a:stretch/>
        </p:blipFill>
        <p:spPr>
          <a:xfrm>
            <a:off x="2857680" y="274680"/>
            <a:ext cx="582912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2" descr=""/>
          <p:cNvPicPr/>
          <p:nvPr/>
        </p:nvPicPr>
        <p:blipFill>
          <a:blip r:embed="rId1"/>
          <a:stretch/>
        </p:blipFill>
        <p:spPr>
          <a:xfrm>
            <a:off x="1731960" y="268200"/>
            <a:ext cx="6961320" cy="115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1911240" y="1974960"/>
            <a:ext cx="532152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1243080" y="2190600"/>
            <a:ext cx="6978600" cy="30178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6213960" y="641988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uppert &amp; Sparks (1985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457200" y="1689120"/>
            <a:ext cx="4199040" cy="4246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3"/>
          <a:stretch/>
        </p:blipFill>
        <p:spPr>
          <a:xfrm>
            <a:off x="4656240" y="2216160"/>
            <a:ext cx="4147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"/>
          <p:cNvPicPr/>
          <p:nvPr/>
        </p:nvPicPr>
        <p:blipFill>
          <a:blip r:embed="rId2"/>
          <a:stretch/>
        </p:blipFill>
        <p:spPr>
          <a:xfrm>
            <a:off x="457200" y="1730520"/>
            <a:ext cx="3073320" cy="29462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"/>
          <p:cNvPicPr/>
          <p:nvPr/>
        </p:nvPicPr>
        <p:blipFill>
          <a:blip r:embed="rId3"/>
          <a:stretch/>
        </p:blipFill>
        <p:spPr>
          <a:xfrm>
            <a:off x="4572000" y="1679400"/>
            <a:ext cx="29718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63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2298600" y="1530360"/>
            <a:ext cx="45468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3760920" cy="1366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4405320" y="274680"/>
            <a:ext cx="42814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2693880" y="268200"/>
            <a:ext cx="599940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"/>
          <a:stretch/>
        </p:blipFill>
        <p:spPr>
          <a:xfrm>
            <a:off x="2698920" y="1809720"/>
            <a:ext cx="483696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2" descr=""/>
          <p:cNvPicPr/>
          <p:nvPr/>
        </p:nvPicPr>
        <p:blipFill>
          <a:blip r:embed="rId1"/>
          <a:stretch/>
        </p:blipFill>
        <p:spPr>
          <a:xfrm>
            <a:off x="2109960" y="268200"/>
            <a:ext cx="658332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1241280" y="1836720"/>
            <a:ext cx="68072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2841840" cy="29131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3860640" y="272880"/>
            <a:ext cx="4826160" cy="63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432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1917720" y="1600200"/>
            <a:ext cx="63514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804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3786120" y="3330720"/>
            <a:ext cx="5145120" cy="3527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5137200" y="0"/>
            <a:ext cx="4006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366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2413080" y="2260440"/>
            <a:ext cx="431784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3:45:12Z</dcterms:created>
  <dc:creator>ACG-CAAD-IT</dc:creator>
  <dc:description/>
  <dc:language>en-US</dc:language>
  <cp:lastModifiedBy>ACG-CAAD-IT</cp:lastModifiedBy>
  <dcterms:modified xsi:type="dcterms:W3CDTF">2013-10-26T15:16:05Z</dcterms:modified>
  <cp:revision>26</cp:revision>
  <dc:subject/>
  <dc:title>Petrology Chapter 12</dc:title>
</cp:coreProperties>
</file>