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4.jpeg" ContentType="image/jpeg"/>
  <Override PartName="/ppt/media/image23.jpeg" ContentType="image/jpeg"/>
  <Override PartName="/ppt/media/image16.wmf" ContentType="image/x-wmf"/>
  <Override PartName="/ppt/media/image8.png" ContentType="image/png"/>
  <Override PartName="/ppt/media/image4.png" ContentType="image/png"/>
  <Override PartName="/ppt/media/image12.wmf" ContentType="image/x-wmf"/>
  <Override PartName="/ppt/media/image7.wmf" ContentType="image/x-wmf"/>
  <Override PartName="/ppt/media/image9.wmf" ContentType="image/x-wmf"/>
  <Override PartName="/ppt/media/image10.wmf" ContentType="image/x-wmf"/>
  <Override PartName="/ppt/media/image25.jpeg" ContentType="image/jpeg"/>
  <Override PartName="/ppt/media/image2.png" ContentType="image/png"/>
  <Override PartName="/ppt/media/image32.png" ContentType="image/png"/>
  <Override PartName="/ppt/media/image15.wmf" ContentType="image/x-wmf"/>
  <Override PartName="/ppt/media/image5.png" ContentType="image/png"/>
  <Override PartName="/ppt/media/image13.wmf" ContentType="image/x-wmf"/>
  <Override PartName="/ppt/media/image30.wmf" ContentType="image/x-wmf"/>
  <Override PartName="/ppt/media/image11.wmf" ContentType="image/x-wmf"/>
  <Override PartName="/ppt/media/image33.png" ContentType="image/png"/>
  <Override PartName="/ppt/media/image3.png" ContentType="image/png"/>
  <Override PartName="/ppt/media/image6.wmf" ContentType="image/x-wmf"/>
  <Override PartName="/ppt/media/image29.wmf" ContentType="image/x-wmf"/>
  <Override PartName="/ppt/media/image31.png" ContentType="image/png"/>
  <Override PartName="/ppt/media/image1.png" ContentType="image/png"/>
  <Override PartName="/ppt/media/image14.png" ContentType="image/png"/>
  <Override PartName="/ppt/media/image21.gif" ContentType="image/gif"/>
  <Override PartName="/ppt/media/image17.png" ContentType="image/png"/>
  <Override PartName="/ppt/media/image18.wmf" ContentType="image/x-wmf"/>
  <Override PartName="/ppt/media/image26.jpeg" ContentType="image/jpeg"/>
  <Override PartName="/ppt/media/image20.jpeg" ContentType="image/jpeg"/>
  <Override PartName="/ppt/media/image19.png" ContentType="image/png"/>
  <Override PartName="/ppt/media/image22.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6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6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2A5F-A7E9-4F61-84AF-C7BDEEB2E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4E00-B939-4BD0-BB6E-17E782E1309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erial is taken mainly from CISA Review Manual 2011, Chapter 5.7-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tle symbolizes Defense in Depth.</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ility is shown above, with devices to ensure Availabilit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DE41-4867-4CF4-B5B2-99DAB9C02BE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F=Information Processing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room on middle floor: To high and fire department can’t get to it.  Too low and susceptible to break-in or flo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ged: </a:t>
            </a:r>
            <a:r>
              <a:rPr b="0" lang="en-US" sz="1200" spc="-1" strike="noStrike">
                <a:solidFill>
                  <a:srgbClr val="000000"/>
                </a:solidFill>
                <a:latin typeface="Arial"/>
              </a:rPr>
              <a:t> Water is always held in the charged pipes. This system helps water sprinkler systems, but are depended on pipes not leaking or breaking. Water damages can occur if pipes are leaking or are broken, which can end up being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y pipe: </a:t>
            </a:r>
            <a:r>
              <a:rPr b="0" lang="en-US" sz="1200" spc="-1" strike="noStrike">
                <a:solidFill>
                  <a:srgbClr val="000000"/>
                </a:solidFill>
                <a:latin typeface="Arial"/>
              </a:rPr>
              <a:t>Initially there is no water in the pipes. Once a fire alarm is activated, water gets sent through the p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on: </a:t>
            </a:r>
            <a:r>
              <a:rPr b="0" lang="en-US" sz="1200" spc="-1" strike="noStrike">
                <a:solidFill>
                  <a:srgbClr val="000000"/>
                </a:solidFill>
                <a:latin typeface="Arial"/>
              </a:rPr>
              <a:t>The system releases Halon gas to remove oxygen in the air. This process contains the fire and not allow it to sp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n Dioxide: </a:t>
            </a:r>
            <a:r>
              <a:rPr b="0" lang="en-US" sz="1200" spc="-1" strike="noStrike">
                <a:solidFill>
                  <a:srgbClr val="000000"/>
                </a:solidFill>
                <a:latin typeface="Arial"/>
              </a:rPr>
              <a:t>The system releases CO2 into a protected area to replace oxygen. CO2 is not a human friendly option, and thus is dang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200: </a:t>
            </a:r>
            <a:r>
              <a:rPr b="0" lang="en-US" sz="1200" spc="-1" strike="noStrike">
                <a:solidFill>
                  <a:srgbClr val="000000"/>
                </a:solidFill>
                <a:latin typeface="Arial"/>
              </a:rPr>
              <a:t>Suppresses fire by releasing gas onto the surface of combustibl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gonite: </a:t>
            </a:r>
            <a:r>
              <a:rPr b="0" lang="en-US" sz="1200" spc="-1" strike="noStrike">
                <a:solidFill>
                  <a:srgbClr val="000000"/>
                </a:solidFill>
                <a:latin typeface="Arial"/>
              </a:rPr>
              <a:t>A combination of 50% argon and 50% nitrogen, which acts as an effective fire extinguisher and spreads to reduce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8ED3-DF16-4C68-812A-4A7A76F504C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2EE3-2F28-4864-945F-EBA4CAB4B80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of each door lock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lting: </a:t>
            </a:r>
            <a:r>
              <a:rPr b="0" lang="en-US" sz="1200" spc="-1" strike="noStrike">
                <a:solidFill>
                  <a:srgbClr val="000000"/>
                </a:solidFill>
                <a:latin typeface="Arial"/>
              </a:rPr>
              <a:t>requires the traditional metal key to gain access. Its important the key is stamped with “Don’t Duplicate”, stored securely and giving to only authorized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 </a:t>
            </a:r>
            <a:r>
              <a:rPr b="0" lang="en-US" sz="1200" spc="-1" strike="noStrike">
                <a:solidFill>
                  <a:srgbClr val="000000"/>
                </a:solidFill>
                <a:latin typeface="Arial"/>
              </a:rPr>
              <a:t>has a key pad or dial to gain access. Its important the code to gain access is regularly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a:t>
            </a:r>
            <a:r>
              <a:rPr b="0" lang="en-US" sz="1200" spc="-1" strike="noStrike">
                <a:solidFill>
                  <a:srgbClr val="000000"/>
                </a:solidFill>
                <a:latin typeface="Arial"/>
              </a:rPr>
              <a:t>has a magnetic or embedded chip-based plastic card key or token to gain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metric: </a:t>
            </a:r>
            <a:r>
              <a:rPr b="0" lang="en-US" sz="1200" spc="-1" strike="noStrike">
                <a:solidFill>
                  <a:srgbClr val="000000"/>
                </a:solidFill>
                <a:latin typeface="Arial"/>
              </a:rPr>
              <a:t>requires authorized personnel to use a unique body feature. For example: voice, eyes, fingerprint or signature. This system is used for extremely sensitive facilities like the mili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and Biometric enable electronic logging and prevent entry by time of day.  Combination and electronic can be easily changed if the logical access key is divulged or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in public places should be locked and cabled to something non-moveable.  Non-portable PCs have loop holes to ensure that locks can prevent people from opening the back of the PC.  This prevents both PC and PC cards from walking away.  Here you can see that the lock locks the computer to its back cover, and includes a cable.</a:t>
            </a:r>
            <a:endParaRPr b="0" lang="en-US" sz="1200" spc="-1" strike="noStrike">
              <a:solidFill>
                <a:srgbClr val="000000"/>
              </a:solidFill>
              <a:latin typeface="Arial"/>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3C3B-7836-4C11-BF76-2CDC6D492EB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ppearing laptops are one of the most common security problem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computer labs, universities use a cable locking system to lock down computers (and their parts) – to ensure the computers are NOT mobi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72EA-690A-422E-ABE4-8CA8CA271AE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ways to ensure security with devic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can name a Room Sensitivity Class (which may correspond to the Data Sensitivity Class – or not).  We need to define what defines a Room Sensitivity, and then how each room classification shall be handled.  Above, we have a school system, where Protected rooms are public part time.  A room is Confidential if it has files in paper or electronic form, that contain Confidential inform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a layout of a floor, including which rooms are Protected and Confidential.  Door entry is also shown.  The Criticality classification may be shown on the map too, instead of as a not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9E3D-0284-4C20-874D-3F1B84EB762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FM-200.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E35F-11E9-48FA-86B7-2162C6708F7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eadmand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 is not a preventative technique; guard and bolting door may allow someone in other than the authorized pers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Sags and spikes: Since sags and spikes are a short term interruptions (last from a millionths to a few thousandths of a second), surge protector can protect a computer with interruptions less than a few milliseconds. A surge protector reduces the risk of damages to equipment by regulating power spikes. It either increases or decreases the electric current to make electric current consistent.</a:t>
            </a:r>
            <a:endParaRPr b="0" lang="en-US" sz="1200" spc="-1" strike="noStrike">
              <a:solidFill>
                <a:srgbClr val="000000"/>
              </a:solidFill>
              <a:latin typeface="Arial"/>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5138-D731-4B61-85EE-7E33F515C6C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UPS: UPS system consists of a battery or gasoline powered generator that ensures wattages into the computer is consistent, so if a power failures happens the UPS system will provide electricity from the generator to the computer for a certain amount of time.</a:t>
            </a:r>
            <a:endParaRPr b="0" lang="en-US" sz="1200" spc="-1" strike="noStrike">
              <a:solidFill>
                <a:srgbClr val="000000"/>
              </a:solidFill>
              <a:latin typeface="Arial"/>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57AB-9EEA-46F6-8B8E-D6C797242BA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CEB6-A6DB-416C-9AB6-24FE700D35C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icality classification is concerned with whether the company can survive without automated (computerized) access to the data.  These class names are common in industry.</a:t>
            </a:r>
            <a:endParaRPr b="0" lang="en-US" sz="1200" spc="-1" strike="noStrike">
              <a:solidFill>
                <a:srgbClr val="000000"/>
              </a:solidFill>
              <a:latin typeface="Arial"/>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5030-4E25-43F7-B9A1-00AA95CE8AA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sitivity Classification is concerned with how much the organization wants to protect the info from release both within the organization and outside.  The data classification shown above is an example, not an absolute.  In other words, different companies will categorize their data differently.</a:t>
            </a:r>
            <a:endParaRPr b="0" lang="en-US" sz="1200" spc="-1" strike="noStrike">
              <a:solidFill>
                <a:srgbClr val="000000"/>
              </a:solidFill>
              <a:latin typeface="Arial"/>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57E2-E26B-4998-82FC-21912C34173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 castle protect from attacks?  Notice that they had multiple layers of controls.  We use the same concept of multiple layers for computer security.  Here is an example list of controls that are implemented as part of layering, also known as “Defense in Depth”.  The circle on the right is like an onion – to get to the center you have to go through many security layers.</a:t>
            </a:r>
            <a:endParaRPr b="0" lang="en-US" sz="1200" spc="-1" strike="noStrike">
              <a:solidFill>
                <a:srgbClr val="000000"/>
              </a:solidFill>
              <a:latin typeface="Arial"/>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D429-41CF-4C25-A770-E77B9D18061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6878-BF6D-42D1-86C8-C494632AFB2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 system: Protects doors, window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ideo cameras: sophisticated activate on motion, record for play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Logging: People (visitors) sign i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nded personnel: Contract personnel are bo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Visitor Access: Employees must accompany visi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ge Protector: </a:t>
            </a:r>
            <a:r>
              <a:rPr b="0" lang="en-US" sz="1200" spc="-1" strike="noStrike">
                <a:solidFill>
                  <a:srgbClr val="000000"/>
                </a:solidFill>
                <a:latin typeface="Arial"/>
              </a:rPr>
              <a:t>Electric device reduces the risk of damage to equipment due to power spikes, sags, and surges. Voltage regulators makes sure the incoming electric is at a safe voltage, by increasing or decreasing the charge. A surge protector can be built into a Universal Power Supply (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Power Supply: </a:t>
            </a:r>
            <a:r>
              <a:rPr b="0" lang="en-US" sz="1200" spc="-1" strike="noStrike">
                <a:solidFill>
                  <a:srgbClr val="000000"/>
                </a:solidFill>
                <a:latin typeface="Arial"/>
              </a:rPr>
              <a:t> Has either a battery or gas powered generator, which cleans the power entering the computer by making sure the wattage is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Power Generator: </a:t>
            </a:r>
            <a:r>
              <a:rPr b="0" lang="en-US" sz="1200" spc="-1" strike="noStrike">
                <a:solidFill>
                  <a:srgbClr val="000000"/>
                </a:solidFill>
                <a:latin typeface="Arial"/>
              </a:rPr>
              <a:t>Another source of power if power failure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ong each power protection 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 Protector: Protects interruptions less then a few milli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S: Protects interruptions from a few milliseconds to 3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Power Generator: Protects interruptions long term from a few milliseconds to several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long you expect the power failure to be, depending on what system you se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270DD5-7E59-4D87-B808-66C237F2404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9E57D6-9BB5-4A12-8DC1-E10A92D9B80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290EBA4-BECF-4529-8F86-2177943088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79855C-08EE-4115-95EC-3371220570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1C34C90-27C8-4CDF-8645-23A8BB84AF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E7B3AF-50B6-4EFA-B20C-6E19E6EA69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6B5D135-1412-482F-AEE8-E095B334BD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4C2A2B9-0FBA-4467-8424-292F94BD16C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D00FDC7-070B-4F28-8AFE-DBA383D8400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C10BCCD-1B75-499D-B01D-EA6B935AB2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88E0EED-A9F2-429D-9570-349C657C09B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8F75F3-1256-4F0D-A211-14C27DBB9E2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5771CE2-3096-4155-B733-D1640069720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323CA3-F585-44BD-95C7-CD6F90FDEC1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B6D4680-1640-4964-9172-3BF753E010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690EFF5-6041-44E8-97A6-740E44AF23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586EC7-A887-4C56-BCB8-FB46C82B9A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4F8022-C25E-4740-8A09-494A596EA3B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9C32271-2DEA-44B8-94E5-3B69E18880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8AB3B6A-A599-4647-8BC9-AC9714C4BD5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B4B460B-E2EB-46A0-8253-5DEDE084D35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BB51625-9650-4683-B813-037F07DA45C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3E066B-754B-4B13-B42D-CB18F9A6B03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61423F1-22A3-4ACE-B0F5-38FF438B3DA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992821-EAC6-45EB-8422-519290B58FA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9CECCB3-C605-4B7B-B3BA-F4EC02B481E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9DDE8E-0E43-4521-8D94-D73662D63A6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24A8865-4A06-4062-9224-44D243CCE66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CD667C9-EE58-4BFB-99E2-88388434B31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DED96D-B7D2-44D1-9412-CF806D9E24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DE253-6C1D-4BD2-8A29-E9E3870F2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D5092B2-B836-4D9E-AF9B-C2830683264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4720484-8151-434F-A91E-5C0A15FF034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7DB26C1-9A9F-4B58-BF34-10278D5F685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95F5D38-D7A9-4FA2-BA0D-107BA9AE45D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1C4B4E1-A8EA-4087-98B2-9F0CC2E98DF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82E2F11-3AEA-4BD7-B1D4-6B6A5EC793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FA554C8-76DF-4ED1-834B-1B88F365072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C335A76-BB7A-40F6-8BF5-FBA457AAF33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DC3BD33-162A-42C3-A6D0-D8FD966DC61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E76AF0B-33A5-4602-B92B-04F324AC2C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06D6E-F9B9-44B6-B970-D866961EC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DDB09C-20A1-4D5C-AA10-666F8F21851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A92333F-7250-48B5-BAC3-4FBA3C10C3E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7F3B90-9F7F-40E5-B229-EF631BFD6B9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B52EBF4-BCD8-42DE-AF00-D45DC153954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FC9A278-9270-4675-A775-536D843CCE4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2F4F956-F0C3-40AC-AD2C-87E75AB8F0C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C53724E-1D40-449C-8FD6-A65457752A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209AC2C-4730-467C-A326-7BEA725F705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2AA6A9D-5B6C-42CE-BA01-ADD4000C57E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816C49-CD4F-42BB-9E2D-CDFDF727C7A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C30B-642D-40C7-B614-E5AE2B4C9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0F4471E-3C06-42E3-B740-D7597F87857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961B126-6FC6-4A68-97E6-AE860A45688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5B4CD2A-6EFB-467F-9AD4-B66D5076E2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61E48A-6E60-402D-A6E4-10AED8AC5E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6B012CE-FDAA-4BD2-AF02-4D48621CE98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691EB0D-AD23-40B8-B0D9-5D6E49AA897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1957514-D394-45B2-A4A0-F2571D0043B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8158C18-854D-4BE6-BACB-D866C4F76D0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63842CC-5B17-4C06-B9E9-672266C5E2B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EEE2FD3-D798-4F04-9D8E-521213C4527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C3A4-0A8A-4ABF-843F-6C6C21299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2598E82-00CE-4779-9544-4D4B6969989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2333493-111F-4076-ABA6-D0D279E7488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9000058-EF3A-416F-8D4F-0F9A871900B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3868B54-4287-4039-9C83-18E2ADB1C3D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8D3D39A-3145-446A-AA20-15753CD2682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978BABB-5A70-4924-BA2D-DFFF95750F9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2B65D22-F3A8-4F1B-938F-7795468B30E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FB2CBD7-32F0-45DB-877F-E51BDDB169B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4D81CA0-A041-4A16-9A0B-E064B3955C7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076096A-CF8E-46BF-9A1D-A8AA6BB4018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18A1B-8C03-47EA-8CF8-2CBE8A9F9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454244F-C5DB-4932-933D-97070B2B2BD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430BEC2-3C01-42E6-A91A-62CB40CA7F5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2894025-6522-4991-BCD6-6F810F1FF0D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74AAFB9-7C27-4E72-9283-E5A046A4B5F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0BDA2FE-B2DC-426D-92C7-3E631787305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2A9AB36-0513-4056-BD48-3EEF0983600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29C1438-5F58-48C2-93DD-D489029A189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AF224FC-FE60-461D-9995-5B45AF4D536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D6C207A-32C2-438E-BB56-1BC2ECFD344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9EF7E55-B39B-48DB-A9C9-99794B250D1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638BE-167C-4E40-8066-B864E29DF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7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D331D7F-A60E-4D3E-B0C2-F6A5A9718A4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CAE8B-619D-46A8-9CD9-C0890484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47DBE-0887-4EB4-B5BE-C16EB5F00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62E44-344C-4602-A4F4-9128EB7E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E0CBB-F147-4300-BCAC-CE6BBDFD9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1D40F-0367-4836-8D1B-43B9BBD41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206B9-DB39-4097-8639-27677F9F7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CC050-428A-4DE3-80A0-F58A02FA4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F2B7E-1BEC-4C32-9D72-CE6CDF35A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830B8-1A82-48C4-B907-FB0B6D644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ECD45-C67D-4687-850A-B5E23669C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A53EE-12A7-4943-8FEC-1AE69D1B4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8D383-8479-45EA-9056-06E858E8A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6D36E-09A7-4B7E-B563-7D5CA4559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61214-C09E-43FA-9971-126B97E1C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45ACB-B483-4CBD-851A-88C83BBCA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E579B-04EC-449C-99BB-FD2D0129B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F8F30-0675-4C06-BF8A-65BD92CBC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3BA1D-0B8B-46E5-B96E-96B626D2D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22C526-0719-406B-97AF-4B37012C0D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FEDC41-C5B2-40BC-9B86-9D790BE656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388BA2-CD74-4D89-8D04-AD8B1D25EA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E2A4A9-8B31-4DD4-9B17-FC49B767E7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3794DA-1245-4D22-8F51-24CEA329F7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8A52CC-9520-4A1E-BEE4-D5C58D4CA3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46C10E-DE3A-42FE-928D-15335FB4B9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73E01A-7537-42B5-95EE-5A399AA4FE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7A6705-8CC9-4629-83FE-0B7010B50E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C1DE03-0FF6-4CF7-BB1A-57E436F1D4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C71500-2A62-4065-870E-72BAC493AD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C97EE27-60E7-42EC-9777-C596443646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0A00DA-C0B0-48B6-B60B-292636E1A30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BC0934-A5C3-478D-96E6-BB9BF2CA11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B790B7-246F-433B-8CD4-4EB31C0A03B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9C4186-9841-406B-98B4-A2A6DAEDC76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01E846-7092-4939-B792-75EA831FD27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40F9F9-5601-4EA6-81D6-40FEC7C681F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E0508B-ECA7-4FBE-B58B-A9617BC204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4A47A9-6DF3-42F8-9F75-9A9FCC68F0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586EB2-C4EA-4F2B-8ED7-3CE4EB3FFB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AEC1C4-2FA1-4BA9-9712-A5C31A82E5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8D12282-F266-46C3-A642-476AA33B270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109A22-AD93-4ECD-91B4-9D1A6641800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51BE1FC-F50A-4363-B344-28FE358C82A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72E00E-2AF3-4BDD-9B64-33897E822E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D17452-BCE7-4C66-B4F3-DEF48A79440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F9FBD3-6955-4522-A689-E2223CDD38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D3F6A07-7037-4505-964C-91130BD1CC2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17650F-D388-411E-A7DE-E5107D1EAEE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38D8C9-A587-45FD-9CED-A6A0C4429C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39723D-ED91-4AFA-A85D-D40C79E8116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C80D11-996A-4AE8-BD72-E6B0AAC6C3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F2F92E7-F3B5-4044-BD8A-9F96133BA44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4F0F27D-4A02-4594-8D8F-2877C95C166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579460D-9B16-4B52-9098-CFFC577C52B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387DA60-C8C5-4147-BD41-DE739D00907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343A445-D5C4-4BDC-A23A-B42CB7C2884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959C3A-78F8-46E9-95FC-C84BA2D1058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BCF9048E-482A-4FFB-8FC3-5D88FCB9C6B2}" type="datetime">
              <a:rPr b="0" lang="en-US" sz="900" spc="-1" strike="noStrike">
                <a:solidFill>
                  <a:srgbClr val="8c8c8c"/>
                </a:solidFill>
                <a:latin typeface="Calibri"/>
              </a:rPr>
              <a:t>07/31/26</a:t>
            </a:fld>
            <a:r>
              <a:rPr b="0" lang="en-US" sz="900" spc="-1" strike="noStrike">
                <a:solidFill>
                  <a:srgbClr val="8c8c8c"/>
                </a:solidFill>
                <a:latin typeface="Calibri"/>
              </a:rPr>
              <a:t> | </a:t>
            </a:r>
            <a:fld id="{2624B601-B0A4-4EAB-9C08-298CAE922D91}"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4423F073-6A9B-4E38-8991-6EB51ED32D85}" type="datetime">
              <a:rPr b="0" lang="en-US" sz="900" spc="-1" strike="noStrike">
                <a:solidFill>
                  <a:srgbClr val="8c8c8c"/>
                </a:solidFill>
                <a:latin typeface="Calibri"/>
              </a:rPr>
              <a:t>07/31/26</a:t>
            </a:fld>
            <a:r>
              <a:rPr b="0" lang="en-US" sz="900" spc="-1" strike="noStrike">
                <a:solidFill>
                  <a:srgbClr val="8c8c8c"/>
                </a:solidFill>
                <a:latin typeface="Calibri"/>
              </a:rPr>
              <a:t> | </a:t>
            </a:r>
            <a:fld id="{7FA41E61-D81B-4EDC-862B-B9CA5D09F1AD}"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2232-D441-4C94-A3B6-FFF881992B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Bild 1" descr="Kopfbalken.png"/>
          <p:cNvPicPr/>
          <p:nvPr/>
        </p:nvPicPr>
        <p:blipFill>
          <a:blip r:embed="rId2"/>
          <a:stretch/>
        </p:blipFill>
        <p:spPr>
          <a:xfrm>
            <a:off x="203040" y="0"/>
            <a:ext cx="8940960" cy="612720"/>
          </a:xfrm>
          <a:prstGeom prst="rect">
            <a:avLst/>
          </a:prstGeom>
          <a:ln w="0">
            <a:noFill/>
          </a:ln>
        </p:spPr>
      </p:pic>
      <p:sp>
        <p:nvSpPr>
          <p:cNvPr id="4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A060DBD5-D02E-4631-88DD-5FE722559DBA}" type="datetime">
              <a:rPr b="0" lang="en-US" sz="900" spc="-1" strike="noStrike">
                <a:solidFill>
                  <a:srgbClr val="8c8c8c"/>
                </a:solidFill>
                <a:latin typeface="Calibri"/>
              </a:rPr>
              <a:t>07/31/26</a:t>
            </a:fld>
            <a:r>
              <a:rPr b="0" lang="en-US" sz="900" spc="-1" strike="noStrike">
                <a:solidFill>
                  <a:srgbClr val="8c8c8c"/>
                </a:solidFill>
                <a:latin typeface="Calibri"/>
              </a:rPr>
              <a:t> | </a:t>
            </a:r>
            <a:fld id="{9222526E-540B-4D9A-A7DD-63C0C894F913}"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51" name="Bild 10" descr="Springer_pms.png"/>
          <p:cNvPicPr/>
          <p:nvPr/>
        </p:nvPicPr>
        <p:blipFill>
          <a:blip r:embed="rId3"/>
          <a:stretch/>
        </p:blipFill>
        <p:spPr>
          <a:xfrm>
            <a:off x="7599240" y="141120"/>
            <a:ext cx="1117800" cy="297000"/>
          </a:xfrm>
          <a:prstGeom prst="rect">
            <a:avLst/>
          </a:prstGeom>
          <a:ln w="0">
            <a:noFill/>
          </a:ln>
        </p:spPr>
      </p:pic>
      <p:sp>
        <p:nvSpPr>
          <p:cNvPr id="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6CB2-0F94-4EF1-BA1B-18DC59B317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Bild 1" descr="Kopfbalken.png"/>
          <p:cNvPicPr/>
          <p:nvPr/>
        </p:nvPicPr>
        <p:blipFill>
          <a:blip r:embed="rId2"/>
          <a:stretch/>
        </p:blipFill>
        <p:spPr>
          <a:xfrm>
            <a:off x="203040" y="0"/>
            <a:ext cx="8940960" cy="612720"/>
          </a:xfrm>
          <a:prstGeom prst="rect">
            <a:avLst/>
          </a:prstGeom>
          <a:ln w="0">
            <a:noFill/>
          </a:ln>
        </p:spPr>
      </p:pic>
      <p:sp>
        <p:nvSpPr>
          <p:cNvPr id="49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9935FDED-4C8D-4809-BB2B-CDCFEE7AD9C5}" type="datetime">
              <a:rPr b="0" lang="en-US" sz="900" spc="-1" strike="noStrike">
                <a:solidFill>
                  <a:srgbClr val="8c8c8c"/>
                </a:solidFill>
                <a:latin typeface="Calibri"/>
              </a:rPr>
              <a:t>07/31/26</a:t>
            </a:fld>
            <a:r>
              <a:rPr b="0" lang="en-US" sz="900" spc="-1" strike="noStrike">
                <a:solidFill>
                  <a:srgbClr val="8c8c8c"/>
                </a:solidFill>
                <a:latin typeface="Calibri"/>
              </a:rPr>
              <a:t> | </a:t>
            </a:r>
            <a:fld id="{00F4DD5F-0B56-42F5-9735-1EBA8A75E54F}"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9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9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97" name="Bild 10" descr="Springer_pms.png"/>
          <p:cNvPicPr/>
          <p:nvPr/>
        </p:nvPicPr>
        <p:blipFill>
          <a:blip r:embed="rId3"/>
          <a:stretch/>
        </p:blipFill>
        <p:spPr>
          <a:xfrm>
            <a:off x="7599240" y="141120"/>
            <a:ext cx="1117800" cy="297000"/>
          </a:xfrm>
          <a:prstGeom prst="rect">
            <a:avLst/>
          </a:prstGeom>
          <a:ln w="0">
            <a:noFill/>
          </a:ln>
        </p:spPr>
      </p:pic>
      <p:sp>
        <p:nvSpPr>
          <p:cNvPr id="4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9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0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0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ADDF-AEDC-4974-9DA3-2B1D0510E7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2"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Bild 1" descr="Kopfbalken.png"/>
          <p:cNvPicPr/>
          <p:nvPr/>
        </p:nvPicPr>
        <p:blipFill>
          <a:blip r:embed="rId2"/>
          <a:stretch/>
        </p:blipFill>
        <p:spPr>
          <a:xfrm>
            <a:off x="203040" y="0"/>
            <a:ext cx="8940960" cy="612720"/>
          </a:xfrm>
          <a:prstGeom prst="rect">
            <a:avLst/>
          </a:prstGeom>
          <a:ln w="0">
            <a:noFill/>
          </a:ln>
        </p:spPr>
      </p:pic>
      <p:sp>
        <p:nvSpPr>
          <p:cNvPr id="54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65AA4105-34C8-46DB-B6FC-A65F2FF87B74}" type="datetime">
              <a:rPr b="0" lang="en-US" sz="900" spc="-1" strike="noStrike">
                <a:solidFill>
                  <a:srgbClr val="8c8c8c"/>
                </a:solidFill>
                <a:latin typeface="Calibri"/>
              </a:rPr>
              <a:t>07/31/26</a:t>
            </a:fld>
            <a:r>
              <a:rPr b="0" lang="en-US" sz="900" spc="-1" strike="noStrike">
                <a:solidFill>
                  <a:srgbClr val="8c8c8c"/>
                </a:solidFill>
                <a:latin typeface="Calibri"/>
              </a:rPr>
              <a:t> | </a:t>
            </a:r>
            <a:fld id="{420D7CB1-BE37-4AE1-B95D-C0F06CCE8739}"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54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4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43" name="Bild 10" descr="Springer_pms.png"/>
          <p:cNvPicPr/>
          <p:nvPr/>
        </p:nvPicPr>
        <p:blipFill>
          <a:blip r:embed="rId3"/>
          <a:stretch/>
        </p:blipFill>
        <p:spPr>
          <a:xfrm>
            <a:off x="7599240" y="141120"/>
            <a:ext cx="1117800" cy="297000"/>
          </a:xfrm>
          <a:prstGeom prst="rect">
            <a:avLst/>
          </a:prstGeom>
          <a:ln w="0">
            <a:noFill/>
          </a:ln>
        </p:spPr>
      </p:pic>
      <p:sp>
        <p:nvSpPr>
          <p:cNvPr id="5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4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46"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47"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6F60-B8B0-4847-BB3D-69A9453775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8"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Bild 1" descr="Kopfbalken.png"/>
          <p:cNvPicPr/>
          <p:nvPr/>
        </p:nvPicPr>
        <p:blipFill>
          <a:blip r:embed="rId2"/>
          <a:stretch/>
        </p:blipFill>
        <p:spPr>
          <a:xfrm>
            <a:off x="203040" y="0"/>
            <a:ext cx="8940960" cy="612720"/>
          </a:xfrm>
          <a:prstGeom prst="rect">
            <a:avLst/>
          </a:prstGeom>
          <a:ln w="0">
            <a:noFill/>
          </a:ln>
        </p:spPr>
      </p:pic>
      <p:sp>
        <p:nvSpPr>
          <p:cNvPr id="58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BBC2F8C6-5DDE-40C4-8A23-D3B0802E30CA}" type="datetime">
              <a:rPr b="0" lang="en-US" sz="900" spc="-1" strike="noStrike">
                <a:solidFill>
                  <a:srgbClr val="8c8c8c"/>
                </a:solidFill>
                <a:latin typeface="Calibri"/>
              </a:rPr>
              <a:t>07/31/26</a:t>
            </a:fld>
            <a:r>
              <a:rPr b="0" lang="en-US" sz="900" spc="-1" strike="noStrike">
                <a:solidFill>
                  <a:srgbClr val="8c8c8c"/>
                </a:solidFill>
                <a:latin typeface="Calibri"/>
              </a:rPr>
              <a:t> | </a:t>
            </a:r>
            <a:fld id="{92FD2A7F-1DD6-4F3D-A15F-CAA1CEA6E218}"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58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8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89" name="Bild 10" descr="Springer_pms.png"/>
          <p:cNvPicPr/>
          <p:nvPr/>
        </p:nvPicPr>
        <p:blipFill>
          <a:blip r:embed="rId3"/>
          <a:stretch/>
        </p:blipFill>
        <p:spPr>
          <a:xfrm>
            <a:off x="7599240" y="141120"/>
            <a:ext cx="1117800" cy="297000"/>
          </a:xfrm>
          <a:prstGeom prst="rect">
            <a:avLst/>
          </a:prstGeom>
          <a:ln w="0">
            <a:noFill/>
          </a:ln>
        </p:spPr>
      </p:pic>
      <p:sp>
        <p:nvSpPr>
          <p:cNvPr id="5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9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92"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93"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A13D-3AB4-4B2B-BB4F-AF87FE701F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94"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Bild 1" descr="Kopfbalken.png"/>
          <p:cNvPicPr/>
          <p:nvPr/>
        </p:nvPicPr>
        <p:blipFill>
          <a:blip r:embed="rId2"/>
          <a:stretch/>
        </p:blipFill>
        <p:spPr>
          <a:xfrm>
            <a:off x="203040" y="0"/>
            <a:ext cx="8940960" cy="612720"/>
          </a:xfrm>
          <a:prstGeom prst="rect">
            <a:avLst/>
          </a:prstGeom>
          <a:ln w="0">
            <a:noFill/>
          </a:ln>
        </p:spPr>
      </p:pic>
      <p:sp>
        <p:nvSpPr>
          <p:cNvPr id="63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763CE13A-2A42-4CAB-9368-B59E3858A6D0}" type="datetime">
              <a:rPr b="0" lang="en-US" sz="900" spc="-1" strike="noStrike">
                <a:solidFill>
                  <a:srgbClr val="8c8c8c"/>
                </a:solidFill>
                <a:latin typeface="Calibri"/>
              </a:rPr>
              <a:t>07/31/26</a:t>
            </a:fld>
            <a:r>
              <a:rPr b="0" lang="en-US" sz="900" spc="-1" strike="noStrike">
                <a:solidFill>
                  <a:srgbClr val="8c8c8c"/>
                </a:solidFill>
                <a:latin typeface="Calibri"/>
              </a:rPr>
              <a:t> | </a:t>
            </a:r>
            <a:fld id="{91AC6EAC-D029-47E7-AF8A-F5E60045B706}"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63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3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35" name="Bild 10" descr="Springer_pms.png"/>
          <p:cNvPicPr/>
          <p:nvPr/>
        </p:nvPicPr>
        <p:blipFill>
          <a:blip r:embed="rId3"/>
          <a:stretch/>
        </p:blipFill>
        <p:spPr>
          <a:xfrm>
            <a:off x="7599240" y="141120"/>
            <a:ext cx="1117800" cy="297000"/>
          </a:xfrm>
          <a:prstGeom prst="rect">
            <a:avLst/>
          </a:prstGeom>
          <a:ln w="0">
            <a:noFill/>
          </a:ln>
        </p:spPr>
      </p:pic>
      <p:sp>
        <p:nvSpPr>
          <p:cNvPr id="6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3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38"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39"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96A3-9F0F-42AD-B542-3FA69B54024D}"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640"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F26F-AA2C-4E01-A530-B1CEC0796B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A8DCB621-3BA9-4FA5-AFBC-20CC27CBE83F}" type="datetime">
              <a:rPr b="0" lang="en-US" sz="900" spc="-1" strike="noStrike">
                <a:solidFill>
                  <a:srgbClr val="8c8c8c"/>
                </a:solidFill>
                <a:latin typeface="Calibri"/>
              </a:rPr>
              <a:t>07/31/26</a:t>
            </a:fld>
            <a:r>
              <a:rPr b="0" lang="en-US" sz="900" spc="-1" strike="noStrike">
                <a:solidFill>
                  <a:srgbClr val="8c8c8c"/>
                </a:solidFill>
                <a:latin typeface="Calibri"/>
              </a:rPr>
              <a:t> | </a:t>
            </a:r>
            <a:fld id="{C617B2F9-B806-48EC-9A13-B42FD027EB7E}"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9E15-5BD9-4A1D-9D8B-ABA0D6F83C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64202F50-F4F7-4C22-ABF8-3D99E7AB5873}" type="datetime">
              <a:rPr b="0" lang="en-US" sz="900" spc="-1" strike="noStrike">
                <a:solidFill>
                  <a:srgbClr val="8c8c8c"/>
                </a:solidFill>
                <a:latin typeface="Calibri"/>
              </a:rPr>
              <a:t>07/31/26</a:t>
            </a:fld>
            <a:r>
              <a:rPr b="0" lang="en-US" sz="900" spc="-1" strike="noStrike">
                <a:solidFill>
                  <a:srgbClr val="8c8c8c"/>
                </a:solidFill>
                <a:latin typeface="Calibri"/>
              </a:rPr>
              <a:t> | </a:t>
            </a:r>
            <a:fld id="{1FB621B2-D6B2-419C-9BF3-FAF0AD8F45F7}"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E713-A635-4D0D-9FDF-5E1DCBA93E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DA49D241-7558-4D2D-8154-46364DF4575C}" type="datetime">
              <a:rPr b="0" lang="en-US" sz="900" spc="-1" strike="noStrike">
                <a:solidFill>
                  <a:srgbClr val="8c8c8c"/>
                </a:solidFill>
                <a:latin typeface="Calibri"/>
              </a:rPr>
              <a:t>07/31/26</a:t>
            </a:fld>
            <a:r>
              <a:rPr b="0" lang="en-US" sz="900" spc="-1" strike="noStrike">
                <a:solidFill>
                  <a:srgbClr val="8c8c8c"/>
                </a:solidFill>
                <a:latin typeface="Calibri"/>
              </a:rPr>
              <a:t> | </a:t>
            </a:r>
            <a:fld id="{21D339A9-FD2A-4D09-8A7C-A925625B456D}"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4289-F992-41E1-A56B-CA8E80B0B0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0C489953-A11A-4937-BB82-B016BC987035}" type="datetime">
              <a:rPr b="0" lang="en-US" sz="900" spc="-1" strike="noStrike">
                <a:solidFill>
                  <a:srgbClr val="8c8c8c"/>
                </a:solidFill>
                <a:latin typeface="Calibri"/>
              </a:rPr>
              <a:t>07/31/26</a:t>
            </a:fld>
            <a:r>
              <a:rPr b="0" lang="en-US" sz="900" spc="-1" strike="noStrike">
                <a:solidFill>
                  <a:srgbClr val="8c8c8c"/>
                </a:solidFill>
                <a:latin typeface="Calibri"/>
              </a:rPr>
              <a:t> | </a:t>
            </a:r>
            <a:fld id="{39CD73F9-D201-4BC6-824D-780C9D5F5667}"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8621-4AD5-4CCC-BB8F-8FE954DFE1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912823C2-7BD0-4FC5-B72E-D5015266E188}" type="datetime">
              <a:rPr b="0" lang="en-US" sz="900" spc="-1" strike="noStrike">
                <a:solidFill>
                  <a:srgbClr val="8c8c8c"/>
                </a:solidFill>
                <a:latin typeface="Calibri"/>
              </a:rPr>
              <a:t>07/31/26</a:t>
            </a:fld>
            <a:r>
              <a:rPr b="0" lang="en-US" sz="900" spc="-1" strike="noStrike">
                <a:solidFill>
                  <a:srgbClr val="8c8c8c"/>
                </a:solidFill>
                <a:latin typeface="Calibri"/>
              </a:rPr>
              <a:t> | </a:t>
            </a:r>
            <a:fld id="{445021F7-2F7B-40E2-8910-5D91C697F951}"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1873-1439-4886-83C2-07173C4094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slideLayout" Target="../slideLayouts/slideLayout12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69.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8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5d5d5"/>
                </a:solidFill>
                <a:latin typeface="Calibri"/>
                <a:ea typeface="Calibri"/>
              </a:rPr>
              <a:t>Security Planning</a:t>
            </a:r>
            <a:br>
              <a:rPr sz="2100"/>
            </a:br>
            <a:r>
              <a:rPr b="0" lang="en-US" sz="2100" spc="-1" strike="noStrike">
                <a:solidFill>
                  <a:srgbClr val="d5d5d5"/>
                </a:solidFill>
                <a:latin typeface="Calibri"/>
                <a:ea typeface="Calibri"/>
              </a:rPr>
              <a:t>Susan Lincke</a:t>
            </a:r>
            <a:endParaRPr b="0" lang="en-US" sz="2100" spc="-1" strike="noStrike">
              <a:solidFill>
                <a:srgbClr val="5f5f5f"/>
              </a:solidFill>
              <a:latin typeface="Calibri"/>
            </a:endParaRPr>
          </a:p>
        </p:txBody>
      </p:sp>
      <p:sp>
        <p:nvSpPr>
          <p:cNvPr id="685" name="PlaceHolder 2"/>
          <p:cNvSpPr>
            <a:spLocks noGrp="1"/>
          </p:cNvSpPr>
          <p:nvPr>
            <p:ph type="title"/>
          </p:nvPr>
        </p:nvSpPr>
        <p:spPr>
          <a:xfrm>
            <a:off x="3771720" y="4165200"/>
            <a:ext cx="4903560" cy="983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Designing Physical Security</a:t>
            </a:r>
            <a:br>
              <a:rPr sz="3400"/>
            </a:br>
            <a:endParaRPr b="1" lang="en-US" sz="3400" spc="-1" strike="noStrike">
              <a:solidFill>
                <a:srgbClr val="00468a"/>
              </a:solidFill>
              <a:latin typeface="Calibri"/>
            </a:endParaRPr>
          </a:p>
        </p:txBody>
      </p:sp>
      <p:pic>
        <p:nvPicPr>
          <p:cNvPr id="686" name="Picture 4" descr="MCj04063320000[1]"/>
          <p:cNvPicPr/>
          <p:nvPr/>
        </p:nvPicPr>
        <p:blipFill>
          <a:blip r:embed="rId1"/>
          <a:stretch/>
        </p:blipFill>
        <p:spPr>
          <a:xfrm>
            <a:off x="5105520" y="30240"/>
            <a:ext cx="3276360" cy="26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mputer Room Equipped with…</a:t>
            </a:r>
            <a:endParaRPr b="1" lang="en-US" sz="4000" spc="-1" strike="noStrike">
              <a:solidFill>
                <a:srgbClr val="00468a"/>
              </a:solidFill>
              <a:latin typeface="Calibri"/>
            </a:endParaRPr>
          </a:p>
        </p:txBody>
      </p:sp>
      <p:sp>
        <p:nvSpPr>
          <p:cNvPr id="743" name="PlaceHolder 2"/>
          <p:cNvSpPr>
            <a:spLocks noGrp="1"/>
          </p:cNvSpPr>
          <p:nvPr>
            <p:ph/>
          </p:nvPr>
        </p:nvSpPr>
        <p:spPr>
          <a:xfrm>
            <a:off x="457200" y="3428640"/>
            <a:ext cx="8229600" cy="2895480"/>
          </a:xfrm>
          <a:prstGeom prst="rect">
            <a:avLst/>
          </a:prstGeom>
          <a:noFill/>
          <a:ln w="0">
            <a:noFill/>
          </a:ln>
        </p:spPr>
        <p:txBody>
          <a:bodyPr lIns="0" rIns="0" tIns="0" bIns="0" anchor="t">
            <a:normAutofit fontScale="92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Water Detector</a:t>
            </a:r>
            <a:r>
              <a:rPr b="0" lang="en-US" sz="2000" spc="-1" strike="noStrike">
                <a:solidFill>
                  <a:srgbClr val="5f5f5f"/>
                </a:solidFill>
                <a:latin typeface="Calibri"/>
              </a:rPr>
              <a:t>: Placed under raised floors</a:t>
            </a:r>
            <a:endParaRPr b="0" lang="en-US" sz="2000" spc="-1" strike="noStrike">
              <a:solidFill>
                <a:srgbClr val="5f5f5f"/>
              </a:solidFill>
              <a:latin typeface="Calibri"/>
            </a:endParaRPr>
          </a:p>
          <a:p>
            <a:pPr lvl="1"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isk of electric shock; training necessary</a:t>
            </a:r>
            <a:endParaRPr b="0" lang="en-US" sz="2000" spc="-1" strike="noStrike">
              <a:solidFill>
                <a:srgbClr val="5f5f5f"/>
              </a:solidFill>
              <a:latin typeface="Calibri"/>
            </a:endParaRPr>
          </a:p>
          <a:p>
            <a:pPr lvl="1"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ocation of water detectors marked on floor</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Manual Fire Alarm</a:t>
            </a:r>
            <a:r>
              <a:rPr b="0" lang="en-US" sz="2000" spc="-1" strike="noStrike">
                <a:solidFill>
                  <a:srgbClr val="5f5f5f"/>
                </a:solidFill>
                <a:latin typeface="Calibri"/>
              </a:rPr>
              <a:t>: Placed throughout facility</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Smoke Detectors</a:t>
            </a:r>
            <a:r>
              <a:rPr b="0" lang="en-US" sz="2000" spc="-1" strike="noStrike">
                <a:solidFill>
                  <a:srgbClr val="5f5f5f"/>
                </a:solidFill>
                <a:latin typeface="Calibri"/>
              </a:rPr>
              <a:t>: Above &amp; below ceiling tiles, below room floor </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Emergency Power-Off Switch</a:t>
            </a:r>
            <a:r>
              <a:rPr b="0" lang="en-US" sz="2000" spc="-1" strike="noStrike">
                <a:solidFill>
                  <a:srgbClr val="5f5f5f"/>
                </a:solidFill>
                <a:latin typeface="Calibri"/>
              </a:rPr>
              <a:t>: Turn off power to all equipment</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Fire Extinguishers</a:t>
            </a:r>
            <a:r>
              <a:rPr b="0" lang="en-US" sz="2000" spc="-1" strike="noStrike">
                <a:solidFill>
                  <a:srgbClr val="5f5f5f"/>
                </a:solidFill>
                <a:latin typeface="Calibri"/>
              </a:rPr>
              <a:t>: At strategic locations</a:t>
            </a:r>
            <a:endParaRPr b="0" lang="en-US" sz="2000" spc="-1" strike="noStrike">
              <a:solidFill>
                <a:srgbClr val="5f5f5f"/>
              </a:solidFill>
              <a:latin typeface="Calibri"/>
            </a:endParaRPr>
          </a:p>
          <a:p>
            <a:pPr lvl="1"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agged &amp; inspected annually</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larms should sound locally, at monitored guard station, and preferably fire dept.</a:t>
            </a:r>
            <a:endParaRPr b="0" lang="en-US" sz="2000" spc="-1" strike="noStrike">
              <a:solidFill>
                <a:srgbClr val="5f5f5f"/>
              </a:solidFill>
              <a:latin typeface="Calibri"/>
            </a:endParaRPr>
          </a:p>
        </p:txBody>
      </p:sp>
      <p:sp>
        <p:nvSpPr>
          <p:cNvPr id="744" name="Line 5"/>
          <p:cNvSpPr/>
          <p:nvPr/>
        </p:nvSpPr>
        <p:spPr>
          <a:xfrm>
            <a:off x="914400" y="1523880"/>
            <a:ext cx="68580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45" name="Line 6"/>
          <p:cNvSpPr/>
          <p:nvPr/>
        </p:nvSpPr>
        <p:spPr>
          <a:xfrm>
            <a:off x="609480" y="3048120"/>
            <a:ext cx="76201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746" name="Picture 7" descr="BD18219_"/>
          <p:cNvPicPr/>
          <p:nvPr/>
        </p:nvPicPr>
        <p:blipFill>
          <a:blip r:embed="rId1"/>
          <a:stretch/>
        </p:blipFill>
        <p:spPr>
          <a:xfrm>
            <a:off x="762120" y="1981080"/>
            <a:ext cx="1066680" cy="1067040"/>
          </a:xfrm>
          <a:prstGeom prst="rect">
            <a:avLst/>
          </a:prstGeom>
          <a:ln w="9360">
            <a:solidFill>
              <a:srgbClr val="ededed"/>
            </a:solidFill>
            <a:miter/>
          </a:ln>
        </p:spPr>
      </p:pic>
      <p:pic>
        <p:nvPicPr>
          <p:cNvPr id="747" name="Picture 9" descr="BD18246_"/>
          <p:cNvPicPr/>
          <p:nvPr/>
        </p:nvPicPr>
        <p:blipFill>
          <a:blip r:embed="rId2"/>
          <a:stretch/>
        </p:blipFill>
        <p:spPr>
          <a:xfrm>
            <a:off x="5105520" y="1981080"/>
            <a:ext cx="1057320" cy="1057320"/>
          </a:xfrm>
          <a:prstGeom prst="rect">
            <a:avLst/>
          </a:prstGeom>
          <a:ln w="0">
            <a:noFill/>
          </a:ln>
        </p:spPr>
      </p:pic>
      <p:pic>
        <p:nvPicPr>
          <p:cNvPr id="748" name="Picture 10" descr="BD18219_"/>
          <p:cNvPicPr/>
          <p:nvPr/>
        </p:nvPicPr>
        <p:blipFill>
          <a:blip r:embed="rId3"/>
          <a:stretch/>
        </p:blipFill>
        <p:spPr>
          <a:xfrm>
            <a:off x="1905120" y="1981080"/>
            <a:ext cx="1066680" cy="1067040"/>
          </a:xfrm>
          <a:prstGeom prst="rect">
            <a:avLst/>
          </a:prstGeom>
          <a:ln w="9360">
            <a:solidFill>
              <a:srgbClr val="ededed"/>
            </a:solidFill>
            <a:miter/>
          </a:ln>
        </p:spPr>
      </p:pic>
      <p:sp>
        <p:nvSpPr>
          <p:cNvPr id="749" name="AutoShape 11"/>
          <p:cNvSpPr/>
          <p:nvPr/>
        </p:nvSpPr>
        <p:spPr>
          <a:xfrm>
            <a:off x="6172200" y="2590920"/>
            <a:ext cx="1219320" cy="15228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50" name="Line 12"/>
          <p:cNvSpPr/>
          <p:nvPr/>
        </p:nvSpPr>
        <p:spPr>
          <a:xfrm>
            <a:off x="6172200" y="274320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1" name="Line 13"/>
          <p:cNvSpPr/>
          <p:nvPr/>
        </p:nvSpPr>
        <p:spPr>
          <a:xfrm>
            <a:off x="6248520" y="274320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2" name="Line 14"/>
          <p:cNvSpPr/>
          <p:nvPr/>
        </p:nvSpPr>
        <p:spPr>
          <a:xfrm>
            <a:off x="7238880" y="274320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3" name="Line 15"/>
          <p:cNvSpPr/>
          <p:nvPr/>
        </p:nvSpPr>
        <p:spPr>
          <a:xfrm>
            <a:off x="7315200" y="26668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4" name="AutoShape 16"/>
          <p:cNvSpPr/>
          <p:nvPr/>
        </p:nvSpPr>
        <p:spPr>
          <a:xfrm>
            <a:off x="7238880" y="2133720"/>
            <a:ext cx="152640" cy="457200"/>
          </a:xfrm>
          <a:prstGeom prst="can">
            <a:avLst>
              <a:gd name="adj" fmla="val 25000"/>
            </a:avLst>
          </a:prstGeom>
          <a:solidFill>
            <a:srgbClr val="ff0000"/>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55" name="AutoShape 17"/>
          <p:cNvSpPr/>
          <p:nvPr/>
        </p:nvSpPr>
        <p:spPr>
          <a:xfrm>
            <a:off x="6553080" y="1981080"/>
            <a:ext cx="228600" cy="228600"/>
          </a:xfrm>
          <a:prstGeom prst="bevel">
            <a:avLst>
              <a:gd name="adj" fmla="val 12500"/>
            </a:avLst>
          </a:prstGeom>
          <a:solidFill>
            <a:srgbClr val="e1ae69"/>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56" name="AutoShape 21"/>
          <p:cNvSpPr/>
          <p:nvPr/>
        </p:nvSpPr>
        <p:spPr>
          <a:xfrm>
            <a:off x="1676520" y="1447920"/>
            <a:ext cx="533160" cy="75960"/>
          </a:xfrm>
          <a:prstGeom prst="flowChartMagneticDisk">
            <a:avLst/>
          </a:prstGeom>
          <a:solidFill>
            <a:srgbClr val="999999"/>
          </a:solidFill>
          <a:ln w="9360">
            <a:solidFill>
              <a:srgbClr val="002143"/>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57" name="AutoShape 22"/>
          <p:cNvSpPr/>
          <p:nvPr/>
        </p:nvSpPr>
        <p:spPr>
          <a:xfrm>
            <a:off x="5410080" y="1523880"/>
            <a:ext cx="533520" cy="76320"/>
          </a:xfrm>
          <a:prstGeom prst="flowChartMagneticDisk">
            <a:avLst/>
          </a:prstGeom>
          <a:solidFill>
            <a:srgbClr val="999999"/>
          </a:solidFill>
          <a:ln w="9360">
            <a:solidFill>
              <a:srgbClr val="002143"/>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58" name="AutoShape 23"/>
          <p:cNvSpPr/>
          <p:nvPr/>
        </p:nvSpPr>
        <p:spPr>
          <a:xfrm>
            <a:off x="6400800" y="3200400"/>
            <a:ext cx="304920" cy="76320"/>
          </a:xfrm>
          <a:prstGeom prst="flowChartMagneticDisk">
            <a:avLst/>
          </a:prstGeom>
          <a:solidFill>
            <a:srgbClr val="00468a"/>
          </a:solidFill>
          <a:ln w="9360">
            <a:solidFill>
              <a:srgbClr val="002143"/>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59" name="AutoShape 24"/>
          <p:cNvSpPr/>
          <p:nvPr/>
        </p:nvSpPr>
        <p:spPr>
          <a:xfrm>
            <a:off x="3809880" y="3048120"/>
            <a:ext cx="533520" cy="75960"/>
          </a:xfrm>
          <a:prstGeom prst="flowChartMagneticDisk">
            <a:avLst/>
          </a:prstGeom>
          <a:solidFill>
            <a:srgbClr val="999999"/>
          </a:solidFill>
          <a:ln w="9360">
            <a:solidFill>
              <a:srgbClr val="002143"/>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0" name="AutoShape 25"/>
          <p:cNvSpPr/>
          <p:nvPr/>
        </p:nvSpPr>
        <p:spPr>
          <a:xfrm>
            <a:off x="7848720" y="4800600"/>
            <a:ext cx="533160" cy="76320"/>
          </a:xfrm>
          <a:prstGeom prst="flowChartMagneticDisk">
            <a:avLst/>
          </a:prstGeom>
          <a:solidFill>
            <a:srgbClr val="999999"/>
          </a:solidFill>
          <a:ln w="9360">
            <a:solidFill>
              <a:srgbClr val="002143"/>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1" name="AutoShape 26"/>
          <p:cNvSpPr/>
          <p:nvPr/>
        </p:nvSpPr>
        <p:spPr>
          <a:xfrm>
            <a:off x="5334120" y="5410080"/>
            <a:ext cx="152280" cy="457200"/>
          </a:xfrm>
          <a:prstGeom prst="can">
            <a:avLst>
              <a:gd name="adj" fmla="val 25000"/>
            </a:avLst>
          </a:prstGeom>
          <a:solidFill>
            <a:srgbClr val="ff0000"/>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2" name="AutoShape 27"/>
          <p:cNvSpPr/>
          <p:nvPr/>
        </p:nvSpPr>
        <p:spPr>
          <a:xfrm>
            <a:off x="5867280" y="4343400"/>
            <a:ext cx="228600" cy="228600"/>
          </a:xfrm>
          <a:prstGeom prst="bevel">
            <a:avLst>
              <a:gd name="adj" fmla="val 12500"/>
            </a:avLst>
          </a:prstGeom>
          <a:solidFill>
            <a:srgbClr val="e1ae69"/>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3" name="AutoShape 28"/>
          <p:cNvSpPr/>
          <p:nvPr/>
        </p:nvSpPr>
        <p:spPr>
          <a:xfrm>
            <a:off x="5562720" y="3581280"/>
            <a:ext cx="304560" cy="76320"/>
          </a:xfrm>
          <a:prstGeom prst="flowChartMagneticDisk">
            <a:avLst/>
          </a:prstGeom>
          <a:solidFill>
            <a:srgbClr val="00468a"/>
          </a:solidFill>
          <a:ln w="9360">
            <a:solidFill>
              <a:srgbClr val="002143"/>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4" name="Rectangle 33"/>
          <p:cNvSpPr/>
          <p:nvPr/>
        </p:nvSpPr>
        <p:spPr>
          <a:xfrm>
            <a:off x="8001000" y="1981080"/>
            <a:ext cx="457200" cy="1067040"/>
          </a:xfrm>
          <a:prstGeom prst="rect">
            <a:avLst/>
          </a:prstGeom>
          <a:solidFill>
            <a:srgbClr val="ededed"/>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5" name="Oval 34"/>
          <p:cNvSpPr/>
          <p:nvPr/>
        </p:nvSpPr>
        <p:spPr>
          <a:xfrm>
            <a:off x="8305920" y="2514600"/>
            <a:ext cx="152280" cy="76320"/>
          </a:xfrm>
          <a:prstGeom prst="ellipse">
            <a:avLst/>
          </a:prstGeom>
          <a:solidFill>
            <a:srgbClr val="00468a"/>
          </a:solidFill>
          <a:ln w="9360">
            <a:solidFill>
              <a:srgbClr val="002143"/>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6" name="Rectangle 35"/>
          <p:cNvSpPr/>
          <p:nvPr/>
        </p:nvSpPr>
        <p:spPr>
          <a:xfrm>
            <a:off x="8077320" y="2209680"/>
            <a:ext cx="304560" cy="304920"/>
          </a:xfrm>
          <a:prstGeom prst="rect">
            <a:avLst/>
          </a:prstGeom>
          <a:solidFill>
            <a:srgbClr val="d6ecee"/>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7" name="AutoShape 36"/>
          <p:cNvSpPr/>
          <p:nvPr/>
        </p:nvSpPr>
        <p:spPr>
          <a:xfrm>
            <a:off x="6400800" y="2971800"/>
            <a:ext cx="228600" cy="152280"/>
          </a:xfrm>
          <a:prstGeom prst="flowChartSummingJunction">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8" name="AutoShape 37"/>
          <p:cNvSpPr/>
          <p:nvPr/>
        </p:nvSpPr>
        <p:spPr>
          <a:xfrm>
            <a:off x="6248520" y="4114800"/>
            <a:ext cx="228600" cy="152280"/>
          </a:xfrm>
          <a:prstGeom prst="flowChartSummingJunction">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69" name="AutoShape 38"/>
          <p:cNvSpPr/>
          <p:nvPr/>
        </p:nvSpPr>
        <p:spPr>
          <a:xfrm>
            <a:off x="6858000" y="1981080"/>
            <a:ext cx="152280" cy="228600"/>
          </a:xfrm>
          <a:prstGeom prst="bevel">
            <a:avLst>
              <a:gd name="adj" fmla="val 12500"/>
            </a:avLst>
          </a:prstGeom>
          <a:solidFill>
            <a:srgbClr val="ededed"/>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70" name="AutoShape 39"/>
          <p:cNvSpPr/>
          <p:nvPr/>
        </p:nvSpPr>
        <p:spPr>
          <a:xfrm>
            <a:off x="7924680" y="5029200"/>
            <a:ext cx="152640" cy="228600"/>
          </a:xfrm>
          <a:prstGeom prst="bevel">
            <a:avLst>
              <a:gd name="adj" fmla="val 12500"/>
            </a:avLst>
          </a:prstGeom>
          <a:solidFill>
            <a:srgbClr val="ededed"/>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PF Environment</a:t>
            </a:r>
            <a:endParaRPr b="1" lang="en-US" sz="3600" spc="-1" strike="noStrike">
              <a:solidFill>
                <a:srgbClr val="00468a"/>
              </a:solidFill>
              <a:latin typeface="Calibri"/>
            </a:endParaRPr>
          </a:p>
        </p:txBody>
      </p:sp>
      <p:sp>
        <p:nvSpPr>
          <p:cNvPr id="772"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uter room on middle floo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re department inspects room annually</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re-resistant walls, floor, ceiling, furniture, electrical panel &amp; conduit</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wo-hour fire resistance rating for wall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ergency Power-off switch: Panel in and outside room</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dundant power lines reduce risk of environmental hazard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urge protectors &amp; UP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 smoking, food or water in IPF</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Observe some, request documentation, may test batteries, handheld fire extinguishers, ensure fire suppression system is to code</a:t>
            </a:r>
            <a:endParaRPr b="0" lang="en-US" sz="2400" spc="-1" strike="noStrike">
              <a:solidFill>
                <a:srgbClr val="5f5f5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ire Suppression Systems</a:t>
            </a:r>
            <a:endParaRPr b="1" lang="en-US" sz="3600" spc="-1" strike="noStrike">
              <a:solidFill>
                <a:srgbClr val="00468a"/>
              </a:solidFill>
              <a:latin typeface="Calibri"/>
            </a:endParaRPr>
          </a:p>
        </p:txBody>
      </p:sp>
      <p:sp>
        <p:nvSpPr>
          <p:cNvPr id="774" name="Line 5"/>
          <p:cNvSpPr/>
          <p:nvPr/>
        </p:nvSpPr>
        <p:spPr>
          <a:xfrm>
            <a:off x="228600" y="3733920"/>
            <a:ext cx="19810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5" name="Line 6"/>
          <p:cNvSpPr/>
          <p:nvPr/>
        </p:nvSpPr>
        <p:spPr>
          <a:xfrm flipV="1">
            <a:off x="2209680" y="2133360"/>
            <a:ext cx="533520" cy="1600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6" name="Line 7"/>
          <p:cNvSpPr/>
          <p:nvPr/>
        </p:nvSpPr>
        <p:spPr>
          <a:xfrm>
            <a:off x="2590920" y="24382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7" name="Line 8"/>
          <p:cNvSpPr/>
          <p:nvPr/>
        </p:nvSpPr>
        <p:spPr>
          <a:xfrm>
            <a:off x="2819520" y="2743200"/>
            <a:ext cx="20574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8" name="Line 9"/>
          <p:cNvSpPr/>
          <p:nvPr/>
        </p:nvSpPr>
        <p:spPr>
          <a:xfrm>
            <a:off x="2743200" y="2133720"/>
            <a:ext cx="21337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9" name="Line 10"/>
          <p:cNvSpPr/>
          <p:nvPr/>
        </p:nvSpPr>
        <p:spPr>
          <a:xfrm>
            <a:off x="2209680" y="3733920"/>
            <a:ext cx="304920" cy="1371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0" name="Line 11"/>
          <p:cNvSpPr/>
          <p:nvPr/>
        </p:nvSpPr>
        <p:spPr>
          <a:xfrm flipV="1">
            <a:off x="2514600" y="4266720"/>
            <a:ext cx="685800" cy="838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1" name="Line 12"/>
          <p:cNvSpPr/>
          <p:nvPr/>
        </p:nvSpPr>
        <p:spPr>
          <a:xfrm>
            <a:off x="2514600" y="5105520"/>
            <a:ext cx="762120" cy="7617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2" name="Line 13"/>
          <p:cNvSpPr/>
          <p:nvPr/>
        </p:nvSpPr>
        <p:spPr>
          <a:xfrm>
            <a:off x="2971800" y="44956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3" name="Line 14"/>
          <p:cNvSpPr/>
          <p:nvPr/>
        </p:nvSpPr>
        <p:spPr>
          <a:xfrm>
            <a:off x="3200400" y="4800600"/>
            <a:ext cx="19810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4" name="Line 15"/>
          <p:cNvSpPr/>
          <p:nvPr/>
        </p:nvSpPr>
        <p:spPr>
          <a:xfrm>
            <a:off x="3200400" y="4267080"/>
            <a:ext cx="19810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5" name="Line 16"/>
          <p:cNvSpPr/>
          <p:nvPr/>
        </p:nvSpPr>
        <p:spPr>
          <a:xfrm flipV="1">
            <a:off x="3048120" y="5409720"/>
            <a:ext cx="22860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6" name="Line 17"/>
          <p:cNvSpPr/>
          <p:nvPr/>
        </p:nvSpPr>
        <p:spPr>
          <a:xfrm>
            <a:off x="3276720" y="5410080"/>
            <a:ext cx="18288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7" name="Line 18"/>
          <p:cNvSpPr/>
          <p:nvPr/>
        </p:nvSpPr>
        <p:spPr>
          <a:xfrm>
            <a:off x="3276720" y="5867280"/>
            <a:ext cx="18288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8" name="Text Box 19"/>
          <p:cNvSpPr/>
          <p:nvPr/>
        </p:nvSpPr>
        <p:spPr>
          <a:xfrm>
            <a:off x="1526760" y="2362320"/>
            <a:ext cx="104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wat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prinkler</a:t>
            </a:r>
            <a:endParaRPr b="0" lang="en-US" sz="1800" spc="-1" strike="noStrike">
              <a:solidFill>
                <a:srgbClr val="002143"/>
              </a:solidFill>
              <a:latin typeface="Arial"/>
            </a:endParaRPr>
          </a:p>
        </p:txBody>
      </p:sp>
      <p:sp>
        <p:nvSpPr>
          <p:cNvPr id="789" name="Text Box 20"/>
          <p:cNvSpPr/>
          <p:nvPr/>
        </p:nvSpPr>
        <p:spPr>
          <a:xfrm>
            <a:off x="1754640" y="419112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gas</a:t>
            </a:r>
            <a:endParaRPr b="0" lang="en-US" sz="1800" spc="-1" strike="noStrike">
              <a:solidFill>
                <a:srgbClr val="002143"/>
              </a:solidFill>
              <a:latin typeface="Arial"/>
            </a:endParaRPr>
          </a:p>
        </p:txBody>
      </p:sp>
      <p:sp>
        <p:nvSpPr>
          <p:cNvPr id="790" name="Text Box 21"/>
          <p:cNvSpPr/>
          <p:nvPr/>
        </p:nvSpPr>
        <p:spPr>
          <a:xfrm>
            <a:off x="1983960" y="5334120"/>
            <a:ext cx="91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nviro-</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riendly</a:t>
            </a:r>
            <a:endParaRPr b="0" lang="en-US" sz="1800" spc="-1" strike="noStrike">
              <a:solidFill>
                <a:srgbClr val="002143"/>
              </a:solidFill>
              <a:latin typeface="Arial"/>
            </a:endParaRPr>
          </a:p>
        </p:txBody>
      </p:sp>
      <p:sp>
        <p:nvSpPr>
          <p:cNvPr id="791" name="Text Box 22"/>
          <p:cNvSpPr/>
          <p:nvPr/>
        </p:nvSpPr>
        <p:spPr>
          <a:xfrm rot="18837000">
            <a:off x="2222280" y="41821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angerous</a:t>
            </a:r>
            <a:endParaRPr b="0" lang="en-US" sz="1800" spc="-1" strike="noStrike">
              <a:solidFill>
                <a:srgbClr val="002143"/>
              </a:solidFill>
              <a:latin typeface="Arial"/>
            </a:endParaRPr>
          </a:p>
        </p:txBody>
      </p:sp>
      <p:sp>
        <p:nvSpPr>
          <p:cNvPr id="792" name="Text Box 23"/>
          <p:cNvSpPr/>
          <p:nvPr/>
        </p:nvSpPr>
        <p:spPr>
          <a:xfrm>
            <a:off x="3414600" y="39225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Halon</a:t>
            </a:r>
            <a:endParaRPr b="0" lang="en-US" sz="1800" spc="-1" strike="noStrike">
              <a:solidFill>
                <a:srgbClr val="002143"/>
              </a:solidFill>
              <a:latin typeface="Arial"/>
            </a:endParaRPr>
          </a:p>
        </p:txBody>
      </p:sp>
      <p:sp>
        <p:nvSpPr>
          <p:cNvPr id="793" name="Text Box 24"/>
          <p:cNvSpPr/>
          <p:nvPr/>
        </p:nvSpPr>
        <p:spPr>
          <a:xfrm>
            <a:off x="3201480" y="4495680"/>
            <a:ext cx="187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arbon Dioxide</a:t>
            </a:r>
            <a:endParaRPr b="0" lang="en-US" sz="1800" spc="-1" strike="noStrike">
              <a:solidFill>
                <a:srgbClr val="002143"/>
              </a:solidFill>
              <a:latin typeface="Arial"/>
            </a:endParaRPr>
          </a:p>
        </p:txBody>
      </p:sp>
      <p:sp>
        <p:nvSpPr>
          <p:cNvPr id="794" name="Text Box 25"/>
          <p:cNvSpPr/>
          <p:nvPr/>
        </p:nvSpPr>
        <p:spPr>
          <a:xfrm>
            <a:off x="460440" y="3124080"/>
            <a:ext cx="144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i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uppression</a:t>
            </a:r>
            <a:endParaRPr b="0" lang="en-US" sz="1800" spc="-1" strike="noStrike">
              <a:solidFill>
                <a:srgbClr val="002143"/>
              </a:solidFill>
              <a:latin typeface="Arial"/>
            </a:endParaRPr>
          </a:p>
        </p:txBody>
      </p:sp>
      <p:sp>
        <p:nvSpPr>
          <p:cNvPr id="795" name="Text Box 26"/>
          <p:cNvSpPr/>
          <p:nvPr/>
        </p:nvSpPr>
        <p:spPr>
          <a:xfrm>
            <a:off x="2881440" y="17892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harged</a:t>
            </a:r>
            <a:endParaRPr b="0" lang="en-US" sz="1800" spc="-1" strike="noStrike">
              <a:solidFill>
                <a:srgbClr val="002143"/>
              </a:solidFill>
              <a:latin typeface="Arial"/>
            </a:endParaRPr>
          </a:p>
        </p:txBody>
      </p:sp>
      <p:sp>
        <p:nvSpPr>
          <p:cNvPr id="796" name="Text Box 27"/>
          <p:cNvSpPr/>
          <p:nvPr/>
        </p:nvSpPr>
        <p:spPr>
          <a:xfrm>
            <a:off x="2897280" y="23623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Dry pipe</a:t>
            </a:r>
            <a:endParaRPr b="0" lang="en-US" sz="1800" spc="-1" strike="noStrike">
              <a:solidFill>
                <a:srgbClr val="002143"/>
              </a:solidFill>
              <a:latin typeface="Arial"/>
            </a:endParaRPr>
          </a:p>
        </p:txBody>
      </p:sp>
      <p:sp>
        <p:nvSpPr>
          <p:cNvPr id="797" name="Text Box 28"/>
          <p:cNvSpPr/>
          <p:nvPr/>
        </p:nvSpPr>
        <p:spPr>
          <a:xfrm>
            <a:off x="3415320" y="506556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FM-200</a:t>
            </a:r>
            <a:endParaRPr b="0" lang="en-US" sz="1800" spc="-1" strike="noStrike">
              <a:solidFill>
                <a:srgbClr val="002143"/>
              </a:solidFill>
              <a:latin typeface="Arial"/>
            </a:endParaRPr>
          </a:p>
        </p:txBody>
      </p:sp>
      <p:sp>
        <p:nvSpPr>
          <p:cNvPr id="798" name="Text Box 29"/>
          <p:cNvSpPr/>
          <p:nvPr/>
        </p:nvSpPr>
        <p:spPr>
          <a:xfrm>
            <a:off x="3338280" y="552276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Argonite</a:t>
            </a:r>
            <a:endParaRPr b="0" lang="en-US" sz="1800" spc="-1" strike="noStrike">
              <a:solidFill>
                <a:srgbClr val="002143"/>
              </a:solidFill>
              <a:latin typeface="Arial"/>
            </a:endParaRPr>
          </a:p>
        </p:txBody>
      </p:sp>
      <p:sp>
        <p:nvSpPr>
          <p:cNvPr id="799" name="Text Box 30"/>
          <p:cNvSpPr/>
          <p:nvPr/>
        </p:nvSpPr>
        <p:spPr>
          <a:xfrm>
            <a:off x="5018760" y="1484280"/>
            <a:ext cx="40212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Water sprinkler system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ause water damage when disperse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harged pipes contain water an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an break or leak.</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Gas systems do not damage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quipment during fi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angerous systems replace oxygen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with another gas, and need lead tim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or people to exi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lon was banned due to damage to</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ozone lay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M-200 cools equipment dow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owering combustion probabil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nviro-friendly is safer to human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oes not damage equipment.</a:t>
            </a:r>
            <a:endParaRPr b="0" lang="en-US" sz="1800" spc="-1" strike="noStrike">
              <a:solidFill>
                <a:srgbClr val="00214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22160" y="4406760"/>
            <a:ext cx="7772400" cy="1911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c3f5e"/>
                </a:solidFill>
                <a:latin typeface="Calibri"/>
              </a:rPr>
              <a:t>PHYSICAL CONTROLS</a:t>
            </a:r>
            <a:br>
              <a:rPr sz="4600"/>
            </a:br>
            <a:r>
              <a:rPr b="1" lang="en-US" sz="4600" spc="-1" strike="noStrike">
                <a:solidFill>
                  <a:srgbClr val="0c3f5e"/>
                </a:solidFill>
                <a:latin typeface="Calibri"/>
              </a:rPr>
              <a:t>FOR CONFIDENTIALITY</a:t>
            </a:r>
            <a:br>
              <a:rPr sz="4600"/>
            </a:br>
            <a:r>
              <a:rPr b="1" lang="en-US" sz="4600" spc="-1" strike="noStrike">
                <a:solidFill>
                  <a:srgbClr val="0c3f5e"/>
                </a:solidFill>
                <a:latin typeface="Calibri"/>
              </a:rPr>
              <a:t>&amp; INTEGRITY</a:t>
            </a:r>
            <a:endParaRPr b="1" lang="en-US" sz="4600" spc="-1" strike="noStrike">
              <a:solidFill>
                <a:srgbClr val="00468a"/>
              </a:solidFill>
              <a:latin typeface="Calibri"/>
            </a:endParaRPr>
          </a:p>
        </p:txBody>
      </p:sp>
      <p:sp>
        <p:nvSpPr>
          <p:cNvPr id="801" name="PlaceHolder 2"/>
          <p:cNvSpPr>
            <a:spLocks noGrp="1"/>
          </p:cNvSpPr>
          <p:nvPr>
            <p:ph/>
          </p:nvPr>
        </p:nvSpPr>
        <p:spPr>
          <a:xfrm>
            <a:off x="722160" y="2906280"/>
            <a:ext cx="7772400" cy="1500120"/>
          </a:xfrm>
          <a:prstGeom prst="rect">
            <a:avLst/>
          </a:prstGeom>
          <a:noFill/>
          <a:ln w="0">
            <a:noFill/>
          </a:ln>
        </p:spPr>
        <p:txBody>
          <a:bodyPr lIns="0" rIns="0" tIns="0" bIns="0" anchor="b">
            <a:normAutofit fontScale="83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External Security</a:t>
            </a:r>
            <a:endParaRPr b="0" lang="en-US" sz="3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Door Locks &amp; Security</a:t>
            </a:r>
            <a:endParaRPr b="0" lang="en-US" sz="3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Mobile Data</a:t>
            </a:r>
            <a:endParaRPr b="0" lang="en-US" sz="3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Point-of-Sale, ATM</a:t>
            </a:r>
            <a:endParaRPr b="0" lang="en-US" sz="3000" spc="-1" strike="noStrike">
              <a:solidFill>
                <a:srgbClr val="5f5f5f"/>
              </a:solidFill>
              <a:latin typeface="Calibri"/>
            </a:endParaRPr>
          </a:p>
        </p:txBody>
      </p:sp>
      <p:pic>
        <p:nvPicPr>
          <p:cNvPr id="802" name="Picture 2" descr="C:\Users\lincke\AppData\Local\Microsoft\Windows\Temporary Internet Files\Content.IE5\BNJ2SGS3\thumb-cash-register-pictofigo-hi-004[1].png"/>
          <p:cNvPicPr/>
          <p:nvPr/>
        </p:nvPicPr>
        <p:blipFill>
          <a:blip r:embed="rId1"/>
          <a:stretch/>
        </p:blipFill>
        <p:spPr>
          <a:xfrm>
            <a:off x="5477040" y="1523880"/>
            <a:ext cx="2387520" cy="1862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xternal Security</a:t>
            </a:r>
            <a:endParaRPr b="1" lang="en-US" sz="3600" spc="-1" strike="noStrike">
              <a:solidFill>
                <a:srgbClr val="00468a"/>
              </a:solidFill>
              <a:latin typeface="Calibri"/>
            </a:endParaRPr>
          </a:p>
        </p:txBody>
      </p:sp>
      <p:sp>
        <p:nvSpPr>
          <p:cNvPr id="804"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in Door</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elcome</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uard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alkway</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Low bushes</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ees: Friendly, insecure</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Benches</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pic>
        <p:nvPicPr>
          <p:cNvPr id="805" name="Picture 2" descr="C:\Users\lincke\AppData\Local\Microsoft\Windows\Temporary Internet Files\Content.IE5\WYPWMHBL\MC900088604[1].wmf"/>
          <p:cNvPicPr/>
          <p:nvPr/>
        </p:nvPicPr>
        <p:blipFill>
          <a:blip r:embed="rId1"/>
          <a:stretch/>
        </p:blipFill>
        <p:spPr>
          <a:xfrm>
            <a:off x="4792680" y="2057400"/>
            <a:ext cx="3970440" cy="393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oor Lock Systems</a:t>
            </a:r>
            <a:endParaRPr b="1" lang="en-US" sz="3600" spc="-1" strike="noStrike">
              <a:solidFill>
                <a:srgbClr val="00468a"/>
              </a:solidFill>
              <a:latin typeface="Calibri"/>
            </a:endParaRPr>
          </a:p>
        </p:txBody>
      </p:sp>
      <p:pic>
        <p:nvPicPr>
          <p:cNvPr id="807" name="Diagram 1" descr=""/>
          <p:cNvPicPr/>
          <p:nvPr/>
        </p:nvPicPr>
        <p:blipFill>
          <a:blip r:embed="rId1"/>
          <a:stretch/>
        </p:blipFill>
        <p:spPr>
          <a:xfrm>
            <a:off x="291960" y="1444680"/>
            <a:ext cx="4945320" cy="5035320"/>
          </a:xfrm>
          <a:prstGeom prst="rect">
            <a:avLst/>
          </a:prstGeom>
          <a:ln w="0">
            <a:noFill/>
          </a:ln>
        </p:spPr>
      </p:pic>
      <p:sp>
        <p:nvSpPr>
          <p:cNvPr id="808" name="PlaceHolder 2"/>
          <p:cNvSpPr>
            <a:spLocks noGrp="1"/>
          </p:cNvSpPr>
          <p:nvPr>
            <p:ph/>
          </p:nvPr>
        </p:nvSpPr>
        <p:spPr>
          <a:xfrm>
            <a:off x="5334120" y="1447560"/>
            <a:ext cx="3657600" cy="4678200"/>
          </a:xfrm>
          <a:prstGeom prst="rect">
            <a:avLst/>
          </a:prstGeom>
          <a:noFill/>
          <a:ln w="0">
            <a:noFill/>
          </a:ln>
        </p:spPr>
        <p:txBody>
          <a:bodyPr lIns="0" rIns="0" tIns="0" bIns="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ch system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able </a:t>
            </a:r>
            <a:r>
              <a:rPr b="1" lang="en-US" sz="2400" spc="-1" strike="noStrike">
                <a:solidFill>
                  <a:srgbClr val="5f5f5f"/>
                </a:solidFill>
                <a:latin typeface="Calibri"/>
              </a:rPr>
              <a:t>electronic logging</a:t>
            </a:r>
            <a:r>
              <a:rPr b="0" lang="en-US" sz="2400" spc="-1" strike="noStrike">
                <a:solidFill>
                  <a:srgbClr val="5f5f5f"/>
                </a:solidFill>
                <a:latin typeface="Calibri"/>
              </a:rPr>
              <a:t> to track who entered at which time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n prevent entry by time of day to particular person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prone to error, theft, or impersonation?</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expensive to install &amp; maintain?</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ch system do you think is best?</a:t>
            </a:r>
            <a:endParaRPr b="0" lang="en-US" sz="2400" spc="-1" strike="noStrike">
              <a:solidFill>
                <a:srgbClr val="5f5f5f"/>
              </a:solidFill>
              <a:latin typeface="Calibri"/>
            </a:endParaRPr>
          </a:p>
        </p:txBody>
      </p:sp>
      <p:sp>
        <p:nvSpPr>
          <p:cNvPr id="809" name="Text Box 17"/>
          <p:cNvSpPr/>
          <p:nvPr/>
        </p:nvSpPr>
        <p:spPr>
          <a:xfrm>
            <a:off x="4269600" y="457200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3-6-4</a:t>
            </a:r>
            <a:endParaRPr b="0" lang="en-US" sz="1800" spc="-1" strike="noStrike">
              <a:solidFill>
                <a:srgbClr val="002143"/>
              </a:solidFill>
              <a:latin typeface="Arial"/>
            </a:endParaRPr>
          </a:p>
        </p:txBody>
      </p:sp>
      <p:sp>
        <p:nvSpPr>
          <p:cNvPr id="810" name="Rectangle 18"/>
          <p:cNvSpPr/>
          <p:nvPr/>
        </p:nvSpPr>
        <p:spPr>
          <a:xfrm>
            <a:off x="1600200" y="5486400"/>
            <a:ext cx="380880" cy="685800"/>
          </a:xfrm>
          <a:prstGeom prst="rect">
            <a:avLst/>
          </a:prstGeom>
          <a:solidFill>
            <a:srgbClr val="ffff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11" name="Line 19"/>
          <p:cNvSpPr/>
          <p:nvPr/>
        </p:nvSpPr>
        <p:spPr>
          <a:xfrm>
            <a:off x="1905120" y="5486400"/>
            <a:ext cx="0" cy="68580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12" name="Text Box 20"/>
          <p:cNvSpPr/>
          <p:nvPr/>
        </p:nvSpPr>
        <p:spPr>
          <a:xfrm>
            <a:off x="3507120" y="21337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ey</a:t>
            </a:r>
            <a:endParaRPr b="0" lang="en-US" sz="1800" spc="-1" strike="noStrike">
              <a:solidFill>
                <a:srgbClr val="002143"/>
              </a:solidFill>
              <a:latin typeface="Arial"/>
            </a:endParaRPr>
          </a:p>
        </p:txBody>
      </p:sp>
      <p:sp>
        <p:nvSpPr>
          <p:cNvPr id="813" name="Text Box 21"/>
          <p:cNvSpPr/>
          <p:nvPr/>
        </p:nvSpPr>
        <p:spPr>
          <a:xfrm>
            <a:off x="611640" y="289548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ye</a:t>
            </a:r>
            <a:endParaRPr b="0" lang="en-US" sz="1800" spc="-1" strike="noStrike">
              <a:solidFill>
                <a:srgbClr val="00214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68544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adman Doors</a:t>
            </a:r>
            <a:endParaRPr b="1" lang="en-US" sz="3600" spc="-1" strike="noStrike">
              <a:solidFill>
                <a:srgbClr val="00468a"/>
              </a:solidFill>
              <a:latin typeface="Calibri"/>
            </a:endParaRPr>
          </a:p>
        </p:txBody>
      </p:sp>
      <p:sp>
        <p:nvSpPr>
          <p:cNvPr id="815" name="PlaceHolder 2"/>
          <p:cNvSpPr>
            <a:spLocks noGrp="1"/>
          </p:cNvSpPr>
          <p:nvPr>
            <p:ph/>
          </p:nvPr>
        </p:nvSpPr>
        <p:spPr>
          <a:xfrm>
            <a:off x="4648320" y="1980720"/>
            <a:ext cx="4038480" cy="3886200"/>
          </a:xfrm>
          <a:prstGeom prst="rect">
            <a:avLst/>
          </a:prstGeom>
          <a:noFill/>
          <a:ln w="0">
            <a:noFill/>
          </a:ln>
        </p:spPr>
        <p:txBody>
          <a:bodyPr lIns="0" rIns="0" tIns="0" bIns="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ouble set of doors: only one can be open at a time</a:t>
            </a:r>
            <a:endParaRPr b="0" lang="en-US" sz="28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ne person permitted in holding area</a:t>
            </a:r>
            <a:endParaRPr b="0" lang="en-US" sz="28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duces risk of </a:t>
            </a:r>
            <a:r>
              <a:rPr b="1" lang="en-US" sz="2800" spc="-1" strike="noStrike">
                <a:solidFill>
                  <a:srgbClr val="5f5f5f"/>
                </a:solidFill>
                <a:latin typeface="Calibri"/>
              </a:rPr>
              <a:t>piggybacking</a:t>
            </a:r>
            <a:r>
              <a:rPr b="0" lang="en-US" sz="2800" spc="-1" strike="noStrike">
                <a:solidFill>
                  <a:srgbClr val="5f5f5f"/>
                </a:solidFill>
                <a:latin typeface="Calibri"/>
              </a:rPr>
              <a:t>: unauthorized person follows authorized person into restricted area</a:t>
            </a:r>
            <a:endParaRPr b="0" lang="en-US" sz="2800" spc="-1" strike="noStrike">
              <a:solidFill>
                <a:srgbClr val="5f5f5f"/>
              </a:solidFill>
              <a:latin typeface="Calibri"/>
            </a:endParaRPr>
          </a:p>
        </p:txBody>
      </p:sp>
      <p:sp>
        <p:nvSpPr>
          <p:cNvPr id="816" name="Rectangle 4"/>
          <p:cNvSpPr/>
          <p:nvPr/>
        </p:nvSpPr>
        <p:spPr>
          <a:xfrm>
            <a:off x="1828800" y="2895480"/>
            <a:ext cx="1523880" cy="1828800"/>
          </a:xfrm>
          <a:prstGeom prst="rect">
            <a:avLst/>
          </a:prstGeom>
          <a:solidFill>
            <a:srgbClr val="00468a"/>
          </a:solidFill>
          <a:ln w="255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17" name="AutoShape 5"/>
          <p:cNvSpPr/>
          <p:nvPr/>
        </p:nvSpPr>
        <p:spPr>
          <a:xfrm rot="19735800">
            <a:off x="320400" y="3335400"/>
            <a:ext cx="1828800" cy="304560"/>
          </a:xfrm>
          <a:prstGeom prst="cube">
            <a:avLst>
              <a:gd name="adj" fmla="val 25000"/>
            </a:avLst>
          </a:prstGeom>
          <a:solidFill>
            <a:srgbClr val="ededed"/>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18" name="AutoShape 7"/>
          <p:cNvSpPr/>
          <p:nvPr/>
        </p:nvSpPr>
        <p:spPr>
          <a:xfrm rot="19567200">
            <a:off x="380520" y="3505320"/>
            <a:ext cx="381240" cy="380880"/>
          </a:xfrm>
          <a:custGeom>
            <a:avLst/>
            <a:gdLst>
              <a:gd name="textAreaLeft" fmla="*/ 0 w 381240"/>
              <a:gd name="textAreaRight" fmla="*/ 381600 w 381240"/>
              <a:gd name="textAreaTop" fmla="*/ 0 h 380880"/>
              <a:gd name="textAreaBottom" fmla="*/ 136080 h 38088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dc3f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19" name="AutoShape 8"/>
          <p:cNvSpPr/>
          <p:nvPr/>
        </p:nvSpPr>
        <p:spPr>
          <a:xfrm rot="5400000">
            <a:off x="3123720" y="4267080"/>
            <a:ext cx="381240" cy="381240"/>
          </a:xfrm>
          <a:custGeom>
            <a:avLst/>
            <a:gdLst>
              <a:gd name="textAreaLeft" fmla="*/ 0 w 381240"/>
              <a:gd name="textAreaRight" fmla="*/ 381600 w 381240"/>
              <a:gd name="textAreaTop" fmla="*/ 0 h 381240"/>
              <a:gd name="textAreaBottom" fmla="*/ 136080 h 3812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dc3f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20" name="AutoShape 10"/>
          <p:cNvSpPr/>
          <p:nvPr/>
        </p:nvSpPr>
        <p:spPr>
          <a:xfrm>
            <a:off x="3124080" y="2895480"/>
            <a:ext cx="228600" cy="1828800"/>
          </a:xfrm>
          <a:prstGeom prst="cube">
            <a:avLst>
              <a:gd name="adj" fmla="val 25000"/>
            </a:avLst>
          </a:prstGeom>
          <a:solidFill>
            <a:srgbClr val="ededed"/>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21" name="AutoShape 11"/>
          <p:cNvSpPr/>
          <p:nvPr/>
        </p:nvSpPr>
        <p:spPr>
          <a:xfrm rot="8815200">
            <a:off x="533160" y="3809520"/>
            <a:ext cx="380880" cy="381240"/>
          </a:xfrm>
          <a:custGeom>
            <a:avLst/>
            <a:gdLst>
              <a:gd name="textAreaLeft" fmla="*/ 0 w 380880"/>
              <a:gd name="textAreaRight" fmla="*/ 381240 w 380880"/>
              <a:gd name="textAreaTop" fmla="*/ 0 h 381240"/>
              <a:gd name="textAreaBottom" fmla="*/ 136080 h 3812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dc3f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22" name="AutoShape 12"/>
          <p:cNvSpPr/>
          <p:nvPr/>
        </p:nvSpPr>
        <p:spPr>
          <a:xfrm rot="16200000">
            <a:off x="2971440" y="4266720"/>
            <a:ext cx="381240" cy="380880"/>
          </a:xfrm>
          <a:custGeom>
            <a:avLst/>
            <a:gdLst>
              <a:gd name="textAreaLeft" fmla="*/ 0 w 381240"/>
              <a:gd name="textAreaRight" fmla="*/ 381600 w 381240"/>
              <a:gd name="textAreaTop" fmla="*/ 0 h 380880"/>
              <a:gd name="textAreaBottom" fmla="*/ 136080 h 38088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dc3f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puters in Public Places</a:t>
            </a:r>
            <a:endParaRPr b="1" lang="en-US" sz="3600" spc="-1" strike="noStrike">
              <a:solidFill>
                <a:srgbClr val="00468a"/>
              </a:solidFill>
              <a:latin typeface="Calibri"/>
            </a:endParaRPr>
          </a:p>
        </p:txBody>
      </p:sp>
      <p:sp>
        <p:nvSpPr>
          <p:cNvPr id="824"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Logical Protections</a:t>
            </a:r>
            <a:endParaRPr b="0" lang="en-US" sz="2400" spc="-1" strike="noStrike">
              <a:solidFill>
                <a:srgbClr val="5f5f5f"/>
              </a:solidFill>
              <a:latin typeface="Calibri"/>
            </a:endParaRPr>
          </a:p>
        </p:txBody>
      </p:sp>
      <p:sp>
        <p:nvSpPr>
          <p:cNvPr id="825" name=""/>
          <p:cNvSpPr txBox="1"/>
          <p:nvPr/>
        </p:nvSpPr>
        <p:spPr>
          <a:xfrm>
            <a:off x="456840" y="2174760"/>
            <a:ext cx="4040280" cy="4073760"/>
          </a:xfrm>
          <a:prstGeom prst="rect">
            <a:avLst/>
          </a:prstGeom>
          <a:noFill/>
          <a:ln w="0">
            <a:noFill/>
          </a:ln>
        </p:spPr>
        <p:txBody>
          <a:bodyPr lIns="0" rIns="0" tIns="0" bIns="0" anchor="t">
            <a:normAutofit fontScale="95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maged computers</a:t>
            </a:r>
            <a:endParaRPr b="0" lang="en-US" sz="2000" spc="-1" strike="noStrike">
              <a:solidFill>
                <a:srgbClr val="5f5f5f"/>
              </a:solidFill>
              <a:latin typeface="Calibri"/>
            </a:endParaRPr>
          </a:p>
          <a:p>
            <a:pPr lvl="1" marL="271440" indent="-2714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o client storage for programs and/or data</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tivirus / antispyware</a:t>
            </a:r>
            <a:endParaRPr b="0" lang="en-US" sz="2000" spc="-1" strike="noStrike">
              <a:solidFill>
                <a:srgbClr val="5f5f5f"/>
              </a:solidFill>
              <a:latin typeface="Calibri"/>
            </a:endParaRPr>
          </a:p>
          <a:p>
            <a:pPr lvl="1" marL="271440" indent="-2714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rotects users from each other</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eb filters</a:t>
            </a:r>
            <a:endParaRPr b="0" lang="en-US" sz="2000" spc="-1" strike="noStrike">
              <a:solidFill>
                <a:srgbClr val="5f5f5f"/>
              </a:solidFill>
              <a:latin typeface="Calibri"/>
            </a:endParaRPr>
          </a:p>
          <a:p>
            <a:pPr lvl="1" marL="271440" indent="-2714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void pornography, violence, adult conten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ogin/passwords </a:t>
            </a:r>
            <a:endParaRPr b="0" lang="en-US" sz="2000" spc="-1" strike="noStrike">
              <a:solidFill>
                <a:srgbClr val="5f5f5f"/>
              </a:solidFill>
              <a:latin typeface="Calibri"/>
            </a:endParaRPr>
          </a:p>
          <a:p>
            <a:pPr lvl="1" marL="271440" indent="-2714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f privileged clientele allowed</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irewall protection from rest of organization</a:t>
            </a:r>
            <a:endParaRPr b="0" lang="en-US" sz="2000" spc="-1" strike="noStrike">
              <a:solidFill>
                <a:srgbClr val="5f5f5f"/>
              </a:solidFill>
              <a:latin typeface="Calibri"/>
            </a:endParaRPr>
          </a:p>
        </p:txBody>
      </p:sp>
      <p:sp>
        <p:nvSpPr>
          <p:cNvPr id="826"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hysical Locks</a:t>
            </a:r>
            <a:endParaRPr b="0" lang="en-US" sz="2400" spc="-1" strike="noStrike">
              <a:solidFill>
                <a:srgbClr val="5f5f5f"/>
              </a:solidFill>
              <a:latin typeface="Calibri"/>
            </a:endParaRPr>
          </a:p>
        </p:txBody>
      </p:sp>
      <p:pic>
        <p:nvPicPr>
          <p:cNvPr id="827" name="Content Placeholder 6" descr="DSC02677.JPG"/>
          <p:cNvPicPr/>
          <p:nvPr/>
        </p:nvPicPr>
        <p:blipFill>
          <a:blip r:embed="rId1"/>
          <a:stretch/>
        </p:blipFill>
        <p:spPr>
          <a:xfrm>
            <a:off x="5184720" y="2174760"/>
            <a:ext cx="2962440" cy="3951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mercial Copy Machines</a:t>
            </a:r>
            <a:endParaRPr b="1" lang="en-US" sz="3600" spc="-1" strike="noStrike">
              <a:solidFill>
                <a:srgbClr val="00468a"/>
              </a:solidFill>
              <a:latin typeface="Calibri"/>
            </a:endParaRPr>
          </a:p>
        </p:txBody>
      </p:sp>
      <p:sp>
        <p:nvSpPr>
          <p:cNvPr id="829" name=""/>
          <p:cNvSpPr txBox="1"/>
          <p:nvPr/>
        </p:nvSpPr>
        <p:spPr>
          <a:xfrm>
            <a:off x="457200" y="1676160"/>
            <a:ext cx="4952880" cy="3886200"/>
          </a:xfrm>
          <a:prstGeom prst="rect">
            <a:avLst/>
          </a:prstGeom>
          <a:noFill/>
          <a:ln w="0">
            <a:noFill/>
          </a:ln>
        </p:spPr>
        <p:txBody>
          <a:bodyPr lIns="0" rIns="0" tIns="0" bIns="0" anchor="t">
            <a:normAutofit fontScale="89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arge disk storage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may be sensitive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net access or stolen disk</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features: </a:t>
            </a:r>
            <a:endParaRPr b="0" lang="en-US" sz="2400" spc="-1" strike="noStrike">
              <a:solidFill>
                <a:srgbClr val="5f5f5f"/>
              </a:solidFill>
              <a:latin typeface="Calibri"/>
            </a:endParaRPr>
          </a:p>
          <a:p>
            <a:pPr>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crypted disks </a:t>
            </a:r>
            <a:endParaRPr b="0" lang="en-US" sz="2400" spc="-1" strike="noStrike">
              <a:solidFill>
                <a:srgbClr val="5f5f5f"/>
              </a:solidFill>
              <a:latin typeface="Calibri"/>
            </a:endParaRPr>
          </a:p>
          <a:p>
            <a:pPr>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verwrite: writes random data daily or weekly, or per job. </a:t>
            </a:r>
            <a:endParaRPr b="0" lang="en-US" sz="2400" spc="-1" strike="noStrike">
              <a:solidFill>
                <a:srgbClr val="5f5f5f"/>
              </a:solidFill>
              <a:latin typeface="Calibri"/>
            </a:endParaRPr>
          </a:p>
          <a:p>
            <a:pPr>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ract: Copier is returned without disk(s) or disks are securely destroyed by contractor.</a:t>
            </a:r>
            <a:endParaRPr b="0" lang="en-US" sz="2400" spc="-1" strike="noStrike">
              <a:solidFill>
                <a:srgbClr val="5f5f5f"/>
              </a:solidFill>
              <a:latin typeface="Calibri"/>
            </a:endParaRPr>
          </a:p>
        </p:txBody>
      </p:sp>
      <p:pic>
        <p:nvPicPr>
          <p:cNvPr id="830" name="Picture 2" descr="C:\Users\lincke\AppData\Local\Microsoft\Windows\Temporary Internet Files\Content.IE5\WYPWMHBL\MM900282792[1].gif"/>
          <p:cNvPicPr/>
          <p:nvPr/>
        </p:nvPicPr>
        <p:blipFill>
          <a:blip r:embed="rId1"/>
          <a:stretch/>
        </p:blipFill>
        <p:spPr>
          <a:xfrm>
            <a:off x="5378400" y="1905120"/>
            <a:ext cx="3240000" cy="3352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  </a:t>
            </a:r>
            <a:r>
              <a:rPr b="1" lang="en-US" sz="3600" spc="-1" strike="noStrike">
                <a:solidFill>
                  <a:srgbClr val="00468a"/>
                </a:solidFill>
                <a:latin typeface="Calibri"/>
              </a:rPr>
              <a:t>Mobile Computing</a:t>
            </a:r>
            <a:endParaRPr b="1" lang="en-US" sz="3600" spc="-1" strike="noStrike">
              <a:solidFill>
                <a:srgbClr val="00468a"/>
              </a:solidFill>
              <a:latin typeface="Calibri"/>
            </a:endParaRPr>
          </a:p>
        </p:txBody>
      </p:sp>
      <p:sp>
        <p:nvSpPr>
          <p:cNvPr id="832"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grave a serial number  and company name/logo on laptop using engraver or tamper-resistant tag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ck up critical/sensitive data</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 cable locking system</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crypt sensitive fil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ocate passwords to individual files </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sider if password forgotten or person leaves company…?</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ablish a theft response team for when a laptop is stolen.  </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port loss of laptop to police</a:t>
            </a:r>
            <a:endParaRPr b="0" lang="en-US" sz="20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termine effect of lost or compromised data on company, clients, third parties</a:t>
            </a:r>
            <a:endParaRPr b="0" lang="en-US" sz="2000" spc="-1" strike="noStrike">
              <a:solidFill>
                <a:srgbClr val="5f5f5f"/>
              </a:solidFill>
              <a:latin typeface="Calibri"/>
            </a:endParaRPr>
          </a:p>
        </p:txBody>
      </p:sp>
      <p:pic>
        <p:nvPicPr>
          <p:cNvPr id="833" name="Picture 4" descr="BD18215_"/>
          <p:cNvPicPr/>
          <p:nvPr/>
        </p:nvPicPr>
        <p:blipFill>
          <a:blip r:embed="rId1"/>
          <a:stretch/>
        </p:blipFill>
        <p:spPr>
          <a:xfrm>
            <a:off x="6248520" y="533520"/>
            <a:ext cx="1209600" cy="923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r>
              <a:rPr b="1" lang="en-US" sz="3600" spc="-1" strike="noStrike">
                <a:solidFill>
                  <a:srgbClr val="00468a"/>
                </a:solidFill>
                <a:latin typeface="Calibri"/>
              </a:rPr>
              <a:t>	</a:t>
            </a:r>
            <a:endParaRPr b="1" lang="en-US" sz="3600" spc="-1" strike="noStrike">
              <a:solidFill>
                <a:srgbClr val="00468a"/>
              </a:solidFill>
              <a:latin typeface="Calibri"/>
            </a:endParaRPr>
          </a:p>
        </p:txBody>
      </p:sp>
      <p:sp>
        <p:nvSpPr>
          <p:cNvPr id="688"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e students should be able to:</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power failures: blackout, brownout, sags, spike &amp; surges, electromagnetic interference (EMI)</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protections against power failures: surge protector, universal power supply (UPS) , alternate power generator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nd describe mediums for Fire Suppression System: dry pipe, charged, FM200, Argonit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physical access controls: biometric door locks, bolting, deadman door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the relationship between deadman door and piggybacking</a:t>
            </a:r>
            <a:endParaRPr b="0" lang="en-US" sz="18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vice Security</a:t>
            </a:r>
            <a:endParaRPr b="1" lang="en-US" sz="3600" spc="-1" strike="noStrike">
              <a:solidFill>
                <a:srgbClr val="00468a"/>
              </a:solidFill>
              <a:latin typeface="Calibri"/>
            </a:endParaRPr>
          </a:p>
        </p:txBody>
      </p:sp>
      <p:sp>
        <p:nvSpPr>
          <p:cNvPr id="835"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martphones &amp; PDA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roved &amp; register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figuration: controlled, licensed, &amp; tested S/W</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ncryption</a:t>
            </a:r>
            <a:endParaRPr b="0" lang="en-US" sz="20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tiviru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aining &amp; Due Care (including camera use)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asily misplaced</a:t>
            </a:r>
            <a:endParaRPr b="0" lang="en-US" sz="2000" spc="-1" strike="noStrike">
              <a:solidFill>
                <a:srgbClr val="5f5f5f"/>
              </a:solidFill>
              <a:latin typeface="Calibri"/>
            </a:endParaRPr>
          </a:p>
        </p:txBody>
      </p:sp>
      <p:sp>
        <p:nvSpPr>
          <p:cNvPr id="836" name=""/>
          <p:cNvSpPr txBox="1"/>
          <p:nvPr/>
        </p:nvSpPr>
        <p:spPr>
          <a:xfrm>
            <a:off x="464832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lash &amp; Mini Hard Driv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nned and USB disabled </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crypt all data</a:t>
            </a:r>
            <a:endParaRPr b="0" lang="en-US" sz="2400" spc="-1" strike="noStrike">
              <a:solidFill>
                <a:srgbClr val="5f5f5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kimmers inserted in ATM/POS to record payment card inform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ome in all sizes and colors to match targets.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inhole cameras record PIN codes.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nstalled in seconds.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ata collected wirelessl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often installed by outsiders, sometimes insiders (waiters, cashiers, bank tellers) may be solicited to record, skim or install skimmers as collus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lternative attack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oS devices can be quickly replaced by an identical device with a skimmer installed; the stolen PoS device is also altered and put into service elsewhere.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 partner ‘customer’ distracts the attendant while the skimmer is installed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TM &amp; Point-of-Sale: Skimmer Problems</a:t>
            </a:r>
            <a:endParaRPr b="1" lang="en-US" sz="3600" spc="-1" strike="noStrike">
              <a:solidFill>
                <a:srgbClr val="00468a"/>
              </a:solidFill>
              <a:latin typeface="Calibri"/>
            </a:endParaRPr>
          </a:p>
        </p:txBody>
      </p:sp>
      <p:pic>
        <p:nvPicPr>
          <p:cNvPr id="839" name="Picture 2" descr="C:\Users\lincke\AppData\Local\Microsoft\Windows\Temporary Internet Files\Content.IE5\Z5SBT0YZ\01_ATM[1].jpg"/>
          <p:cNvPicPr/>
          <p:nvPr/>
        </p:nvPicPr>
        <p:blipFill>
          <a:blip r:embed="rId1"/>
          <a:stretch/>
        </p:blipFill>
        <p:spPr>
          <a:xfrm>
            <a:off x="6719760" y="1538280"/>
            <a:ext cx="1890720" cy="189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22360" y="1519200"/>
            <a:ext cx="8136000" cy="4880160"/>
          </a:xfrm>
          <a:prstGeom prst="rect">
            <a:avLst/>
          </a:prstGeom>
          <a:noFill/>
          <a:ln w="0">
            <a:noFill/>
          </a:ln>
        </p:spPr>
        <p:txBody>
          <a:bodyPr lIns="0" rIns="0" tIns="0" bIns="0" anchor="t">
            <a:normAutofit fontScale="95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stalling devices in a tamper-proof way according to direction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event booting from an infected CD</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CI DSS requires:</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rganizations inventory PoS/ATM devices, listing make, model, serial number and location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epare policies to inspect devices periodically; more frequently in public place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rain employees to:</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cognize tampering and substitution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cedure should include a picture and recorded serial number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port suspicious actions: unplugging devices or intimidation.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eck for loose part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lternatively,  mark device with an ultraviolet light marker.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8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rotecting PoS &amp; ATMs</a:t>
            </a:r>
            <a:endParaRPr b="1" lang="en-US" sz="3600" spc="-1" strike="noStrike">
              <a:solidFill>
                <a:srgbClr val="00468a"/>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22360" y="1519200"/>
            <a:ext cx="8136000" cy="48801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CI DSS requires that entry to sensitive data centers that process or store payment card data be monitored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 individual access via keycard or biometric identification, video, or Close Circuit TV (CCTV)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refully authenticate anyone claiming to be a PoS/ATM maintenance pers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8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ata Centers with Payment Card Info</a:t>
            </a:r>
            <a:endParaRPr b="1" lang="en-US" sz="3600" spc="-1" strike="noStrike">
              <a:solidFill>
                <a:srgbClr val="00468a"/>
              </a:solidFill>
              <a:latin typeface="Calibri"/>
            </a:endParaRPr>
          </a:p>
        </p:txBody>
      </p:sp>
      <p:pic>
        <p:nvPicPr>
          <p:cNvPr id="844" name="Picture 2" descr="C:\Users\lincke\AppData\Local\Microsoft\Windows\Temporary Internet Files\Content.IE5\BVT6P6O2\506521,1321717086,3[1].jpg"/>
          <p:cNvPicPr/>
          <p:nvPr/>
        </p:nvPicPr>
        <p:blipFill>
          <a:blip r:embed="rId1"/>
          <a:stretch/>
        </p:blipFill>
        <p:spPr>
          <a:xfrm>
            <a:off x="5105520" y="4038480"/>
            <a:ext cx="3017880" cy="2708280"/>
          </a:xfrm>
          <a:prstGeom prst="rect">
            <a:avLst/>
          </a:prstGeom>
          <a:ln w="0">
            <a:noFill/>
          </a:ln>
        </p:spPr>
      </p:pic>
      <p:pic>
        <p:nvPicPr>
          <p:cNvPr id="845" name="Picture 3" descr="C:\Users\lincke\AppData\Local\Microsoft\Windows\Temporary Internet Files\Content.IE5\454Q2INE\Mente_Criminal[1].JPG"/>
          <p:cNvPicPr/>
          <p:nvPr/>
        </p:nvPicPr>
        <p:blipFill>
          <a:blip r:embed="rId2"/>
          <a:stretch/>
        </p:blipFill>
        <p:spPr>
          <a:xfrm>
            <a:off x="3094200" y="4978440"/>
            <a:ext cx="2520720" cy="189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TM &amp; Point-of-Sale: Smash &amp; Grab attack</a:t>
            </a:r>
            <a:endParaRPr b="1" lang="en-US" sz="3600" spc="-1" strike="noStrike">
              <a:solidFill>
                <a:srgbClr val="00468a"/>
              </a:solidFill>
              <a:latin typeface="Calibri"/>
            </a:endParaRPr>
          </a:p>
        </p:txBody>
      </p:sp>
      <p:sp>
        <p:nvSpPr>
          <p:cNvPr id="847" name="PlaceHolder 2"/>
          <p:cNvSpPr>
            <a:spLocks noGrp="1"/>
          </p:cNvSpPr>
          <p:nvPr>
            <p:ph/>
          </p:nvPr>
        </p:nvSpPr>
        <p:spPr>
          <a:xfrm>
            <a:off x="522360" y="1511280"/>
            <a:ext cx="3959280" cy="287280"/>
          </a:xfrm>
          <a:prstGeom prst="rect">
            <a:avLst/>
          </a:prstGeom>
          <a:noFill/>
          <a:ln w="0">
            <a:noFill/>
          </a:ln>
        </p:spPr>
        <p:txBody>
          <a:bodyPr lIns="0" rIns="0" tIns="0" bIns="0" anchor="t">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he Attack</a:t>
            </a:r>
            <a:endParaRPr b="0" lang="en-US" sz="2400" spc="-1" strike="noStrike">
              <a:solidFill>
                <a:srgbClr val="5f5f5f"/>
              </a:solidFill>
              <a:latin typeface="Calibri"/>
            </a:endParaRPr>
          </a:p>
        </p:txBody>
      </p:sp>
      <p:sp>
        <p:nvSpPr>
          <p:cNvPr id="848" name=""/>
          <p:cNvSpPr txBox="1"/>
          <p:nvPr/>
        </p:nvSpPr>
        <p:spPr>
          <a:xfrm>
            <a:off x="522360" y="1944360"/>
            <a:ext cx="3959280" cy="2158920"/>
          </a:xfrm>
          <a:prstGeom prst="rect">
            <a:avLst/>
          </a:prstGeom>
          <a:noFill/>
          <a:ln w="0">
            <a:noFill/>
          </a:ln>
        </p:spPr>
        <p:txBody>
          <a:bodyPr lIns="0" rIns="0" tIns="0" bIns="0" anchor="t">
            <a:normAutofit fontScale="67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riminals attack via the Internet:</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ep 1: social engineering establishes foothold in the network  OR</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mote access network  scan finds PoS machine</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ep 2: brute force password guesser obtains access to the PoS device </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ep 3: Upon login to POS/ATM, install spyware such as PIN keystoke loggers and RAM scrapers, to record payment card information</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849" name="PlaceHolder 3"/>
          <p:cNvSpPr>
            <a:spLocks noGrp="1"/>
          </p:cNvSpPr>
          <p:nvPr>
            <p:ph/>
          </p:nvPr>
        </p:nvSpPr>
        <p:spPr>
          <a:xfrm>
            <a:off x="4680000" y="1511280"/>
            <a:ext cx="3960720" cy="287280"/>
          </a:xfrm>
          <a:prstGeom prst="rect">
            <a:avLst/>
          </a:prstGeom>
          <a:noFill/>
          <a:ln w="0">
            <a:noFill/>
          </a:ln>
        </p:spPr>
        <p:txBody>
          <a:bodyPr lIns="0" rIns="0" tIns="0" bIns="0" anchor="t">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ntrols</a:t>
            </a:r>
            <a:endParaRPr b="0" lang="en-US" sz="2400" spc="-1" strike="noStrike">
              <a:solidFill>
                <a:srgbClr val="5f5f5f"/>
              </a:solidFill>
              <a:latin typeface="Calibri"/>
            </a:endParaRPr>
          </a:p>
        </p:txBody>
      </p:sp>
      <p:sp>
        <p:nvSpPr>
          <p:cNvPr id="850" name=""/>
          <p:cNvSpPr txBox="1"/>
          <p:nvPr/>
        </p:nvSpPr>
        <p:spPr>
          <a:xfrm>
            <a:off x="4680000" y="1944360"/>
            <a:ext cx="3960720" cy="2158920"/>
          </a:xfrm>
          <a:prstGeom prst="rect">
            <a:avLst/>
          </a:prstGeom>
          <a:noFill/>
          <a:ln w="0">
            <a:noFill/>
          </a:ln>
        </p:spPr>
        <p:txBody>
          <a:bodyPr lIns="0" rIns="0" tIns="0" bIns="0" anchor="t">
            <a:normAutofit fontScale="60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strict remote access</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Use antivirus software </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Use strong (2-factor) authentication for PoS/ATM devices: e.g.,</a:t>
            </a:r>
            <a:endParaRPr b="0" lang="en-US" sz="2000" spc="-1" strike="noStrike">
              <a:solidFill>
                <a:srgbClr val="5f5f5f"/>
              </a:solidFill>
              <a:latin typeface="Calibri"/>
            </a:endParaRPr>
          </a:p>
          <a:p>
            <a:pPr>
              <a:lnSpc>
                <a:spcPct val="100000"/>
              </a:lnSpc>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at-you-know: a long and different password for each device</a:t>
            </a:r>
            <a:endParaRPr b="0" lang="en-US" sz="2000" spc="-1" strike="noStrike">
              <a:solidFill>
                <a:srgbClr val="5f5f5f"/>
              </a:solidFill>
              <a:latin typeface="Calibri"/>
            </a:endParaRPr>
          </a:p>
          <a:p>
            <a:pPr>
              <a:lnSpc>
                <a:spcPct val="100000"/>
              </a:lnSpc>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at-you-have: a one-time password for remote access</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cently patch all from OS to PoS app</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move other applications</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event any use of these devices for other purposes</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ncrypt all customer data</a:t>
            </a:r>
            <a:endParaRPr b="0" lang="en-US" sz="20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533160" y="1523880"/>
            <a:ext cx="813564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Smart payment cards </a:t>
            </a:r>
            <a:r>
              <a:rPr b="0" lang="en-US" sz="2000" spc="-1" strike="noStrike">
                <a:solidFill>
                  <a:srgbClr val="5f5f5f"/>
                </a:solidFill>
                <a:latin typeface="Calibri"/>
              </a:rPr>
              <a:t>with installed chips are difficult to counterfeit. </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arget date of October 2015 for updating PoS devices to accept EMV card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Common Point of Purchase (CPP) </a:t>
            </a:r>
            <a:r>
              <a:rPr b="0" lang="en-US" sz="2000" spc="-1" strike="noStrike">
                <a:solidFill>
                  <a:srgbClr val="5f5f5f"/>
                </a:solidFill>
                <a:latin typeface="Calibri"/>
              </a:rPr>
              <a:t>analysis finds common points of purchases to determine where crime originated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Audits</a:t>
            </a:r>
            <a:r>
              <a:rPr b="0" lang="en-US" sz="2000" spc="-1" strike="noStrike">
                <a:solidFill>
                  <a:srgbClr val="5f5f5f"/>
                </a:solidFill>
                <a:latin typeface="Calibri"/>
              </a:rPr>
              <a:t> of ATM/POS require:</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TM/PCI Devices adhere to the latest standards of PCI compliance for such machines.  </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olicies and procedures for PoS/ATM must be comprehensive, outlining overrides and balances, security controls, incident response, disaster recovery, maintenance and audit trails and their review.  </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f any information is stored in the device =&gt;strong encryption  </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f an organization issues PINs, policies and procedures safeguard those processes </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f organization develops its own payment card  implementation, additional PCI DSS requirements apply</a:t>
            </a:r>
            <a:endParaRPr b="0" lang="en-US" sz="2000" spc="-1" strike="noStrike">
              <a:solidFill>
                <a:srgbClr val="5f5f5f"/>
              </a:solidFill>
              <a:latin typeface="Calibri"/>
            </a:endParaRPr>
          </a:p>
        </p:txBody>
      </p:sp>
      <p:sp>
        <p:nvSpPr>
          <p:cNvPr id="8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ther Payment Card Controls</a:t>
            </a:r>
            <a:endParaRPr b="1" lang="en-US" sz="3600" spc="-1" strike="noStrike">
              <a:solidFill>
                <a:srgbClr val="00468a"/>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hysical Security</a:t>
            </a:r>
            <a:br>
              <a:rPr sz="3200"/>
            </a:br>
            <a:r>
              <a:rPr b="1" lang="en-US" sz="3600" spc="-1" strike="noStrike">
                <a:solidFill>
                  <a:srgbClr val="00468a"/>
                </a:solidFill>
                <a:latin typeface="Calibri"/>
              </a:rPr>
              <a:t>Room Classifications</a:t>
            </a:r>
            <a:endParaRPr b="1" lang="en-US" sz="3600" spc="-1" strike="noStrike">
              <a:solidFill>
                <a:srgbClr val="00468a"/>
              </a:solidFill>
              <a:latin typeface="Calibri"/>
            </a:endParaRPr>
          </a:p>
        </p:txBody>
      </p:sp>
      <p:graphicFrame>
        <p:nvGraphicFramePr>
          <p:cNvPr id="854" name=""/>
          <p:cNvGraphicFramePr/>
          <p:nvPr/>
        </p:nvGraphicFramePr>
        <p:xfrm>
          <a:off x="228600" y="1981080"/>
          <a:ext cx="8686800" cy="4664160"/>
        </p:xfrm>
        <a:graphic>
          <a:graphicData uri="http://schemas.openxmlformats.org/drawingml/2006/table">
            <a:tbl>
              <a:tblPr/>
              <a:tblGrid>
                <a:gridCol w="1905120"/>
                <a:gridCol w="3124080"/>
                <a:gridCol w="3657600"/>
              </a:tblGrid>
              <a:tr h="82332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Sensitivity</a:t>
                      </a:r>
                      <a:endParaRPr b="0" lang="en-US" sz="24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Class.</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Description</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Special Treatment</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155484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ea typeface="Times New Roman"/>
                        </a:rPr>
                        <a:t>Confidential</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ea typeface="Times New Roman"/>
                        </a:rPr>
                        <a:t>Room contains </a:t>
                      </a:r>
                      <a:endParaRPr b="0" lang="en-US" sz="2400" spc="-1" strike="noStrike">
                        <a:solidFill>
                          <a:srgbClr val="00214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ea typeface="Times New Roman"/>
                        </a:rPr>
                        <a:t>Confidential info.</a:t>
                      </a:r>
                      <a:endParaRPr b="0" lang="en-US" sz="2400" spc="-1" strike="noStrike">
                        <a:solidFill>
                          <a:srgbClr val="00214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ea typeface="Times New Roman"/>
                        </a:rPr>
                        <a:t>storage or server</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rPr>
                        <a:t>Guard key entry. </a:t>
                      </a:r>
                      <a:endParaRPr b="0" lang="en-US" sz="2400" spc="-1" strike="noStrike">
                        <a:solidFill>
                          <a:srgbClr val="00214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rPr>
                        <a:t>Badge must be visible.</a:t>
                      </a:r>
                      <a:endParaRPr b="0" lang="en-US" sz="2400" spc="-1" strike="noStrike">
                        <a:solidFill>
                          <a:srgbClr val="00214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rPr>
                        <a:t>Visitors must be escorted</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30178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ea typeface="Times New Roman"/>
                        </a:rPr>
                        <a:t>Privileged</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ea typeface="Times New Roman"/>
                        </a:rPr>
                        <a:t>Room contains computer equipment or controlled substances</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ea typeface="Times New Roman"/>
                        </a:rPr>
                        <a:t>Computers are physically secured using cable locking system</a:t>
                      </a:r>
                      <a:endParaRPr b="0" lang="en-US" sz="2400" spc="-1" strike="noStrike">
                        <a:solidFill>
                          <a:srgbClr val="00214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empus Sans ITC"/>
                          <a:ea typeface="Times New Roman"/>
                        </a:rPr>
                        <a:t>Doors locked between 5 PM and 7 AM, and weekends unless class in session.  </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hysical Workbook:</a:t>
            </a:r>
            <a:br>
              <a:rPr sz="3600"/>
            </a:br>
            <a:r>
              <a:rPr b="1" lang="en-US" sz="3600" spc="-1" strike="noStrike">
                <a:solidFill>
                  <a:srgbClr val="00468a"/>
                </a:solidFill>
                <a:latin typeface="Calibri"/>
              </a:rPr>
              <a:t>Criticality Table</a:t>
            </a:r>
            <a:endParaRPr b="1" lang="en-US" sz="3600" spc="-1" strike="noStrike">
              <a:solidFill>
                <a:srgbClr val="00468a"/>
              </a:solidFill>
              <a:latin typeface="Calibri"/>
            </a:endParaRPr>
          </a:p>
        </p:txBody>
      </p:sp>
      <p:graphicFrame>
        <p:nvGraphicFramePr>
          <p:cNvPr id="856" name=""/>
          <p:cNvGraphicFramePr/>
          <p:nvPr/>
        </p:nvGraphicFramePr>
        <p:xfrm>
          <a:off x="609480" y="2514600"/>
          <a:ext cx="7772400" cy="3048120"/>
        </p:xfrm>
        <a:graphic>
          <a:graphicData uri="http://schemas.openxmlformats.org/drawingml/2006/table">
            <a:tbl>
              <a:tblPr/>
              <a:tblGrid>
                <a:gridCol w="1305000"/>
                <a:gridCol w="2935440"/>
                <a:gridCol w="3531960"/>
              </a:tblGrid>
              <a:tr h="61020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Times New Roman"/>
                          <a:ea typeface="Times New Roman"/>
                        </a:rPr>
                        <a:t>Criticality</a:t>
                      </a:r>
                      <a:endParaRPr b="0" lang="en-US" sz="20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Times New Roman"/>
                          <a:ea typeface="Times New Roman"/>
                        </a:rPr>
                        <a:t>Class.</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f9f9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Times New Roman"/>
                          <a:ea typeface="Times New Roman"/>
                        </a:rPr>
                        <a:t>Description</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f9f9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Times New Roman"/>
                          <a:ea typeface="Times New Roman"/>
                        </a:rPr>
                        <a:t>Special Treatment</a:t>
                      </a:r>
                      <a:endParaRPr b="0" lang="en-US" sz="20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imes New Roman"/>
                          <a:ea typeface="Times New Roman"/>
                        </a:rPr>
                        <a:t>(Controls related to Availability)</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f9f9f"/>
                    </a:solidFill>
                  </a:tcPr>
                </a:tc>
              </a:tr>
              <a:tr h="12200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imes New Roman"/>
                          <a:ea typeface="Times New Roman"/>
                        </a:rPr>
                        <a:t>Critical</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f9f9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imes New Roman"/>
                          <a:ea typeface="Times New Roman"/>
                        </a:rPr>
                        <a:t>Room contains Critical computing resources, which cannot be performed manually.</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empus Sans ITC"/>
                          <a:ea typeface="Times New Roman"/>
                        </a:rPr>
                        <a:t>Availability controls include: </a:t>
                      </a:r>
                      <a:endParaRPr b="0" lang="en-US" sz="20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empus Sans ITC"/>
                          <a:ea typeface="Times New Roman"/>
                        </a:rPr>
                        <a:t>Temperature control, UPS, smoke detector, fire suppressant. </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2200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imes New Roman"/>
                          <a:ea typeface="Times New Roman"/>
                        </a:rPr>
                        <a:t>Vital</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f9f9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imes New Roman"/>
                          <a:ea typeface="Times New Roman"/>
                        </a:rPr>
                        <a:t>Room contains Vital computing resources, which can be performed manually for a short time.</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empus Sans ITC"/>
                          <a:ea typeface="Times New Roman"/>
                        </a:rPr>
                        <a:t>Availability controls include:</a:t>
                      </a:r>
                      <a:endParaRPr b="0" lang="en-US" sz="20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Tempus Sans ITC"/>
                          <a:ea typeface="Times New Roman"/>
                        </a:rPr>
                        <a:t>surge protector, temperature control, fire extinguisher.</a:t>
                      </a:r>
                      <a:endParaRPr b="0" lang="en-US" sz="20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hysical Security</a:t>
            </a:r>
            <a:br>
              <a:rPr sz="3200"/>
            </a:br>
            <a:r>
              <a:rPr b="1" lang="en-US" sz="3600" spc="-1" strike="noStrike">
                <a:solidFill>
                  <a:srgbClr val="00468a"/>
                </a:solidFill>
                <a:latin typeface="Calibri"/>
              </a:rPr>
              <a:t>Physical Security map</a:t>
            </a:r>
            <a:endParaRPr b="1" lang="en-US" sz="3600" spc="-1" strike="noStrike">
              <a:solidFill>
                <a:srgbClr val="00468a"/>
              </a:solidFill>
              <a:latin typeface="Calibri"/>
            </a:endParaRPr>
          </a:p>
        </p:txBody>
      </p:sp>
      <p:sp>
        <p:nvSpPr>
          <p:cNvPr id="858" name="Rectangle 5"/>
          <p:cNvSpPr/>
          <p:nvPr/>
        </p:nvSpPr>
        <p:spPr>
          <a:xfrm>
            <a:off x="838080" y="1981080"/>
            <a:ext cx="7239240" cy="312444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59" name="Rectangle 6"/>
          <p:cNvSpPr/>
          <p:nvPr/>
        </p:nvSpPr>
        <p:spPr>
          <a:xfrm>
            <a:off x="2895480" y="1981080"/>
            <a:ext cx="1371600" cy="121932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m.</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124</a:t>
            </a:r>
            <a:endParaRPr b="0" lang="en-US" sz="1800" spc="-1" strike="noStrike">
              <a:solidFill>
                <a:srgbClr val="002143"/>
              </a:solidFill>
              <a:latin typeface="Arial"/>
            </a:endParaRPr>
          </a:p>
        </p:txBody>
      </p:sp>
      <p:sp>
        <p:nvSpPr>
          <p:cNvPr id="860" name="Rectangle 7"/>
          <p:cNvSpPr/>
          <p:nvPr/>
        </p:nvSpPr>
        <p:spPr>
          <a:xfrm>
            <a:off x="2971800" y="3886200"/>
            <a:ext cx="1371600" cy="121932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m.</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123</a:t>
            </a:r>
            <a:endParaRPr b="0" lang="en-US" sz="1800" spc="-1" strike="noStrike">
              <a:solidFill>
                <a:srgbClr val="002143"/>
              </a:solidFill>
              <a:latin typeface="Arial"/>
            </a:endParaRPr>
          </a:p>
        </p:txBody>
      </p:sp>
      <p:sp>
        <p:nvSpPr>
          <p:cNvPr id="861" name="Rectangle 8"/>
          <p:cNvSpPr/>
          <p:nvPr/>
        </p:nvSpPr>
        <p:spPr>
          <a:xfrm>
            <a:off x="4343400" y="3886200"/>
            <a:ext cx="1295280" cy="121932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m.</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125</a:t>
            </a:r>
            <a:endParaRPr b="0" lang="en-US" sz="1800" spc="-1" strike="noStrike">
              <a:solidFill>
                <a:srgbClr val="002143"/>
              </a:solidFill>
              <a:latin typeface="Arial"/>
            </a:endParaRPr>
          </a:p>
        </p:txBody>
      </p:sp>
      <p:sp>
        <p:nvSpPr>
          <p:cNvPr id="862" name="Rectangle 9"/>
          <p:cNvSpPr/>
          <p:nvPr/>
        </p:nvSpPr>
        <p:spPr>
          <a:xfrm>
            <a:off x="4267080" y="1981080"/>
            <a:ext cx="1295640" cy="121932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m.</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128</a:t>
            </a:r>
            <a:endParaRPr b="0" lang="en-US" sz="1800" spc="-1" strike="noStrike">
              <a:solidFill>
                <a:srgbClr val="002143"/>
              </a:solidFill>
              <a:latin typeface="Arial"/>
            </a:endParaRPr>
          </a:p>
        </p:txBody>
      </p:sp>
      <p:sp>
        <p:nvSpPr>
          <p:cNvPr id="863" name="Rectangle 10"/>
          <p:cNvSpPr/>
          <p:nvPr/>
        </p:nvSpPr>
        <p:spPr>
          <a:xfrm>
            <a:off x="6705720" y="1981080"/>
            <a:ext cx="1371600" cy="3124440"/>
          </a:xfrm>
          <a:prstGeom prst="rect">
            <a:avLst/>
          </a:prstGeom>
          <a:solidFill>
            <a:srgbClr val="002c5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m 132</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ility</a:t>
            </a:r>
            <a:endParaRPr b="0" lang="en-US" sz="1800" spc="-1" strike="noStrike">
              <a:solidFill>
                <a:srgbClr val="002143"/>
              </a:solidFill>
              <a:latin typeface="Arial"/>
            </a:endParaRPr>
          </a:p>
        </p:txBody>
      </p:sp>
      <p:sp>
        <p:nvSpPr>
          <p:cNvPr id="864" name="Text Box 11"/>
          <p:cNvSpPr/>
          <p:nvPr/>
        </p:nvSpPr>
        <p:spPr>
          <a:xfrm>
            <a:off x="4557240" y="5218200"/>
            <a:ext cx="427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riticality Classification: (Availabil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m 132: Critica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m 124, 125, 128, 129: Vital </a:t>
            </a:r>
            <a:endParaRPr b="0" lang="en-US" sz="1800" spc="-1" strike="noStrike">
              <a:solidFill>
                <a:srgbClr val="002143"/>
              </a:solidFill>
              <a:latin typeface="Arial"/>
            </a:endParaRPr>
          </a:p>
        </p:txBody>
      </p:sp>
      <p:sp>
        <p:nvSpPr>
          <p:cNvPr id="865" name="Text Box 12"/>
          <p:cNvSpPr/>
          <p:nvPr/>
        </p:nvSpPr>
        <p:spPr>
          <a:xfrm>
            <a:off x="900000" y="5218200"/>
            <a:ext cx="2949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Sensitivity Classific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lack: Confidentia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Gray: Privilege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ight: Public</a:t>
            </a:r>
            <a:endParaRPr b="0" lang="en-US" sz="1800" spc="-1" strike="noStrike">
              <a:solidFill>
                <a:srgbClr val="002143"/>
              </a:solidFill>
              <a:latin typeface="Arial"/>
            </a:endParaRPr>
          </a:p>
        </p:txBody>
      </p:sp>
      <p:sp>
        <p:nvSpPr>
          <p:cNvPr id="866" name="Rectangle 13"/>
          <p:cNvSpPr/>
          <p:nvPr/>
        </p:nvSpPr>
        <p:spPr>
          <a:xfrm>
            <a:off x="5562720" y="1981080"/>
            <a:ext cx="1143000" cy="121932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m</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130</a:t>
            </a:r>
            <a:endParaRPr b="0" lang="en-US" sz="1800" spc="-1" strike="noStrike">
              <a:solidFill>
                <a:srgbClr val="002143"/>
              </a:solidFill>
              <a:latin typeface="Arial"/>
            </a:endParaRPr>
          </a:p>
        </p:txBody>
      </p:sp>
      <p:sp>
        <p:nvSpPr>
          <p:cNvPr id="867" name="Rectangle 14"/>
          <p:cNvSpPr/>
          <p:nvPr/>
        </p:nvSpPr>
        <p:spPr>
          <a:xfrm>
            <a:off x="5638680" y="3886200"/>
            <a:ext cx="1067040" cy="121932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m.</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129</a:t>
            </a:r>
            <a:endParaRPr b="0" lang="en-US" sz="1800" spc="-1" strike="noStrike">
              <a:solidFill>
                <a:srgbClr val="002143"/>
              </a:solidFill>
              <a:latin typeface="Arial"/>
            </a:endParaRPr>
          </a:p>
        </p:txBody>
      </p:sp>
      <p:sp>
        <p:nvSpPr>
          <p:cNvPr id="868" name="Line 15"/>
          <p:cNvSpPr/>
          <p:nvPr/>
        </p:nvSpPr>
        <p:spPr>
          <a:xfrm flipH="1">
            <a:off x="6476760" y="4724280"/>
            <a:ext cx="228600" cy="30492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9" name="Line 16"/>
          <p:cNvSpPr/>
          <p:nvPr/>
        </p:nvSpPr>
        <p:spPr>
          <a:xfrm flipH="1">
            <a:off x="2971800" y="3809880"/>
            <a:ext cx="533520" cy="76320"/>
          </a:xfrm>
          <a:prstGeom prst="line">
            <a:avLst/>
          </a:prstGeom>
          <a:ln w="38160">
            <a:solidFill>
              <a:srgbClr val="002143"/>
            </a:solidFill>
            <a:miter/>
          </a:ln>
        </p:spPr>
        <p:style>
          <a:lnRef idx="0"/>
          <a:fillRef idx="0"/>
          <a:effectRef idx="0"/>
          <a:fontRef idx="minor"/>
        </p:style>
        <p:txBody>
          <a:bodyPr lIns="90000" rIns="90000" tIns="29520" bIns="29520" anchor="t">
            <a:noAutofit/>
          </a:bodyPr>
          <a:p>
            <a:endParaRPr b="0" lang="en-US" sz="1800" spc="-1" strike="noStrike">
              <a:solidFill>
                <a:srgbClr val="002143"/>
              </a:solidFill>
              <a:latin typeface="Arial"/>
            </a:endParaRPr>
          </a:p>
        </p:txBody>
      </p:sp>
      <p:sp>
        <p:nvSpPr>
          <p:cNvPr id="870" name="Line 17"/>
          <p:cNvSpPr/>
          <p:nvPr/>
        </p:nvSpPr>
        <p:spPr>
          <a:xfrm flipH="1">
            <a:off x="4419360" y="3809880"/>
            <a:ext cx="533160" cy="76320"/>
          </a:xfrm>
          <a:prstGeom prst="line">
            <a:avLst/>
          </a:prstGeom>
          <a:ln w="38160">
            <a:solidFill>
              <a:srgbClr val="002143"/>
            </a:solidFill>
            <a:miter/>
          </a:ln>
        </p:spPr>
        <p:style>
          <a:lnRef idx="0"/>
          <a:fillRef idx="0"/>
          <a:effectRef idx="0"/>
          <a:fontRef idx="minor"/>
        </p:style>
        <p:txBody>
          <a:bodyPr lIns="90000" rIns="90000" tIns="29520" bIns="29520" anchor="t">
            <a:noAutofit/>
          </a:bodyPr>
          <a:p>
            <a:endParaRPr b="0" lang="en-US" sz="1800" spc="-1" strike="noStrike">
              <a:solidFill>
                <a:srgbClr val="002143"/>
              </a:solidFill>
              <a:latin typeface="Arial"/>
            </a:endParaRPr>
          </a:p>
        </p:txBody>
      </p:sp>
      <p:sp>
        <p:nvSpPr>
          <p:cNvPr id="871" name="Line 18"/>
          <p:cNvSpPr/>
          <p:nvPr/>
        </p:nvSpPr>
        <p:spPr>
          <a:xfrm flipH="1">
            <a:off x="5638680" y="3809880"/>
            <a:ext cx="533520" cy="76320"/>
          </a:xfrm>
          <a:prstGeom prst="line">
            <a:avLst/>
          </a:prstGeom>
          <a:ln w="38160">
            <a:solidFill>
              <a:srgbClr val="002143"/>
            </a:solidFill>
            <a:miter/>
          </a:ln>
        </p:spPr>
        <p:style>
          <a:lnRef idx="0"/>
          <a:fillRef idx="0"/>
          <a:effectRef idx="0"/>
          <a:fontRef idx="minor"/>
        </p:style>
        <p:txBody>
          <a:bodyPr lIns="90000" rIns="90000" tIns="29520" bIns="29520" anchor="t">
            <a:noAutofit/>
          </a:bodyPr>
          <a:p>
            <a:endParaRPr b="0" lang="en-US" sz="1800" spc="-1" strike="noStrike">
              <a:solidFill>
                <a:srgbClr val="002143"/>
              </a:solidFill>
              <a:latin typeface="Arial"/>
            </a:endParaRPr>
          </a:p>
        </p:txBody>
      </p:sp>
      <p:sp>
        <p:nvSpPr>
          <p:cNvPr id="872" name="Line 19"/>
          <p:cNvSpPr/>
          <p:nvPr/>
        </p:nvSpPr>
        <p:spPr>
          <a:xfrm flipH="1" flipV="1">
            <a:off x="2971800" y="3200400"/>
            <a:ext cx="533520" cy="76320"/>
          </a:xfrm>
          <a:prstGeom prst="line">
            <a:avLst/>
          </a:prstGeom>
          <a:ln w="38160">
            <a:solidFill>
              <a:srgbClr val="002143"/>
            </a:solidFill>
            <a:miter/>
          </a:ln>
        </p:spPr>
        <p:style>
          <a:lnRef idx="0"/>
          <a:fillRef idx="0"/>
          <a:effectRef idx="0"/>
          <a:fontRef idx="minor"/>
        </p:style>
        <p:txBody>
          <a:bodyPr lIns="90000" rIns="90000" tIns="29520" bIns="29520" anchor="t">
            <a:noAutofit/>
          </a:bodyPr>
          <a:p>
            <a:endParaRPr b="0" lang="en-US" sz="1800" spc="-1" strike="noStrike">
              <a:solidFill>
                <a:srgbClr val="002143"/>
              </a:solidFill>
              <a:latin typeface="Arial"/>
            </a:endParaRPr>
          </a:p>
        </p:txBody>
      </p:sp>
      <p:sp>
        <p:nvSpPr>
          <p:cNvPr id="873" name="Line 20"/>
          <p:cNvSpPr/>
          <p:nvPr/>
        </p:nvSpPr>
        <p:spPr>
          <a:xfrm flipH="1" flipV="1">
            <a:off x="4267080" y="3200400"/>
            <a:ext cx="533520" cy="76320"/>
          </a:xfrm>
          <a:prstGeom prst="line">
            <a:avLst/>
          </a:prstGeom>
          <a:ln w="38160">
            <a:solidFill>
              <a:srgbClr val="002143"/>
            </a:solidFill>
            <a:miter/>
          </a:ln>
        </p:spPr>
        <p:style>
          <a:lnRef idx="0"/>
          <a:fillRef idx="0"/>
          <a:effectRef idx="0"/>
          <a:fontRef idx="minor"/>
        </p:style>
        <p:txBody>
          <a:bodyPr lIns="90000" rIns="90000" tIns="29520" bIns="29520" anchor="t">
            <a:noAutofit/>
          </a:bodyPr>
          <a:p>
            <a:endParaRPr b="0" lang="en-US" sz="1800" spc="-1" strike="noStrike">
              <a:solidFill>
                <a:srgbClr val="002143"/>
              </a:solidFill>
              <a:latin typeface="Arial"/>
            </a:endParaRPr>
          </a:p>
        </p:txBody>
      </p:sp>
      <p:sp>
        <p:nvSpPr>
          <p:cNvPr id="874" name="Line 21"/>
          <p:cNvSpPr/>
          <p:nvPr/>
        </p:nvSpPr>
        <p:spPr>
          <a:xfrm flipH="1" flipV="1">
            <a:off x="5562360" y="3200400"/>
            <a:ext cx="533160" cy="76320"/>
          </a:xfrm>
          <a:prstGeom prst="line">
            <a:avLst/>
          </a:prstGeom>
          <a:ln w="38160">
            <a:solidFill>
              <a:srgbClr val="002143"/>
            </a:solidFill>
            <a:miter/>
          </a:ln>
        </p:spPr>
        <p:style>
          <a:lnRef idx="0"/>
          <a:fillRef idx="0"/>
          <a:effectRef idx="0"/>
          <a:fontRef idx="minor"/>
        </p:style>
        <p:txBody>
          <a:bodyPr lIns="90000" rIns="90000" tIns="29520" bIns="29520" anchor="t">
            <a:noAutofit/>
          </a:bodyPr>
          <a:p>
            <a:endParaRPr b="0" lang="en-US" sz="1800" spc="-1" strike="noStrike">
              <a:solidFill>
                <a:srgbClr val="002143"/>
              </a:solidFill>
              <a:latin typeface="Arial"/>
            </a:endParaRPr>
          </a:p>
        </p:txBody>
      </p:sp>
      <p:sp>
        <p:nvSpPr>
          <p:cNvPr id="875" name="Text Box 23"/>
          <p:cNvSpPr/>
          <p:nvPr/>
        </p:nvSpPr>
        <p:spPr>
          <a:xfrm>
            <a:off x="1129680" y="3236760"/>
            <a:ext cx="801000" cy="36828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bby</a:t>
            </a:r>
            <a:endParaRPr b="0" lang="en-US" sz="1800" spc="-1" strike="noStrike">
              <a:solidFill>
                <a:srgbClr val="002143"/>
              </a:solidFill>
              <a:latin typeface="Arial"/>
            </a:endParaRPr>
          </a:p>
        </p:txBody>
      </p:sp>
      <p:sp>
        <p:nvSpPr>
          <p:cNvPr id="876" name="Line 24"/>
          <p:cNvSpPr/>
          <p:nvPr/>
        </p:nvSpPr>
        <p:spPr>
          <a:xfrm flipH="1">
            <a:off x="609120" y="3276720"/>
            <a:ext cx="228600" cy="38088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77" name="Line 25"/>
          <p:cNvSpPr/>
          <p:nvPr/>
        </p:nvSpPr>
        <p:spPr>
          <a:xfrm flipH="1" flipV="1">
            <a:off x="685440" y="3733920"/>
            <a:ext cx="152280" cy="45720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hysical Security</a:t>
            </a:r>
            <a:br>
              <a:rPr sz="3200"/>
            </a:br>
            <a:r>
              <a:rPr b="1" lang="en-US" sz="3600" spc="-1" strike="noStrike">
                <a:solidFill>
                  <a:srgbClr val="00468a"/>
                </a:solidFill>
                <a:latin typeface="Calibri"/>
              </a:rPr>
              <a:t>Allocation of Assets</a:t>
            </a:r>
            <a:endParaRPr b="1" lang="en-US" sz="3600" spc="-1" strike="noStrike">
              <a:solidFill>
                <a:srgbClr val="00468a"/>
              </a:solidFill>
              <a:latin typeface="Calibri"/>
            </a:endParaRPr>
          </a:p>
        </p:txBody>
      </p:sp>
      <p:graphicFrame>
        <p:nvGraphicFramePr>
          <p:cNvPr id="879" name=""/>
          <p:cNvGraphicFramePr/>
          <p:nvPr/>
        </p:nvGraphicFramePr>
        <p:xfrm>
          <a:off x="304920" y="2057400"/>
          <a:ext cx="8534160" cy="4281480"/>
        </p:xfrm>
        <a:graphic>
          <a:graphicData uri="http://schemas.openxmlformats.org/drawingml/2006/table">
            <a:tbl>
              <a:tblPr/>
              <a:tblGrid>
                <a:gridCol w="1101600"/>
                <a:gridCol w="1946160"/>
                <a:gridCol w="2210040"/>
                <a:gridCol w="3276360"/>
              </a:tblGrid>
              <a:tr h="7318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143"/>
                          </a:solidFill>
                          <a:latin typeface="Times New Roman"/>
                          <a:ea typeface="Times New Roman"/>
                        </a:rPr>
                        <a:t>Room</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143"/>
                          </a:solidFill>
                          <a:latin typeface="Times New Roman"/>
                          <a:ea typeface="Times New Roman"/>
                        </a:rPr>
                        <a:t>Sensitivity &amp; Crit. Class</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143"/>
                          </a:solidFill>
                          <a:latin typeface="Times New Roman"/>
                          <a:ea typeface="Times New Roman"/>
                        </a:rPr>
                        <a:t>Sensitive Assets or Info.</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143"/>
                          </a:solidFill>
                          <a:latin typeface="Times New Roman"/>
                          <a:ea typeface="Times New Roman"/>
                        </a:rPr>
                        <a:t>Room Controls</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14634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Rm 123</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Privileged,</a:t>
                      </a:r>
                      <a:endParaRPr b="0" lang="en-US" sz="24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Vital</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Computer Lab: Computers, Printer</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Cable locking system</a:t>
                      </a:r>
                      <a:endParaRPr b="0" lang="en-US" sz="24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Doors locked 9PM-8AM by security</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0976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Rm 125</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Privileged,</a:t>
                      </a:r>
                      <a:endParaRPr b="0" lang="en-US" sz="24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Vital</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Classroom: Computer &amp; projector</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Cable locking system</a:t>
                      </a:r>
                      <a:endParaRPr b="0" lang="en-US" sz="24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Teachers have keys to door.  </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4634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Rm 132</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Confidential,</a:t>
                      </a:r>
                      <a:endParaRPr b="0" lang="en-US" sz="24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Critical</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Servers and critical/sensitive information</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Key-card entry logs personnel.  Badges required.</a:t>
                      </a:r>
                      <a:endParaRPr b="0" lang="en-US" sz="24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hysical Security Problems</a:t>
            </a:r>
            <a:endParaRPr b="1" lang="en-US" sz="3600" spc="-1" strike="noStrike">
              <a:solidFill>
                <a:srgbClr val="00468a"/>
              </a:solidFill>
              <a:latin typeface="Calibri"/>
            </a:endParaRPr>
          </a:p>
        </p:txBody>
      </p:sp>
      <p:sp>
        <p:nvSpPr>
          <p:cNvPr id="690" name=""/>
          <p:cNvSpPr txBox="1"/>
          <p:nvPr/>
        </p:nvSpPr>
        <p:spPr>
          <a:xfrm>
            <a:off x="457200" y="1981080"/>
            <a:ext cx="4952880" cy="42674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ensically Analyzed Attack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M, Point of Sale at banks, gas stations, retail stores = </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91% of physical security attacks</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35% of all attack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rganization-reported: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1 cause = lost, misdelivered or stolen media, documents, and faxes. </a:t>
            </a:r>
            <a:endParaRPr b="0" lang="en-US" sz="2400" spc="-1" strike="noStrike">
              <a:solidFill>
                <a:srgbClr val="5f5f5f"/>
              </a:solidFill>
              <a:latin typeface="Calibri"/>
            </a:endParaRPr>
          </a:p>
        </p:txBody>
      </p:sp>
      <p:pic>
        <p:nvPicPr>
          <p:cNvPr id="691" name="Picture 2" descr="C:\Users\lincke\AppData\Local\Microsoft\Windows\Temporary Internet Files\Content.IE5\HFB29CJG\MC900326194[1].wmf"/>
          <p:cNvPicPr/>
          <p:nvPr/>
        </p:nvPicPr>
        <p:blipFill>
          <a:blip r:embed="rId1"/>
          <a:stretch/>
        </p:blipFill>
        <p:spPr>
          <a:xfrm>
            <a:off x="5835600" y="3017880"/>
            <a:ext cx="1663920" cy="18129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 of Physical Controls</a:t>
            </a:r>
            <a:endParaRPr b="1" lang="en-US" sz="3600" spc="-1" strike="noStrike">
              <a:solidFill>
                <a:srgbClr val="00468a"/>
              </a:solidFill>
              <a:latin typeface="Calibri"/>
            </a:endParaRPr>
          </a:p>
        </p:txBody>
      </p:sp>
      <p:sp>
        <p:nvSpPr>
          <p:cNvPr id="881" name=""/>
          <p:cNvSpPr txBox="1"/>
          <p:nvPr/>
        </p:nvSpPr>
        <p:spPr>
          <a:xfrm>
            <a:off x="457200" y="1980720"/>
            <a:ext cx="4038480" cy="388620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ysical Access Control</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alls, Doors, Lock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dges, smart card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iometric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cameras &amp; guard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ences, lighting, sensor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ble locking system</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uter screen hood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882" name=""/>
          <p:cNvSpPr txBox="1"/>
          <p:nvPr/>
        </p:nvSpPr>
        <p:spPr>
          <a:xfrm>
            <a:off x="4648320" y="1980720"/>
            <a:ext cx="4038480" cy="3886200"/>
          </a:xfrm>
          <a:prstGeom prst="rect">
            <a:avLst/>
          </a:prstGeom>
          <a:noFill/>
          <a:ln w="0">
            <a:noFill/>
          </a:ln>
        </p:spPr>
        <p:txBody>
          <a:bodyPr lIns="0" rIns="0" tIns="0" bIns="0" anchor="t">
            <a:normAutofit fontScale="80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vironmental Control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ckup powe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ir conditioning</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re suppressan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e procedure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graved serial number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cked files, desk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lean desk</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per shredder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cking screensave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e procedures: locked doors at nigh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84"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Fire Suppression system that is environmentally friendly, is not lethal, and does not damage equipment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ry Pip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al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arge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M-200</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88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8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best way to prevent piggybacking into secured areas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adman doo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olting doo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uar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mera</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88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88"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surge protector is the best protection against</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lectromagnetic interference</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ss of power for 10-30 minute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blackout</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ags and spikes</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88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90"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o eliminate problems with incomplete transactions during a sudden power failure, Joe has decided that some form of temporary power supply is necessary to ensure a graceful shut down.  The best option for Joe i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P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urge protector</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ternate power generator</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ttery supply</a:t>
            </a:r>
            <a:endParaRPr b="0" lang="en-US" sz="2400" spc="-1" strike="noStrike">
              <a:solidFill>
                <a:srgbClr val="5f5f5f"/>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600000">
                                      <p:cBhvr>
                                        <p:cTn id="24" dur="2000" fill="hold"/>
                                        <p:tgtEl>
                                          <p:spTgt spid="89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
        <p:nvSpPr>
          <p:cNvPr id="892" name="PlaceHolder 2"/>
          <p:cNvSpPr>
            <a:spLocks noGrp="1"/>
          </p:cNvSpPr>
          <p:nvPr>
            <p:ph/>
          </p:nvPr>
        </p:nvSpPr>
        <p:spPr>
          <a:xfrm>
            <a:off x="522360" y="1511280"/>
            <a:ext cx="3959280" cy="287280"/>
          </a:xfrm>
          <a:prstGeom prst="rect">
            <a:avLst/>
          </a:prstGeom>
          <a:noFill/>
          <a:ln w="0">
            <a:noFill/>
          </a:ln>
        </p:spPr>
        <p:txBody>
          <a:bodyPr lIns="0" rIns="0" tIns="0" bIns="0" anchor="t">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vailability</a:t>
            </a:r>
            <a:endParaRPr b="0" lang="en-US" sz="2400" spc="-1" strike="noStrike">
              <a:solidFill>
                <a:srgbClr val="5f5f5f"/>
              </a:solidFill>
              <a:latin typeface="Calibri"/>
            </a:endParaRPr>
          </a:p>
        </p:txBody>
      </p:sp>
      <p:sp>
        <p:nvSpPr>
          <p:cNvPr id="893" name=""/>
          <p:cNvSpPr txBox="1"/>
          <p:nvPr/>
        </p:nvSpPr>
        <p:spPr>
          <a:xfrm>
            <a:off x="522000" y="1944360"/>
            <a:ext cx="3668760" cy="2158920"/>
          </a:xfrm>
          <a:prstGeom prst="rect">
            <a:avLst/>
          </a:prstGeom>
          <a:noFill/>
          <a:ln w="0">
            <a:noFill/>
          </a:ln>
        </p:spPr>
        <p:txBody>
          <a:bodyPr lIns="0" rIns="0" tIns="0" bIns="0" anchor="t">
            <a:normAutofit/>
          </a:bodyPr>
          <a:p>
            <a:pPr marL="177840" indent="-177840">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otential problems: Power outage, deviations in power, network outage, fire, flood, human damage</a:t>
            </a:r>
            <a:endParaRPr b="0" lang="en-US" sz="2000" spc="-1" strike="noStrike">
              <a:solidFill>
                <a:srgbClr val="5f5f5f"/>
              </a:solidFill>
              <a:latin typeface="Calibri"/>
            </a:endParaRPr>
          </a:p>
          <a:p>
            <a:pPr marL="177840" indent="-177840">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pply Criticality Classification to rooms, defining controls</a:t>
            </a:r>
            <a:endParaRPr b="0" lang="en-US" sz="2000" spc="-1" strike="noStrike">
              <a:solidFill>
                <a:srgbClr val="5f5f5f"/>
              </a:solidFill>
              <a:latin typeface="Calibri"/>
            </a:endParaRPr>
          </a:p>
        </p:txBody>
      </p:sp>
      <p:sp>
        <p:nvSpPr>
          <p:cNvPr id="894" name="PlaceHolder 3"/>
          <p:cNvSpPr>
            <a:spLocks noGrp="1"/>
          </p:cNvSpPr>
          <p:nvPr>
            <p:ph/>
          </p:nvPr>
        </p:nvSpPr>
        <p:spPr>
          <a:xfrm>
            <a:off x="4680000" y="1511280"/>
            <a:ext cx="3960720" cy="287280"/>
          </a:xfrm>
          <a:prstGeom prst="rect">
            <a:avLst/>
          </a:prstGeom>
          <a:noFill/>
          <a:ln w="0">
            <a:noFill/>
          </a:ln>
        </p:spPr>
        <p:txBody>
          <a:bodyPr lIns="0" rIns="0" tIns="0" bIns="0" anchor="t">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nfidentiality &amp; Integrity</a:t>
            </a:r>
            <a:endParaRPr b="0" lang="en-US" sz="2400" spc="-1" strike="noStrike">
              <a:solidFill>
                <a:srgbClr val="5f5f5f"/>
              </a:solidFill>
              <a:latin typeface="Calibri"/>
            </a:endParaRPr>
          </a:p>
        </p:txBody>
      </p:sp>
      <p:sp>
        <p:nvSpPr>
          <p:cNvPr id="895" name=""/>
          <p:cNvSpPr txBox="1"/>
          <p:nvPr/>
        </p:nvSpPr>
        <p:spPr>
          <a:xfrm>
            <a:off x="4680000" y="1944360"/>
            <a:ext cx="3960720" cy="2158920"/>
          </a:xfrm>
          <a:prstGeom prst="rect">
            <a:avLst/>
          </a:prstGeom>
          <a:noFill/>
          <a:ln w="0">
            <a:noFill/>
          </a:ln>
        </p:spPr>
        <p:txBody>
          <a:bodyPr lIns="0" rIns="0" tIns="0" bIns="0" anchor="t">
            <a:normAutofit fontScale="66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mmon problem: Lost computers, PDAs, media</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ncrypt to avoid Confidentiality issues</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hysically lock down</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mmon problem:  ATM/POS attacks</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mash-and-grab</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kimmers</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ther problems: copier disk access</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pply Sensitivity Classification to rooms, defining controls</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HEALTH FIRST CASE STUDY</a:t>
            </a:r>
            <a:endParaRPr b="1" lang="en-US" sz="4000" spc="-1" strike="noStrike">
              <a:solidFill>
                <a:srgbClr val="00468a"/>
              </a:solidFill>
              <a:latin typeface="Calibri"/>
            </a:endParaRPr>
          </a:p>
        </p:txBody>
      </p:sp>
      <p:sp>
        <p:nvSpPr>
          <p:cNvPr id="897" name="PlaceHolder 2"/>
          <p:cNvSpPr>
            <a:spLocks noGrp="1"/>
          </p:cNvSpPr>
          <p:nvPr>
            <p:ph/>
          </p:nvPr>
        </p:nvSpPr>
        <p:spPr>
          <a:xfrm>
            <a:off x="457200" y="5105160"/>
            <a:ext cx="7772400" cy="68580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signing Physical Security</a:t>
            </a:r>
            <a:endParaRPr b="0" lang="en-US" sz="2000" spc="-1" strike="noStrike">
              <a:solidFill>
                <a:srgbClr val="5f5f5f"/>
              </a:solidFill>
              <a:latin typeface="Calibri"/>
            </a:endParaRPr>
          </a:p>
        </p:txBody>
      </p:sp>
      <p:pic>
        <p:nvPicPr>
          <p:cNvPr id="898" name="Picture 19" descr="C:\Documents and Settings\lincke\Local Settings\Temporary Internet Files\Content.IE5\MBFD0U53\MC900447148[1].jpg"/>
          <p:cNvPicPr/>
          <p:nvPr/>
        </p:nvPicPr>
        <p:blipFill>
          <a:blip r:embed="rId1"/>
          <a:stretch/>
        </p:blipFill>
        <p:spPr>
          <a:xfrm>
            <a:off x="2514600" y="685800"/>
            <a:ext cx="1833480" cy="2666880"/>
          </a:xfrm>
          <a:prstGeom prst="rect">
            <a:avLst/>
          </a:prstGeom>
          <a:ln w="0">
            <a:noFill/>
          </a:ln>
        </p:spPr>
      </p:pic>
      <p:pic>
        <p:nvPicPr>
          <p:cNvPr id="899" name="Picture 23" descr="C:\Documents and Settings\lincke\Local Settings\Temporary Internet Files\Content.IE5\MBFD0U53\MC900060266[1].wmf"/>
          <p:cNvPicPr/>
          <p:nvPr/>
        </p:nvPicPr>
        <p:blipFill>
          <a:blip r:embed="rId2"/>
          <a:stretch/>
        </p:blipFill>
        <p:spPr>
          <a:xfrm>
            <a:off x="457200" y="1219320"/>
            <a:ext cx="1362240" cy="1827000"/>
          </a:xfrm>
          <a:prstGeom prst="rect">
            <a:avLst/>
          </a:prstGeom>
          <a:ln w="0">
            <a:noFill/>
          </a:ln>
        </p:spPr>
      </p:pic>
      <p:pic>
        <p:nvPicPr>
          <p:cNvPr id="900" name="Picture 24" descr="C:\Documents and Settings\lincke\Local Settings\Temporary Internet Files\Content.IE5\EUJQFYJK\MC900045006[1].wmf"/>
          <p:cNvPicPr/>
          <p:nvPr/>
        </p:nvPicPr>
        <p:blipFill>
          <a:blip r:embed="rId3"/>
          <a:stretch/>
        </p:blipFill>
        <p:spPr>
          <a:xfrm>
            <a:off x="4800600" y="1295280"/>
            <a:ext cx="911160" cy="1809720"/>
          </a:xfrm>
          <a:prstGeom prst="rect">
            <a:avLst/>
          </a:prstGeom>
          <a:ln w="0">
            <a:noFill/>
          </a:ln>
        </p:spPr>
      </p:pic>
      <p:pic>
        <p:nvPicPr>
          <p:cNvPr id="901" name="Picture 31" descr="C:\Documents and Settings\lincke\Local Settings\Temporary Internet Files\Content.IE5\27Z2FLA8\MC900065128[1].wmf"/>
          <p:cNvPicPr/>
          <p:nvPr/>
        </p:nvPicPr>
        <p:blipFill>
          <a:blip r:embed="rId4"/>
          <a:stretch/>
        </p:blipFill>
        <p:spPr>
          <a:xfrm>
            <a:off x="6477120" y="1295280"/>
            <a:ext cx="1755720" cy="1825920"/>
          </a:xfrm>
          <a:prstGeom prst="rect">
            <a:avLst/>
          </a:prstGeom>
          <a:ln w="0">
            <a:noFill/>
          </a:ln>
        </p:spPr>
      </p:pic>
      <p:sp>
        <p:nvSpPr>
          <p:cNvPr id="902" name="TextBox 19"/>
          <p:cNvSpPr/>
          <p:nvPr/>
        </p:nvSpPr>
        <p:spPr>
          <a:xfrm>
            <a:off x="241200" y="3352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Jamie Ramon M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octor</a:t>
            </a:r>
            <a:endParaRPr b="0" lang="en-US" sz="1800" spc="-1" strike="noStrike">
              <a:solidFill>
                <a:srgbClr val="002143"/>
              </a:solidFill>
              <a:latin typeface="Arial"/>
            </a:endParaRPr>
          </a:p>
        </p:txBody>
      </p:sp>
      <p:sp>
        <p:nvSpPr>
          <p:cNvPr id="903" name="TextBox 20"/>
          <p:cNvSpPr/>
          <p:nvPr/>
        </p:nvSpPr>
        <p:spPr>
          <a:xfrm>
            <a:off x="2374200" y="335268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Chris Ramon R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ietician</a:t>
            </a:r>
            <a:endParaRPr b="0" lang="en-US" sz="1800" spc="-1" strike="noStrike">
              <a:solidFill>
                <a:srgbClr val="002143"/>
              </a:solidFill>
              <a:latin typeface="Arial"/>
            </a:endParaRPr>
          </a:p>
        </p:txBody>
      </p:sp>
      <p:sp>
        <p:nvSpPr>
          <p:cNvPr id="904" name="TextBox 21"/>
          <p:cNvSpPr/>
          <p:nvPr/>
        </p:nvSpPr>
        <p:spPr>
          <a:xfrm>
            <a:off x="4507560" y="3352680"/>
            <a:ext cx="1854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err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Licensed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Practicing Nurse</a:t>
            </a:r>
            <a:endParaRPr b="0" lang="en-US" sz="1800" spc="-1" strike="noStrike">
              <a:solidFill>
                <a:srgbClr val="002143"/>
              </a:solidFill>
              <a:latin typeface="Arial"/>
            </a:endParaRPr>
          </a:p>
        </p:txBody>
      </p:sp>
      <p:sp>
        <p:nvSpPr>
          <p:cNvPr id="905" name="TextBox 22"/>
          <p:cNvSpPr/>
          <p:nvPr/>
        </p:nvSpPr>
        <p:spPr>
          <a:xfrm>
            <a:off x="6388560" y="3352680"/>
            <a:ext cx="22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Pa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oftware Consultant</a:t>
            </a:r>
            <a:endParaRPr b="0" lang="en-US" sz="1800" spc="-1" strike="noStrike">
              <a:solidFill>
                <a:srgbClr val="002143"/>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685800"/>
            <a:ext cx="8229600" cy="9907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ing Room Classifications and Controls</a:t>
            </a:r>
            <a:endParaRPr b="1" lang="en-US" sz="3600" spc="-1" strike="noStrike">
              <a:solidFill>
                <a:srgbClr val="00468a"/>
              </a:solidFill>
              <a:latin typeface="Calibri"/>
            </a:endParaRPr>
          </a:p>
        </p:txBody>
      </p:sp>
      <p:graphicFrame>
        <p:nvGraphicFramePr>
          <p:cNvPr id="907" name=""/>
          <p:cNvGraphicFramePr/>
          <p:nvPr/>
        </p:nvGraphicFramePr>
        <p:xfrm>
          <a:off x="457200" y="1600200"/>
          <a:ext cx="8381880" cy="5013360"/>
        </p:xfrm>
        <a:graphic>
          <a:graphicData uri="http://schemas.openxmlformats.org/drawingml/2006/table">
            <a:tbl>
              <a:tblPr/>
              <a:tblGrid>
                <a:gridCol w="1447920"/>
                <a:gridCol w="4038480"/>
                <a:gridCol w="2895480"/>
              </a:tblGrid>
              <a:tr h="563400">
                <a:tc>
                  <a:txBody>
                    <a:bodyPr lIns="48960" rIns="489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Times New Roman"/>
                        </a:rPr>
                        <a:t>Sensitivity</a:t>
                      </a:r>
                      <a:endParaRPr b="0" lang="en-US" sz="1600" spc="-1" strike="noStrike">
                        <a:solidFill>
                          <a:srgbClr val="00214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Times New Roman"/>
                        </a:rPr>
                        <a:t>Classification</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48960" rIns="489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Times New Roman"/>
                        </a:rPr>
                        <a:t>Description</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48960" rIns="489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Times New Roman"/>
                        </a:rPr>
                        <a:t>Special Treatment</a:t>
                      </a:r>
                      <a:endParaRPr b="0" lang="en-US" sz="1600" spc="-1" strike="noStrike">
                        <a:solidFill>
                          <a:srgbClr val="00214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Times New Roman"/>
                        </a:rPr>
                        <a:t>(Examples)</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487080">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roprietary</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Room contains Propriety information storage.</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Bradley Hand ITC"/>
                          <a:ea typeface="Times New Roman"/>
                        </a:rPr>
                        <a:t>Room and all cabinets remained locked.</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487080">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onfidential</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Room contains Confidential information storage.</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Times New Roman"/>
                        </a:rPr>
                        <a:t> </a:t>
                      </a:r>
                      <a:r>
                        <a:rPr b="1" lang="en-US" sz="1600" spc="-1" strike="noStrike">
                          <a:solidFill>
                            <a:srgbClr val="ff0000"/>
                          </a:solidFill>
                          <a:latin typeface="Bradley Hand ITC"/>
                          <a:ea typeface="Times New Roman"/>
                        </a:rPr>
                        <a:t>Workstation monitor has hood.</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973800">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rivate</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Room contains computer with access to sensitive data or room contains controlled substances.</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Bradley Hand ITC"/>
                          <a:ea typeface="Times New Roman"/>
                        </a:rPr>
                        <a:t> </a:t>
                      </a:r>
                      <a:r>
                        <a:rPr b="1" lang="en-US" sz="1600" spc="-1" strike="noStrike">
                          <a:solidFill>
                            <a:srgbClr val="ff0000"/>
                          </a:solidFill>
                          <a:latin typeface="Bradley Hand ITC"/>
                          <a:ea typeface="Times New Roman"/>
                        </a:rPr>
                        <a:t>Room remains locked when not attended. No visitors are allowed in these areas unescorted</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730440">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rivileged</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Room contains computer with access to sensitive data but public has access when escorted.</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ea typeface="Times New Roman"/>
                        </a:rPr>
                        <a:t> </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487080">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ublic</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The public is free to spend time in this room, without escort.</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ea typeface="Times New Roman"/>
                        </a:rPr>
                        <a:t> </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243720">
                <a:tc gridSpan="3">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Times New Roman"/>
                        </a:rPr>
                        <a:t>Criticality  Classification</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r>
              <a:tr h="487080">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ritical</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Room contains Critical computing resources, which cannot be performed manually.</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ea typeface="Calibri"/>
                        </a:rPr>
                        <a:t> </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730440">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Vital</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Room contains Vital computing resources, which can be performed manually for a short time.</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48960" rIns="489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ea typeface="Times New Roman"/>
                        </a:rPr>
                        <a:t> </a:t>
                      </a:r>
                      <a:endParaRPr b="0" lang="en-US" sz="1600" spc="-1" strike="noStrike">
                        <a:solidFill>
                          <a:srgbClr val="002143"/>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5"/>
          <p:cNvSpPr/>
          <p:nvPr/>
        </p:nvSpPr>
        <p:spPr>
          <a:xfrm>
            <a:off x="4079880" y="4573440"/>
            <a:ext cx="2209680" cy="136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909" name="Rectangle 16"/>
          <p:cNvSpPr/>
          <p:nvPr/>
        </p:nvSpPr>
        <p:spPr>
          <a:xfrm>
            <a:off x="3424320" y="4573440"/>
            <a:ext cx="655560" cy="136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910" name="Rectangle 17"/>
          <p:cNvSpPr/>
          <p:nvPr/>
        </p:nvSpPr>
        <p:spPr>
          <a:xfrm>
            <a:off x="676440" y="4675320"/>
            <a:ext cx="1858680" cy="125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911" name="Line 18"/>
          <p:cNvSpPr/>
          <p:nvPr/>
        </p:nvSpPr>
        <p:spPr>
          <a:xfrm>
            <a:off x="803160" y="4687920"/>
            <a:ext cx="10670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2143"/>
              </a:solidFill>
              <a:latin typeface="Arial"/>
            </a:endParaRPr>
          </a:p>
        </p:txBody>
      </p:sp>
      <p:sp>
        <p:nvSpPr>
          <p:cNvPr id="912" name="Line 19"/>
          <p:cNvSpPr/>
          <p:nvPr/>
        </p:nvSpPr>
        <p:spPr>
          <a:xfrm flipH="1">
            <a:off x="2048040" y="467532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13" name="Line 20"/>
          <p:cNvSpPr/>
          <p:nvPr/>
        </p:nvSpPr>
        <p:spPr>
          <a:xfrm flipH="1">
            <a:off x="3470040" y="4459320"/>
            <a:ext cx="53316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14" name="Line 21"/>
          <p:cNvSpPr/>
          <p:nvPr/>
        </p:nvSpPr>
        <p:spPr>
          <a:xfrm flipH="1" flipV="1">
            <a:off x="4155840" y="4574880"/>
            <a:ext cx="152280" cy="45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15" name="Line 22"/>
          <p:cNvSpPr/>
          <p:nvPr/>
        </p:nvSpPr>
        <p:spPr>
          <a:xfrm flipH="1">
            <a:off x="2555640" y="4116240"/>
            <a:ext cx="373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2143"/>
              </a:solidFill>
              <a:latin typeface="Arial"/>
            </a:endParaRPr>
          </a:p>
        </p:txBody>
      </p:sp>
      <p:sp>
        <p:nvSpPr>
          <p:cNvPr id="916" name="Line 23"/>
          <p:cNvSpPr/>
          <p:nvPr/>
        </p:nvSpPr>
        <p:spPr>
          <a:xfrm flipV="1">
            <a:off x="2556000" y="25156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17" name="Line 24"/>
          <p:cNvSpPr/>
          <p:nvPr/>
        </p:nvSpPr>
        <p:spPr>
          <a:xfrm flipV="1">
            <a:off x="2631960" y="4001760"/>
            <a:ext cx="60984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18" name="Line 25"/>
          <p:cNvSpPr/>
          <p:nvPr/>
        </p:nvSpPr>
        <p:spPr>
          <a:xfrm flipV="1">
            <a:off x="4079880" y="4001760"/>
            <a:ext cx="60948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hysical Security Map</a:t>
            </a:r>
            <a:endParaRPr b="1" lang="en-US" sz="3600" spc="-1" strike="noStrike">
              <a:solidFill>
                <a:srgbClr val="00468a"/>
              </a:solidFill>
              <a:latin typeface="Calibri"/>
            </a:endParaRPr>
          </a:p>
        </p:txBody>
      </p:sp>
      <p:pic>
        <p:nvPicPr>
          <p:cNvPr id="920" name="Picture 2" descr=""/>
          <p:cNvPicPr/>
          <p:nvPr/>
        </p:nvPicPr>
        <p:blipFill>
          <a:blip r:embed="rId1"/>
          <a:stretch/>
        </p:blipFill>
        <p:spPr>
          <a:xfrm>
            <a:off x="217440" y="2293920"/>
            <a:ext cx="6353280" cy="3913200"/>
          </a:xfrm>
          <a:prstGeom prst="rect">
            <a:avLst/>
          </a:prstGeom>
          <a:ln w="0">
            <a:noFill/>
          </a:ln>
        </p:spPr>
      </p:pic>
      <p:sp>
        <p:nvSpPr>
          <p:cNvPr id="921" name="table"/>
          <p:cNvSpPr/>
          <p:nvPr/>
        </p:nvSpPr>
        <p:spPr>
          <a:xfrm>
            <a:off x="5105520" y="2827440"/>
            <a:ext cx="990360" cy="1143000"/>
          </a:xfrm>
          <a:custGeom>
            <a:avLst/>
            <a:gdLst>
              <a:gd name="textAreaLeft" fmla="*/ 183960 w 990360"/>
              <a:gd name="textAreaRight" fmla="*/ 808200 w 990360"/>
              <a:gd name="textAreaTop" fmla="*/ 237600 h 1143000"/>
              <a:gd name="textAreaBottom" fmla="*/ 906120 h 1143000"/>
            </a:gdLst>
            <a:ahLst/>
            <a:rect l="textAreaLeft" t="textAreaTop" r="textAreaRight" b="textAreaBottom"/>
            <a:pathLst>
              <a:path w="21600" h="21600">
                <a:moveTo>
                  <a:pt x="17641" y="17591"/>
                </a:moveTo>
                <a:lnTo>
                  <a:pt x="18067" y="17165"/>
                </a:lnTo>
                <a:lnTo>
                  <a:pt x="18443" y="16689"/>
                </a:lnTo>
                <a:lnTo>
                  <a:pt x="18794" y="16162"/>
                </a:lnTo>
                <a:lnTo>
                  <a:pt x="19144" y="15661"/>
                </a:lnTo>
                <a:lnTo>
                  <a:pt x="19420" y="15135"/>
                </a:lnTo>
                <a:lnTo>
                  <a:pt x="19645" y="14584"/>
                </a:lnTo>
                <a:lnTo>
                  <a:pt x="19871" y="13982"/>
                </a:lnTo>
                <a:lnTo>
                  <a:pt x="20071" y="13406"/>
                </a:lnTo>
                <a:lnTo>
                  <a:pt x="20297" y="13456"/>
                </a:lnTo>
                <a:lnTo>
                  <a:pt x="20472" y="13456"/>
                </a:lnTo>
                <a:lnTo>
                  <a:pt x="20648" y="13406"/>
                </a:lnTo>
                <a:lnTo>
                  <a:pt x="20823" y="13331"/>
                </a:lnTo>
                <a:lnTo>
                  <a:pt x="20948" y="13206"/>
                </a:lnTo>
                <a:lnTo>
                  <a:pt x="21099" y="13080"/>
                </a:lnTo>
                <a:lnTo>
                  <a:pt x="21149" y="12905"/>
                </a:lnTo>
                <a:lnTo>
                  <a:pt x="21299" y="12704"/>
                </a:lnTo>
                <a:lnTo>
                  <a:pt x="21425" y="12253"/>
                </a:lnTo>
                <a:lnTo>
                  <a:pt x="21550" y="11727"/>
                </a:lnTo>
                <a:lnTo>
                  <a:pt x="21600" y="11276"/>
                </a:lnTo>
                <a:lnTo>
                  <a:pt x="21600" y="10800"/>
                </a:lnTo>
                <a:lnTo>
                  <a:pt x="21600" y="10324"/>
                </a:lnTo>
                <a:lnTo>
                  <a:pt x="21550" y="9823"/>
                </a:lnTo>
                <a:lnTo>
                  <a:pt x="21425" y="9347"/>
                </a:lnTo>
                <a:lnTo>
                  <a:pt x="21299" y="8896"/>
                </a:lnTo>
                <a:lnTo>
                  <a:pt x="21149" y="8695"/>
                </a:lnTo>
                <a:lnTo>
                  <a:pt x="21099" y="8520"/>
                </a:lnTo>
                <a:lnTo>
                  <a:pt x="20948" y="8344"/>
                </a:lnTo>
                <a:lnTo>
                  <a:pt x="20823" y="8269"/>
                </a:lnTo>
                <a:lnTo>
                  <a:pt x="20648" y="8169"/>
                </a:lnTo>
                <a:lnTo>
                  <a:pt x="20472" y="8144"/>
                </a:lnTo>
                <a:lnTo>
                  <a:pt x="20297" y="8144"/>
                </a:lnTo>
                <a:lnTo>
                  <a:pt x="20071" y="8169"/>
                </a:lnTo>
                <a:lnTo>
                  <a:pt x="19871" y="7618"/>
                </a:lnTo>
                <a:lnTo>
                  <a:pt x="19645" y="7016"/>
                </a:lnTo>
                <a:lnTo>
                  <a:pt x="19420" y="6490"/>
                </a:lnTo>
                <a:lnTo>
                  <a:pt x="19144" y="5939"/>
                </a:lnTo>
                <a:lnTo>
                  <a:pt x="18794" y="5438"/>
                </a:lnTo>
                <a:lnTo>
                  <a:pt x="18443" y="4961"/>
                </a:lnTo>
                <a:lnTo>
                  <a:pt x="18067" y="4460"/>
                </a:lnTo>
                <a:lnTo>
                  <a:pt x="17691" y="4034"/>
                </a:lnTo>
                <a:lnTo>
                  <a:pt x="17215" y="3608"/>
                </a:lnTo>
                <a:lnTo>
                  <a:pt x="16739" y="3232"/>
                </a:lnTo>
                <a:lnTo>
                  <a:pt x="16263" y="2832"/>
                </a:lnTo>
                <a:lnTo>
                  <a:pt x="15686" y="2506"/>
                </a:lnTo>
                <a:lnTo>
                  <a:pt x="15185" y="2205"/>
                </a:lnTo>
                <a:lnTo>
                  <a:pt x="14609" y="1929"/>
                </a:lnTo>
                <a:lnTo>
                  <a:pt x="14032" y="1704"/>
                </a:lnTo>
                <a:lnTo>
                  <a:pt x="13431" y="1503"/>
                </a:lnTo>
                <a:lnTo>
                  <a:pt x="13481" y="1278"/>
                </a:lnTo>
                <a:lnTo>
                  <a:pt x="13481" y="1103"/>
                </a:lnTo>
                <a:lnTo>
                  <a:pt x="13431" y="952"/>
                </a:lnTo>
                <a:lnTo>
                  <a:pt x="13356" y="777"/>
                </a:lnTo>
                <a:lnTo>
                  <a:pt x="13256" y="626"/>
                </a:lnTo>
                <a:lnTo>
                  <a:pt x="13080" y="526"/>
                </a:lnTo>
                <a:lnTo>
                  <a:pt x="12930" y="426"/>
                </a:lnTo>
                <a:lnTo>
                  <a:pt x="12704" y="301"/>
                </a:lnTo>
                <a:lnTo>
                  <a:pt x="12278" y="175"/>
                </a:lnTo>
                <a:lnTo>
                  <a:pt x="11802" y="25"/>
                </a:lnTo>
                <a:lnTo>
                  <a:pt x="11276" y="0"/>
                </a:lnTo>
                <a:lnTo>
                  <a:pt x="10825" y="0"/>
                </a:lnTo>
                <a:lnTo>
                  <a:pt x="10324" y="0"/>
                </a:lnTo>
                <a:lnTo>
                  <a:pt x="9848" y="25"/>
                </a:lnTo>
                <a:lnTo>
                  <a:pt x="9347" y="175"/>
                </a:lnTo>
                <a:lnTo>
                  <a:pt x="8921" y="301"/>
                </a:lnTo>
                <a:lnTo>
                  <a:pt x="8695" y="426"/>
                </a:lnTo>
                <a:lnTo>
                  <a:pt x="8545" y="526"/>
                </a:lnTo>
                <a:lnTo>
                  <a:pt x="8394" y="626"/>
                </a:lnTo>
                <a:lnTo>
                  <a:pt x="8269" y="777"/>
                </a:lnTo>
                <a:lnTo>
                  <a:pt x="8169" y="952"/>
                </a:lnTo>
                <a:lnTo>
                  <a:pt x="8144" y="1103"/>
                </a:lnTo>
                <a:lnTo>
                  <a:pt x="8144" y="1278"/>
                </a:lnTo>
                <a:lnTo>
                  <a:pt x="8219" y="1503"/>
                </a:lnTo>
                <a:lnTo>
                  <a:pt x="7618" y="1704"/>
                </a:lnTo>
                <a:lnTo>
                  <a:pt x="7066" y="1929"/>
                </a:lnTo>
                <a:lnTo>
                  <a:pt x="6490" y="2205"/>
                </a:lnTo>
                <a:lnTo>
                  <a:pt x="5939" y="2456"/>
                </a:lnTo>
                <a:lnTo>
                  <a:pt x="5438" y="2781"/>
                </a:lnTo>
                <a:lnTo>
                  <a:pt x="4961" y="3132"/>
                </a:lnTo>
                <a:lnTo>
                  <a:pt x="4485" y="3533"/>
                </a:lnTo>
                <a:lnTo>
                  <a:pt x="4059" y="3959"/>
                </a:lnTo>
                <a:lnTo>
                  <a:pt x="3633" y="4385"/>
                </a:lnTo>
                <a:lnTo>
                  <a:pt x="3232" y="4861"/>
                </a:lnTo>
                <a:lnTo>
                  <a:pt x="2857" y="5387"/>
                </a:lnTo>
                <a:lnTo>
                  <a:pt x="2506" y="5889"/>
                </a:lnTo>
                <a:lnTo>
                  <a:pt x="2205" y="6465"/>
                </a:lnTo>
                <a:lnTo>
                  <a:pt x="1955" y="7016"/>
                </a:lnTo>
                <a:lnTo>
                  <a:pt x="1729" y="7568"/>
                </a:lnTo>
                <a:lnTo>
                  <a:pt x="1529" y="8169"/>
                </a:lnTo>
                <a:lnTo>
                  <a:pt x="1303" y="8144"/>
                </a:lnTo>
                <a:lnTo>
                  <a:pt x="1128" y="8144"/>
                </a:lnTo>
                <a:lnTo>
                  <a:pt x="977" y="8169"/>
                </a:lnTo>
                <a:lnTo>
                  <a:pt x="802" y="8269"/>
                </a:lnTo>
                <a:lnTo>
                  <a:pt x="652" y="8344"/>
                </a:lnTo>
                <a:lnTo>
                  <a:pt x="526" y="8520"/>
                </a:lnTo>
                <a:lnTo>
                  <a:pt x="451" y="8695"/>
                </a:lnTo>
                <a:lnTo>
                  <a:pt x="326" y="8896"/>
                </a:lnTo>
                <a:lnTo>
                  <a:pt x="200" y="9347"/>
                </a:lnTo>
                <a:lnTo>
                  <a:pt x="50" y="9823"/>
                </a:lnTo>
                <a:lnTo>
                  <a:pt x="0" y="10324"/>
                </a:lnTo>
                <a:lnTo>
                  <a:pt x="0" y="10800"/>
                </a:lnTo>
                <a:lnTo>
                  <a:pt x="0" y="11276"/>
                </a:lnTo>
                <a:lnTo>
                  <a:pt x="50" y="11727"/>
                </a:lnTo>
                <a:lnTo>
                  <a:pt x="200" y="12253"/>
                </a:lnTo>
                <a:lnTo>
                  <a:pt x="326" y="12704"/>
                </a:lnTo>
                <a:lnTo>
                  <a:pt x="451" y="12905"/>
                </a:lnTo>
                <a:lnTo>
                  <a:pt x="526" y="13080"/>
                </a:lnTo>
                <a:lnTo>
                  <a:pt x="652" y="13206"/>
                </a:lnTo>
                <a:lnTo>
                  <a:pt x="802" y="13331"/>
                </a:lnTo>
                <a:lnTo>
                  <a:pt x="977" y="13406"/>
                </a:lnTo>
                <a:lnTo>
                  <a:pt x="1128" y="13456"/>
                </a:lnTo>
                <a:lnTo>
                  <a:pt x="1303" y="13456"/>
                </a:lnTo>
                <a:lnTo>
                  <a:pt x="1529" y="13406"/>
                </a:lnTo>
                <a:lnTo>
                  <a:pt x="1729" y="13982"/>
                </a:lnTo>
                <a:lnTo>
                  <a:pt x="1955" y="14584"/>
                </a:lnTo>
                <a:lnTo>
                  <a:pt x="2255" y="15135"/>
                </a:lnTo>
                <a:lnTo>
                  <a:pt x="2556" y="15736"/>
                </a:lnTo>
                <a:lnTo>
                  <a:pt x="2907" y="16263"/>
                </a:lnTo>
                <a:lnTo>
                  <a:pt x="3283" y="16764"/>
                </a:lnTo>
                <a:lnTo>
                  <a:pt x="3684" y="17240"/>
                </a:lnTo>
                <a:lnTo>
                  <a:pt x="4110" y="17741"/>
                </a:lnTo>
                <a:lnTo>
                  <a:pt x="4535" y="18117"/>
                </a:lnTo>
                <a:lnTo>
                  <a:pt x="5012" y="18493"/>
                </a:lnTo>
                <a:lnTo>
                  <a:pt x="5463" y="18844"/>
                </a:lnTo>
                <a:lnTo>
                  <a:pt x="5989" y="19144"/>
                </a:lnTo>
                <a:lnTo>
                  <a:pt x="6490" y="19420"/>
                </a:lnTo>
                <a:lnTo>
                  <a:pt x="7066" y="19645"/>
                </a:lnTo>
                <a:lnTo>
                  <a:pt x="7618" y="19921"/>
                </a:lnTo>
                <a:lnTo>
                  <a:pt x="8219" y="20071"/>
                </a:lnTo>
                <a:lnTo>
                  <a:pt x="8144" y="20297"/>
                </a:lnTo>
                <a:lnTo>
                  <a:pt x="8144" y="20472"/>
                </a:lnTo>
                <a:lnTo>
                  <a:pt x="8169" y="20648"/>
                </a:lnTo>
                <a:lnTo>
                  <a:pt x="8269" y="20823"/>
                </a:lnTo>
                <a:lnTo>
                  <a:pt x="8394" y="20948"/>
                </a:lnTo>
                <a:lnTo>
                  <a:pt x="8545" y="21074"/>
                </a:lnTo>
                <a:lnTo>
                  <a:pt x="8695" y="21149"/>
                </a:lnTo>
                <a:lnTo>
                  <a:pt x="8921" y="21299"/>
                </a:lnTo>
                <a:lnTo>
                  <a:pt x="9347" y="21425"/>
                </a:lnTo>
                <a:lnTo>
                  <a:pt x="9848" y="21550"/>
                </a:lnTo>
                <a:lnTo>
                  <a:pt x="10324" y="21600"/>
                </a:lnTo>
                <a:lnTo>
                  <a:pt x="10825" y="21600"/>
                </a:lnTo>
                <a:lnTo>
                  <a:pt x="11276" y="21600"/>
                </a:lnTo>
                <a:lnTo>
                  <a:pt x="11802" y="21550"/>
                </a:lnTo>
                <a:lnTo>
                  <a:pt x="12278" y="21425"/>
                </a:lnTo>
                <a:lnTo>
                  <a:pt x="12704" y="21299"/>
                </a:lnTo>
                <a:lnTo>
                  <a:pt x="12930" y="21149"/>
                </a:lnTo>
                <a:lnTo>
                  <a:pt x="13080" y="21074"/>
                </a:lnTo>
                <a:lnTo>
                  <a:pt x="13256" y="20948"/>
                </a:lnTo>
                <a:lnTo>
                  <a:pt x="13356" y="20823"/>
                </a:lnTo>
                <a:lnTo>
                  <a:pt x="13431" y="20648"/>
                </a:lnTo>
                <a:lnTo>
                  <a:pt x="13481" y="20472"/>
                </a:lnTo>
                <a:lnTo>
                  <a:pt x="13481" y="20297"/>
                </a:lnTo>
                <a:lnTo>
                  <a:pt x="13431" y="20071"/>
                </a:lnTo>
                <a:lnTo>
                  <a:pt x="14032" y="19871"/>
                </a:lnTo>
                <a:lnTo>
                  <a:pt x="14609" y="19645"/>
                </a:lnTo>
                <a:lnTo>
                  <a:pt x="15135" y="19395"/>
                </a:lnTo>
                <a:lnTo>
                  <a:pt x="15686" y="19094"/>
                </a:lnTo>
                <a:lnTo>
                  <a:pt x="16213" y="18768"/>
                </a:lnTo>
                <a:lnTo>
                  <a:pt x="16739" y="18393"/>
                </a:lnTo>
                <a:lnTo>
                  <a:pt x="17165" y="18017"/>
                </a:lnTo>
                <a:lnTo>
                  <a:pt x="17641" y="17591"/>
                </a:lnTo>
                <a:close/>
              </a:path>
              <a:path w="21600" h="21600">
                <a:moveTo>
                  <a:pt x="13431" y="1503"/>
                </a:moveTo>
                <a:lnTo>
                  <a:pt x="13080" y="1428"/>
                </a:lnTo>
                <a:lnTo>
                  <a:pt x="12780" y="1378"/>
                </a:lnTo>
                <a:lnTo>
                  <a:pt x="12479" y="1278"/>
                </a:lnTo>
                <a:lnTo>
                  <a:pt x="12128" y="1253"/>
                </a:lnTo>
                <a:lnTo>
                  <a:pt x="11802" y="1203"/>
                </a:lnTo>
                <a:lnTo>
                  <a:pt x="11477" y="1203"/>
                </a:lnTo>
                <a:lnTo>
                  <a:pt x="11151" y="1153"/>
                </a:lnTo>
                <a:lnTo>
                  <a:pt x="10825" y="1153"/>
                </a:lnTo>
                <a:lnTo>
                  <a:pt x="10449" y="1153"/>
                </a:lnTo>
                <a:lnTo>
                  <a:pt x="10174" y="1203"/>
                </a:lnTo>
                <a:lnTo>
                  <a:pt x="9798" y="1203"/>
                </a:lnTo>
                <a:lnTo>
                  <a:pt x="9472" y="1253"/>
                </a:lnTo>
                <a:lnTo>
                  <a:pt x="9171" y="1278"/>
                </a:lnTo>
                <a:lnTo>
                  <a:pt x="8820" y="1378"/>
                </a:lnTo>
                <a:lnTo>
                  <a:pt x="8545" y="1428"/>
                </a:lnTo>
                <a:lnTo>
                  <a:pt x="8219" y="1503"/>
                </a:lnTo>
                <a:moveTo>
                  <a:pt x="1529" y="8169"/>
                </a:moveTo>
                <a:lnTo>
                  <a:pt x="1453" y="8520"/>
                </a:lnTo>
                <a:lnTo>
                  <a:pt x="1403" y="8820"/>
                </a:lnTo>
                <a:lnTo>
                  <a:pt x="1303" y="9121"/>
                </a:lnTo>
                <a:lnTo>
                  <a:pt x="1253" y="9447"/>
                </a:lnTo>
                <a:lnTo>
                  <a:pt x="1228" y="9823"/>
                </a:lnTo>
                <a:lnTo>
                  <a:pt x="1228" y="10098"/>
                </a:lnTo>
                <a:lnTo>
                  <a:pt x="1178" y="10449"/>
                </a:lnTo>
                <a:lnTo>
                  <a:pt x="1178" y="10800"/>
                </a:lnTo>
                <a:lnTo>
                  <a:pt x="1178" y="11126"/>
                </a:lnTo>
                <a:lnTo>
                  <a:pt x="1228" y="11502"/>
                </a:lnTo>
                <a:lnTo>
                  <a:pt x="1228" y="11777"/>
                </a:lnTo>
                <a:lnTo>
                  <a:pt x="1253" y="12128"/>
                </a:lnTo>
                <a:lnTo>
                  <a:pt x="1303" y="12429"/>
                </a:lnTo>
                <a:lnTo>
                  <a:pt x="1403" y="12755"/>
                </a:lnTo>
                <a:lnTo>
                  <a:pt x="1453" y="13080"/>
                </a:lnTo>
                <a:lnTo>
                  <a:pt x="1529" y="13406"/>
                </a:lnTo>
                <a:moveTo>
                  <a:pt x="13431" y="20071"/>
                </a:moveTo>
                <a:lnTo>
                  <a:pt x="13080" y="20172"/>
                </a:lnTo>
                <a:lnTo>
                  <a:pt x="12780" y="20222"/>
                </a:lnTo>
                <a:lnTo>
                  <a:pt x="12479" y="20297"/>
                </a:lnTo>
                <a:lnTo>
                  <a:pt x="12128" y="20347"/>
                </a:lnTo>
                <a:lnTo>
                  <a:pt x="11802" y="20397"/>
                </a:lnTo>
                <a:lnTo>
                  <a:pt x="11477" y="20397"/>
                </a:lnTo>
                <a:lnTo>
                  <a:pt x="11151" y="20447"/>
                </a:lnTo>
                <a:lnTo>
                  <a:pt x="10825" y="20447"/>
                </a:lnTo>
                <a:lnTo>
                  <a:pt x="10449" y="20447"/>
                </a:lnTo>
                <a:lnTo>
                  <a:pt x="10174" y="20397"/>
                </a:lnTo>
                <a:lnTo>
                  <a:pt x="9798" y="20397"/>
                </a:lnTo>
                <a:lnTo>
                  <a:pt x="9472" y="20347"/>
                </a:lnTo>
                <a:lnTo>
                  <a:pt x="9171" y="20297"/>
                </a:lnTo>
                <a:lnTo>
                  <a:pt x="8820" y="20222"/>
                </a:lnTo>
                <a:lnTo>
                  <a:pt x="8545" y="20172"/>
                </a:lnTo>
                <a:lnTo>
                  <a:pt x="8219" y="20071"/>
                </a:lnTo>
                <a:moveTo>
                  <a:pt x="20071" y="13406"/>
                </a:moveTo>
                <a:lnTo>
                  <a:pt x="20172" y="13080"/>
                </a:lnTo>
                <a:lnTo>
                  <a:pt x="20222" y="12755"/>
                </a:lnTo>
                <a:lnTo>
                  <a:pt x="20297" y="12429"/>
                </a:lnTo>
                <a:lnTo>
                  <a:pt x="20347" y="12128"/>
                </a:lnTo>
                <a:lnTo>
                  <a:pt x="20397" y="11777"/>
                </a:lnTo>
                <a:lnTo>
                  <a:pt x="20447" y="11502"/>
                </a:lnTo>
                <a:lnTo>
                  <a:pt x="20447" y="11126"/>
                </a:lnTo>
                <a:lnTo>
                  <a:pt x="20447" y="10800"/>
                </a:lnTo>
                <a:lnTo>
                  <a:pt x="20447" y="10449"/>
                </a:lnTo>
                <a:lnTo>
                  <a:pt x="20447" y="10098"/>
                </a:lnTo>
                <a:lnTo>
                  <a:pt x="20397" y="9823"/>
                </a:lnTo>
                <a:lnTo>
                  <a:pt x="20347" y="9447"/>
                </a:lnTo>
                <a:lnTo>
                  <a:pt x="20297" y="9121"/>
                </a:lnTo>
                <a:lnTo>
                  <a:pt x="20222" y="8820"/>
                </a:lnTo>
                <a:lnTo>
                  <a:pt x="20172" y="8520"/>
                </a:lnTo>
                <a:lnTo>
                  <a:pt x="20071" y="8169"/>
                </a:lnTo>
              </a:path>
            </a:pathLst>
          </a:cu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22" name="sink1"/>
          <p:cNvSpPr/>
          <p:nvPr/>
        </p:nvSpPr>
        <p:spPr>
          <a:xfrm rot="5400000">
            <a:off x="3304440" y="3564720"/>
            <a:ext cx="534960" cy="276480"/>
          </a:xfrm>
          <a:custGeom>
            <a:avLst/>
            <a:gdLst>
              <a:gd name="textAreaLeft" fmla="*/ 23760 w 534960"/>
              <a:gd name="textAreaRight" fmla="*/ 511560 w 534960"/>
              <a:gd name="textAreaTop" fmla="*/ 297360 h 276480"/>
              <a:gd name="textAreaBottom" fmla="*/ 358560 h 276480"/>
            </a:gdLst>
            <a:ahLst/>
            <a:rect l="textAreaLeft" t="textAreaTop" r="textAreaRight" b="textAreaBottom"/>
            <a:pathLst>
              <a:path w="21600" h="21600">
                <a:moveTo>
                  <a:pt x="10595" y="21600"/>
                </a:moveTo>
                <a:lnTo>
                  <a:pt x="21600" y="21600"/>
                </a:lnTo>
                <a:lnTo>
                  <a:pt x="21600" y="10800"/>
                </a:lnTo>
                <a:lnTo>
                  <a:pt x="21600" y="0"/>
                </a:lnTo>
                <a:lnTo>
                  <a:pt x="10709" y="0"/>
                </a:lnTo>
                <a:lnTo>
                  <a:pt x="0" y="0"/>
                </a:lnTo>
                <a:lnTo>
                  <a:pt x="0" y="10545"/>
                </a:lnTo>
                <a:lnTo>
                  <a:pt x="0" y="21600"/>
                </a:lnTo>
                <a:lnTo>
                  <a:pt x="10595" y="21600"/>
                </a:lnTo>
                <a:close/>
              </a:path>
              <a:path w="21600" h="21600">
                <a:moveTo>
                  <a:pt x="9478" y="6945"/>
                </a:moveTo>
                <a:lnTo>
                  <a:pt x="8157" y="7200"/>
                </a:lnTo>
                <a:lnTo>
                  <a:pt x="6835" y="7625"/>
                </a:lnTo>
                <a:lnTo>
                  <a:pt x="5787" y="8249"/>
                </a:lnTo>
                <a:lnTo>
                  <a:pt x="4762" y="9014"/>
                </a:lnTo>
                <a:lnTo>
                  <a:pt x="4375" y="9524"/>
                </a:lnTo>
                <a:lnTo>
                  <a:pt x="3987" y="10006"/>
                </a:lnTo>
                <a:lnTo>
                  <a:pt x="3646" y="10431"/>
                </a:lnTo>
                <a:lnTo>
                  <a:pt x="3349" y="10913"/>
                </a:lnTo>
                <a:lnTo>
                  <a:pt x="3144" y="11537"/>
                </a:lnTo>
                <a:lnTo>
                  <a:pt x="2962" y="12076"/>
                </a:lnTo>
                <a:lnTo>
                  <a:pt x="2848" y="12557"/>
                </a:lnTo>
                <a:lnTo>
                  <a:pt x="2848" y="13124"/>
                </a:lnTo>
                <a:lnTo>
                  <a:pt x="2962" y="13861"/>
                </a:lnTo>
                <a:lnTo>
                  <a:pt x="3053" y="14400"/>
                </a:lnTo>
                <a:lnTo>
                  <a:pt x="3258" y="14995"/>
                </a:lnTo>
                <a:lnTo>
                  <a:pt x="3532" y="15619"/>
                </a:lnTo>
                <a:lnTo>
                  <a:pt x="3828" y="16157"/>
                </a:lnTo>
                <a:lnTo>
                  <a:pt x="4170" y="16781"/>
                </a:lnTo>
                <a:lnTo>
                  <a:pt x="4671" y="17263"/>
                </a:lnTo>
                <a:lnTo>
                  <a:pt x="5104" y="17688"/>
                </a:lnTo>
                <a:lnTo>
                  <a:pt x="5696" y="18057"/>
                </a:lnTo>
                <a:lnTo>
                  <a:pt x="6334" y="18425"/>
                </a:lnTo>
                <a:lnTo>
                  <a:pt x="6927" y="18794"/>
                </a:lnTo>
                <a:lnTo>
                  <a:pt x="7656" y="18964"/>
                </a:lnTo>
                <a:lnTo>
                  <a:pt x="8339" y="19219"/>
                </a:lnTo>
                <a:lnTo>
                  <a:pt x="9091" y="19332"/>
                </a:lnTo>
                <a:lnTo>
                  <a:pt x="9866" y="19474"/>
                </a:lnTo>
                <a:lnTo>
                  <a:pt x="10709" y="19474"/>
                </a:lnTo>
                <a:lnTo>
                  <a:pt x="11438" y="19474"/>
                </a:lnTo>
                <a:lnTo>
                  <a:pt x="12213" y="19332"/>
                </a:lnTo>
                <a:lnTo>
                  <a:pt x="12965" y="19219"/>
                </a:lnTo>
                <a:lnTo>
                  <a:pt x="13739" y="18964"/>
                </a:lnTo>
                <a:lnTo>
                  <a:pt x="14377" y="18794"/>
                </a:lnTo>
                <a:lnTo>
                  <a:pt x="15061" y="18425"/>
                </a:lnTo>
                <a:lnTo>
                  <a:pt x="15608" y="18057"/>
                </a:lnTo>
                <a:lnTo>
                  <a:pt x="16200" y="17688"/>
                </a:lnTo>
                <a:lnTo>
                  <a:pt x="16724" y="17263"/>
                </a:lnTo>
                <a:lnTo>
                  <a:pt x="17134" y="16781"/>
                </a:lnTo>
                <a:lnTo>
                  <a:pt x="17613" y="16157"/>
                </a:lnTo>
                <a:lnTo>
                  <a:pt x="17863" y="15619"/>
                </a:lnTo>
                <a:lnTo>
                  <a:pt x="18159" y="14995"/>
                </a:lnTo>
                <a:lnTo>
                  <a:pt x="18342" y="14400"/>
                </a:lnTo>
                <a:lnTo>
                  <a:pt x="18456" y="13861"/>
                </a:lnTo>
                <a:lnTo>
                  <a:pt x="18547" y="13124"/>
                </a:lnTo>
                <a:lnTo>
                  <a:pt x="18456" y="12557"/>
                </a:lnTo>
                <a:lnTo>
                  <a:pt x="18342" y="12076"/>
                </a:lnTo>
                <a:lnTo>
                  <a:pt x="18251" y="11537"/>
                </a:lnTo>
                <a:lnTo>
                  <a:pt x="17954" y="10913"/>
                </a:lnTo>
                <a:lnTo>
                  <a:pt x="17704" y="10431"/>
                </a:lnTo>
                <a:lnTo>
                  <a:pt x="17430" y="10006"/>
                </a:lnTo>
                <a:lnTo>
                  <a:pt x="17020" y="9524"/>
                </a:lnTo>
                <a:lnTo>
                  <a:pt x="16633" y="9014"/>
                </a:lnTo>
                <a:lnTo>
                  <a:pt x="15699" y="8362"/>
                </a:lnTo>
                <a:lnTo>
                  <a:pt x="14582" y="7625"/>
                </a:lnTo>
                <a:lnTo>
                  <a:pt x="13352" y="7200"/>
                </a:lnTo>
                <a:lnTo>
                  <a:pt x="12030" y="6945"/>
                </a:lnTo>
                <a:moveTo>
                  <a:pt x="10800" y="12557"/>
                </a:moveTo>
                <a:lnTo>
                  <a:pt x="11096" y="12444"/>
                </a:lnTo>
                <a:lnTo>
                  <a:pt x="11301" y="12444"/>
                </a:lnTo>
                <a:lnTo>
                  <a:pt x="11438" y="12331"/>
                </a:lnTo>
                <a:lnTo>
                  <a:pt x="11643" y="12076"/>
                </a:lnTo>
                <a:lnTo>
                  <a:pt x="11825" y="11820"/>
                </a:lnTo>
                <a:lnTo>
                  <a:pt x="11939" y="11594"/>
                </a:lnTo>
                <a:lnTo>
                  <a:pt x="11939" y="11282"/>
                </a:lnTo>
                <a:lnTo>
                  <a:pt x="12030" y="11055"/>
                </a:lnTo>
                <a:lnTo>
                  <a:pt x="12030" y="3912"/>
                </a:lnTo>
                <a:lnTo>
                  <a:pt x="11939" y="3543"/>
                </a:lnTo>
                <a:lnTo>
                  <a:pt x="11939" y="3288"/>
                </a:lnTo>
                <a:lnTo>
                  <a:pt x="11825" y="3061"/>
                </a:lnTo>
                <a:lnTo>
                  <a:pt x="11643" y="2806"/>
                </a:lnTo>
                <a:lnTo>
                  <a:pt x="11438" y="2636"/>
                </a:lnTo>
                <a:lnTo>
                  <a:pt x="11301" y="2494"/>
                </a:lnTo>
                <a:lnTo>
                  <a:pt x="11096" y="2381"/>
                </a:lnTo>
                <a:lnTo>
                  <a:pt x="10800" y="2381"/>
                </a:lnTo>
                <a:lnTo>
                  <a:pt x="10595" y="2381"/>
                </a:lnTo>
                <a:lnTo>
                  <a:pt x="10299" y="2494"/>
                </a:lnTo>
                <a:lnTo>
                  <a:pt x="10162" y="2636"/>
                </a:lnTo>
                <a:lnTo>
                  <a:pt x="9957" y="2806"/>
                </a:lnTo>
                <a:lnTo>
                  <a:pt x="9775" y="3061"/>
                </a:lnTo>
                <a:lnTo>
                  <a:pt x="9661" y="3288"/>
                </a:lnTo>
                <a:lnTo>
                  <a:pt x="9661" y="3543"/>
                </a:lnTo>
                <a:lnTo>
                  <a:pt x="9570" y="3912"/>
                </a:lnTo>
                <a:lnTo>
                  <a:pt x="9570" y="11055"/>
                </a:lnTo>
                <a:lnTo>
                  <a:pt x="9661" y="11282"/>
                </a:lnTo>
                <a:lnTo>
                  <a:pt x="9661" y="11594"/>
                </a:lnTo>
                <a:lnTo>
                  <a:pt x="9775" y="11820"/>
                </a:lnTo>
                <a:lnTo>
                  <a:pt x="9957" y="12076"/>
                </a:lnTo>
                <a:lnTo>
                  <a:pt x="10162" y="12331"/>
                </a:lnTo>
                <a:lnTo>
                  <a:pt x="10299" y="12444"/>
                </a:lnTo>
                <a:lnTo>
                  <a:pt x="10595" y="12444"/>
                </a:lnTo>
                <a:lnTo>
                  <a:pt x="10800" y="12557"/>
                </a:lnTo>
                <a:moveTo>
                  <a:pt x="6289" y="6463"/>
                </a:moveTo>
                <a:lnTo>
                  <a:pt x="6539" y="6350"/>
                </a:lnTo>
                <a:lnTo>
                  <a:pt x="6722" y="6350"/>
                </a:lnTo>
                <a:lnTo>
                  <a:pt x="7018" y="6094"/>
                </a:lnTo>
                <a:lnTo>
                  <a:pt x="7223" y="5981"/>
                </a:lnTo>
                <a:lnTo>
                  <a:pt x="7405" y="5669"/>
                </a:lnTo>
                <a:lnTo>
                  <a:pt x="7519" y="5414"/>
                </a:lnTo>
                <a:lnTo>
                  <a:pt x="7610" y="5074"/>
                </a:lnTo>
                <a:lnTo>
                  <a:pt x="7610" y="4706"/>
                </a:lnTo>
                <a:lnTo>
                  <a:pt x="7610" y="4337"/>
                </a:lnTo>
                <a:lnTo>
                  <a:pt x="7519" y="4139"/>
                </a:lnTo>
                <a:lnTo>
                  <a:pt x="7405" y="3770"/>
                </a:lnTo>
                <a:lnTo>
                  <a:pt x="7223" y="3543"/>
                </a:lnTo>
                <a:lnTo>
                  <a:pt x="7018" y="3288"/>
                </a:lnTo>
                <a:lnTo>
                  <a:pt x="6722" y="3175"/>
                </a:lnTo>
                <a:lnTo>
                  <a:pt x="6539" y="3061"/>
                </a:lnTo>
                <a:lnTo>
                  <a:pt x="6289" y="3061"/>
                </a:lnTo>
                <a:lnTo>
                  <a:pt x="5992" y="3061"/>
                </a:lnTo>
                <a:lnTo>
                  <a:pt x="5696" y="3175"/>
                </a:lnTo>
                <a:lnTo>
                  <a:pt x="5514" y="3288"/>
                </a:lnTo>
                <a:lnTo>
                  <a:pt x="5309" y="3543"/>
                </a:lnTo>
                <a:lnTo>
                  <a:pt x="5104" y="3770"/>
                </a:lnTo>
                <a:lnTo>
                  <a:pt x="4967" y="4139"/>
                </a:lnTo>
                <a:lnTo>
                  <a:pt x="4967" y="4337"/>
                </a:lnTo>
                <a:lnTo>
                  <a:pt x="4876" y="4706"/>
                </a:lnTo>
                <a:lnTo>
                  <a:pt x="4967" y="5074"/>
                </a:lnTo>
                <a:lnTo>
                  <a:pt x="4967" y="5414"/>
                </a:lnTo>
                <a:lnTo>
                  <a:pt x="5104" y="5669"/>
                </a:lnTo>
                <a:lnTo>
                  <a:pt x="5309" y="5981"/>
                </a:lnTo>
                <a:lnTo>
                  <a:pt x="5514" y="6094"/>
                </a:lnTo>
                <a:lnTo>
                  <a:pt x="5696" y="6350"/>
                </a:lnTo>
                <a:lnTo>
                  <a:pt x="5992" y="6350"/>
                </a:lnTo>
                <a:lnTo>
                  <a:pt x="6289" y="6463"/>
                </a:lnTo>
                <a:moveTo>
                  <a:pt x="15311" y="6463"/>
                </a:moveTo>
                <a:lnTo>
                  <a:pt x="15061" y="6350"/>
                </a:lnTo>
                <a:lnTo>
                  <a:pt x="14878" y="6350"/>
                </a:lnTo>
                <a:lnTo>
                  <a:pt x="14582" y="6094"/>
                </a:lnTo>
                <a:lnTo>
                  <a:pt x="14377" y="5981"/>
                </a:lnTo>
                <a:lnTo>
                  <a:pt x="14195" y="5669"/>
                </a:lnTo>
                <a:lnTo>
                  <a:pt x="14081" y="5414"/>
                </a:lnTo>
                <a:lnTo>
                  <a:pt x="13990" y="5074"/>
                </a:lnTo>
                <a:lnTo>
                  <a:pt x="13990" y="4706"/>
                </a:lnTo>
                <a:lnTo>
                  <a:pt x="13990" y="4337"/>
                </a:lnTo>
                <a:lnTo>
                  <a:pt x="14081" y="4139"/>
                </a:lnTo>
                <a:lnTo>
                  <a:pt x="14195" y="3770"/>
                </a:lnTo>
                <a:lnTo>
                  <a:pt x="14377" y="3543"/>
                </a:lnTo>
                <a:lnTo>
                  <a:pt x="14582" y="3288"/>
                </a:lnTo>
                <a:lnTo>
                  <a:pt x="14878" y="3175"/>
                </a:lnTo>
                <a:lnTo>
                  <a:pt x="15061" y="3061"/>
                </a:lnTo>
                <a:lnTo>
                  <a:pt x="15311" y="3061"/>
                </a:lnTo>
                <a:lnTo>
                  <a:pt x="15608" y="3061"/>
                </a:lnTo>
                <a:lnTo>
                  <a:pt x="15904" y="3175"/>
                </a:lnTo>
                <a:lnTo>
                  <a:pt x="16086" y="3288"/>
                </a:lnTo>
                <a:lnTo>
                  <a:pt x="16382" y="3543"/>
                </a:lnTo>
                <a:lnTo>
                  <a:pt x="16496" y="3770"/>
                </a:lnTo>
                <a:lnTo>
                  <a:pt x="16633" y="4139"/>
                </a:lnTo>
                <a:lnTo>
                  <a:pt x="16633" y="4337"/>
                </a:lnTo>
                <a:lnTo>
                  <a:pt x="16724" y="4706"/>
                </a:lnTo>
                <a:lnTo>
                  <a:pt x="16633" y="5074"/>
                </a:lnTo>
                <a:lnTo>
                  <a:pt x="16633" y="5414"/>
                </a:lnTo>
                <a:lnTo>
                  <a:pt x="16496" y="5669"/>
                </a:lnTo>
                <a:lnTo>
                  <a:pt x="16382" y="5981"/>
                </a:lnTo>
                <a:lnTo>
                  <a:pt x="16086" y="6094"/>
                </a:lnTo>
                <a:lnTo>
                  <a:pt x="15904" y="6350"/>
                </a:lnTo>
                <a:lnTo>
                  <a:pt x="15608" y="6350"/>
                </a:lnTo>
                <a:lnTo>
                  <a:pt x="15311" y="6463"/>
                </a:lnTo>
              </a:path>
            </a:pathLst>
          </a:custGeom>
          <a:solidFill>
            <a:srgbClr val="ffffcc"/>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2143"/>
              </a:solidFill>
              <a:latin typeface="Arial"/>
            </a:endParaRPr>
          </a:p>
        </p:txBody>
      </p:sp>
      <p:sp>
        <p:nvSpPr>
          <p:cNvPr id="923" name="Rectangle 8"/>
          <p:cNvSpPr/>
          <p:nvPr/>
        </p:nvSpPr>
        <p:spPr>
          <a:xfrm>
            <a:off x="2708280" y="2782800"/>
            <a:ext cx="3049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924" name="table"/>
          <p:cNvSpPr/>
          <p:nvPr/>
        </p:nvSpPr>
        <p:spPr>
          <a:xfrm>
            <a:off x="5146560" y="2827440"/>
            <a:ext cx="990720" cy="1143000"/>
          </a:xfrm>
          <a:custGeom>
            <a:avLst/>
            <a:gdLst>
              <a:gd name="textAreaLeft" fmla="*/ 183960 w 990720"/>
              <a:gd name="textAreaRight" fmla="*/ 808200 w 990720"/>
              <a:gd name="textAreaTop" fmla="*/ 237600 h 1143000"/>
              <a:gd name="textAreaBottom" fmla="*/ 906120 h 1143000"/>
            </a:gdLst>
            <a:ahLst/>
            <a:rect l="textAreaLeft" t="textAreaTop" r="textAreaRight" b="textAreaBottom"/>
            <a:pathLst>
              <a:path w="21600" h="21600">
                <a:moveTo>
                  <a:pt x="17641" y="17591"/>
                </a:moveTo>
                <a:lnTo>
                  <a:pt x="18067" y="17165"/>
                </a:lnTo>
                <a:lnTo>
                  <a:pt x="18443" y="16689"/>
                </a:lnTo>
                <a:lnTo>
                  <a:pt x="18794" y="16162"/>
                </a:lnTo>
                <a:lnTo>
                  <a:pt x="19144" y="15661"/>
                </a:lnTo>
                <a:lnTo>
                  <a:pt x="19420" y="15135"/>
                </a:lnTo>
                <a:lnTo>
                  <a:pt x="19645" y="14584"/>
                </a:lnTo>
                <a:lnTo>
                  <a:pt x="19871" y="13982"/>
                </a:lnTo>
                <a:lnTo>
                  <a:pt x="20071" y="13406"/>
                </a:lnTo>
                <a:lnTo>
                  <a:pt x="20297" y="13456"/>
                </a:lnTo>
                <a:lnTo>
                  <a:pt x="20472" y="13456"/>
                </a:lnTo>
                <a:lnTo>
                  <a:pt x="20648" y="13406"/>
                </a:lnTo>
                <a:lnTo>
                  <a:pt x="20823" y="13331"/>
                </a:lnTo>
                <a:lnTo>
                  <a:pt x="20948" y="13206"/>
                </a:lnTo>
                <a:lnTo>
                  <a:pt x="21099" y="13080"/>
                </a:lnTo>
                <a:lnTo>
                  <a:pt x="21149" y="12905"/>
                </a:lnTo>
                <a:lnTo>
                  <a:pt x="21299" y="12704"/>
                </a:lnTo>
                <a:lnTo>
                  <a:pt x="21425" y="12253"/>
                </a:lnTo>
                <a:lnTo>
                  <a:pt x="21550" y="11727"/>
                </a:lnTo>
                <a:lnTo>
                  <a:pt x="21600" y="11276"/>
                </a:lnTo>
                <a:lnTo>
                  <a:pt x="21600" y="10800"/>
                </a:lnTo>
                <a:lnTo>
                  <a:pt x="21600" y="10324"/>
                </a:lnTo>
                <a:lnTo>
                  <a:pt x="21550" y="9823"/>
                </a:lnTo>
                <a:lnTo>
                  <a:pt x="21425" y="9347"/>
                </a:lnTo>
                <a:lnTo>
                  <a:pt x="21299" y="8896"/>
                </a:lnTo>
                <a:lnTo>
                  <a:pt x="21149" y="8695"/>
                </a:lnTo>
                <a:lnTo>
                  <a:pt x="21099" y="8520"/>
                </a:lnTo>
                <a:lnTo>
                  <a:pt x="20948" y="8344"/>
                </a:lnTo>
                <a:lnTo>
                  <a:pt x="20823" y="8269"/>
                </a:lnTo>
                <a:lnTo>
                  <a:pt x="20648" y="8169"/>
                </a:lnTo>
                <a:lnTo>
                  <a:pt x="20472" y="8144"/>
                </a:lnTo>
                <a:lnTo>
                  <a:pt x="20297" y="8144"/>
                </a:lnTo>
                <a:lnTo>
                  <a:pt x="20071" y="8169"/>
                </a:lnTo>
                <a:lnTo>
                  <a:pt x="19871" y="7618"/>
                </a:lnTo>
                <a:lnTo>
                  <a:pt x="19645" y="7016"/>
                </a:lnTo>
                <a:lnTo>
                  <a:pt x="19420" y="6490"/>
                </a:lnTo>
                <a:lnTo>
                  <a:pt x="19144" y="5939"/>
                </a:lnTo>
                <a:lnTo>
                  <a:pt x="18794" y="5438"/>
                </a:lnTo>
                <a:lnTo>
                  <a:pt x="18443" y="4961"/>
                </a:lnTo>
                <a:lnTo>
                  <a:pt x="18067" y="4460"/>
                </a:lnTo>
                <a:lnTo>
                  <a:pt x="17691" y="4034"/>
                </a:lnTo>
                <a:lnTo>
                  <a:pt x="17215" y="3608"/>
                </a:lnTo>
                <a:lnTo>
                  <a:pt x="16739" y="3232"/>
                </a:lnTo>
                <a:lnTo>
                  <a:pt x="16263" y="2832"/>
                </a:lnTo>
                <a:lnTo>
                  <a:pt x="15686" y="2506"/>
                </a:lnTo>
                <a:lnTo>
                  <a:pt x="15185" y="2205"/>
                </a:lnTo>
                <a:lnTo>
                  <a:pt x="14609" y="1929"/>
                </a:lnTo>
                <a:lnTo>
                  <a:pt x="14032" y="1704"/>
                </a:lnTo>
                <a:lnTo>
                  <a:pt x="13431" y="1503"/>
                </a:lnTo>
                <a:lnTo>
                  <a:pt x="13481" y="1278"/>
                </a:lnTo>
                <a:lnTo>
                  <a:pt x="13481" y="1103"/>
                </a:lnTo>
                <a:lnTo>
                  <a:pt x="13431" y="952"/>
                </a:lnTo>
                <a:lnTo>
                  <a:pt x="13356" y="777"/>
                </a:lnTo>
                <a:lnTo>
                  <a:pt x="13256" y="626"/>
                </a:lnTo>
                <a:lnTo>
                  <a:pt x="13080" y="526"/>
                </a:lnTo>
                <a:lnTo>
                  <a:pt x="12930" y="426"/>
                </a:lnTo>
                <a:lnTo>
                  <a:pt x="12704" y="301"/>
                </a:lnTo>
                <a:lnTo>
                  <a:pt x="12278" y="175"/>
                </a:lnTo>
                <a:lnTo>
                  <a:pt x="11802" y="25"/>
                </a:lnTo>
                <a:lnTo>
                  <a:pt x="11276" y="0"/>
                </a:lnTo>
                <a:lnTo>
                  <a:pt x="10825" y="0"/>
                </a:lnTo>
                <a:lnTo>
                  <a:pt x="10324" y="0"/>
                </a:lnTo>
                <a:lnTo>
                  <a:pt x="9848" y="25"/>
                </a:lnTo>
                <a:lnTo>
                  <a:pt x="9347" y="175"/>
                </a:lnTo>
                <a:lnTo>
                  <a:pt x="8921" y="301"/>
                </a:lnTo>
                <a:lnTo>
                  <a:pt x="8695" y="426"/>
                </a:lnTo>
                <a:lnTo>
                  <a:pt x="8545" y="526"/>
                </a:lnTo>
                <a:lnTo>
                  <a:pt x="8394" y="626"/>
                </a:lnTo>
                <a:lnTo>
                  <a:pt x="8269" y="777"/>
                </a:lnTo>
                <a:lnTo>
                  <a:pt x="8169" y="952"/>
                </a:lnTo>
                <a:lnTo>
                  <a:pt x="8144" y="1103"/>
                </a:lnTo>
                <a:lnTo>
                  <a:pt x="8144" y="1278"/>
                </a:lnTo>
                <a:lnTo>
                  <a:pt x="8219" y="1503"/>
                </a:lnTo>
                <a:lnTo>
                  <a:pt x="7618" y="1704"/>
                </a:lnTo>
                <a:lnTo>
                  <a:pt x="7066" y="1929"/>
                </a:lnTo>
                <a:lnTo>
                  <a:pt x="6490" y="2205"/>
                </a:lnTo>
                <a:lnTo>
                  <a:pt x="5939" y="2456"/>
                </a:lnTo>
                <a:lnTo>
                  <a:pt x="5438" y="2781"/>
                </a:lnTo>
                <a:lnTo>
                  <a:pt x="4961" y="3132"/>
                </a:lnTo>
                <a:lnTo>
                  <a:pt x="4485" y="3533"/>
                </a:lnTo>
                <a:lnTo>
                  <a:pt x="4059" y="3959"/>
                </a:lnTo>
                <a:lnTo>
                  <a:pt x="3633" y="4385"/>
                </a:lnTo>
                <a:lnTo>
                  <a:pt x="3232" y="4861"/>
                </a:lnTo>
                <a:lnTo>
                  <a:pt x="2857" y="5387"/>
                </a:lnTo>
                <a:lnTo>
                  <a:pt x="2506" y="5889"/>
                </a:lnTo>
                <a:lnTo>
                  <a:pt x="2205" y="6465"/>
                </a:lnTo>
                <a:lnTo>
                  <a:pt x="1955" y="7016"/>
                </a:lnTo>
                <a:lnTo>
                  <a:pt x="1729" y="7568"/>
                </a:lnTo>
                <a:lnTo>
                  <a:pt x="1529" y="8169"/>
                </a:lnTo>
                <a:lnTo>
                  <a:pt x="1303" y="8144"/>
                </a:lnTo>
                <a:lnTo>
                  <a:pt x="1128" y="8144"/>
                </a:lnTo>
                <a:lnTo>
                  <a:pt x="977" y="8169"/>
                </a:lnTo>
                <a:lnTo>
                  <a:pt x="802" y="8269"/>
                </a:lnTo>
                <a:lnTo>
                  <a:pt x="652" y="8344"/>
                </a:lnTo>
                <a:lnTo>
                  <a:pt x="526" y="8520"/>
                </a:lnTo>
                <a:lnTo>
                  <a:pt x="451" y="8695"/>
                </a:lnTo>
                <a:lnTo>
                  <a:pt x="326" y="8896"/>
                </a:lnTo>
                <a:lnTo>
                  <a:pt x="200" y="9347"/>
                </a:lnTo>
                <a:lnTo>
                  <a:pt x="50" y="9823"/>
                </a:lnTo>
                <a:lnTo>
                  <a:pt x="0" y="10324"/>
                </a:lnTo>
                <a:lnTo>
                  <a:pt x="0" y="10800"/>
                </a:lnTo>
                <a:lnTo>
                  <a:pt x="0" y="11276"/>
                </a:lnTo>
                <a:lnTo>
                  <a:pt x="50" y="11727"/>
                </a:lnTo>
                <a:lnTo>
                  <a:pt x="200" y="12253"/>
                </a:lnTo>
                <a:lnTo>
                  <a:pt x="326" y="12704"/>
                </a:lnTo>
                <a:lnTo>
                  <a:pt x="451" y="12905"/>
                </a:lnTo>
                <a:lnTo>
                  <a:pt x="526" y="13080"/>
                </a:lnTo>
                <a:lnTo>
                  <a:pt x="652" y="13206"/>
                </a:lnTo>
                <a:lnTo>
                  <a:pt x="802" y="13331"/>
                </a:lnTo>
                <a:lnTo>
                  <a:pt x="977" y="13406"/>
                </a:lnTo>
                <a:lnTo>
                  <a:pt x="1128" y="13456"/>
                </a:lnTo>
                <a:lnTo>
                  <a:pt x="1303" y="13456"/>
                </a:lnTo>
                <a:lnTo>
                  <a:pt x="1529" y="13406"/>
                </a:lnTo>
                <a:lnTo>
                  <a:pt x="1729" y="13982"/>
                </a:lnTo>
                <a:lnTo>
                  <a:pt x="1955" y="14584"/>
                </a:lnTo>
                <a:lnTo>
                  <a:pt x="2255" y="15135"/>
                </a:lnTo>
                <a:lnTo>
                  <a:pt x="2556" y="15736"/>
                </a:lnTo>
                <a:lnTo>
                  <a:pt x="2907" y="16263"/>
                </a:lnTo>
                <a:lnTo>
                  <a:pt x="3283" y="16764"/>
                </a:lnTo>
                <a:lnTo>
                  <a:pt x="3684" y="17240"/>
                </a:lnTo>
                <a:lnTo>
                  <a:pt x="4110" y="17741"/>
                </a:lnTo>
                <a:lnTo>
                  <a:pt x="4535" y="18117"/>
                </a:lnTo>
                <a:lnTo>
                  <a:pt x="5012" y="18493"/>
                </a:lnTo>
                <a:lnTo>
                  <a:pt x="5463" y="18844"/>
                </a:lnTo>
                <a:lnTo>
                  <a:pt x="5989" y="19144"/>
                </a:lnTo>
                <a:lnTo>
                  <a:pt x="6490" y="19420"/>
                </a:lnTo>
                <a:lnTo>
                  <a:pt x="7066" y="19645"/>
                </a:lnTo>
                <a:lnTo>
                  <a:pt x="7618" y="19921"/>
                </a:lnTo>
                <a:lnTo>
                  <a:pt x="8219" y="20071"/>
                </a:lnTo>
                <a:lnTo>
                  <a:pt x="8144" y="20297"/>
                </a:lnTo>
                <a:lnTo>
                  <a:pt x="8144" y="20472"/>
                </a:lnTo>
                <a:lnTo>
                  <a:pt x="8169" y="20648"/>
                </a:lnTo>
                <a:lnTo>
                  <a:pt x="8269" y="20823"/>
                </a:lnTo>
                <a:lnTo>
                  <a:pt x="8394" y="20948"/>
                </a:lnTo>
                <a:lnTo>
                  <a:pt x="8545" y="21074"/>
                </a:lnTo>
                <a:lnTo>
                  <a:pt x="8695" y="21149"/>
                </a:lnTo>
                <a:lnTo>
                  <a:pt x="8921" y="21299"/>
                </a:lnTo>
                <a:lnTo>
                  <a:pt x="9347" y="21425"/>
                </a:lnTo>
                <a:lnTo>
                  <a:pt x="9848" y="21550"/>
                </a:lnTo>
                <a:lnTo>
                  <a:pt x="10324" y="21600"/>
                </a:lnTo>
                <a:lnTo>
                  <a:pt x="10825" y="21600"/>
                </a:lnTo>
                <a:lnTo>
                  <a:pt x="11276" y="21600"/>
                </a:lnTo>
                <a:lnTo>
                  <a:pt x="11802" y="21550"/>
                </a:lnTo>
                <a:lnTo>
                  <a:pt x="12278" y="21425"/>
                </a:lnTo>
                <a:lnTo>
                  <a:pt x="12704" y="21299"/>
                </a:lnTo>
                <a:lnTo>
                  <a:pt x="12930" y="21149"/>
                </a:lnTo>
                <a:lnTo>
                  <a:pt x="13080" y="21074"/>
                </a:lnTo>
                <a:lnTo>
                  <a:pt x="13256" y="20948"/>
                </a:lnTo>
                <a:lnTo>
                  <a:pt x="13356" y="20823"/>
                </a:lnTo>
                <a:lnTo>
                  <a:pt x="13431" y="20648"/>
                </a:lnTo>
                <a:lnTo>
                  <a:pt x="13481" y="20472"/>
                </a:lnTo>
                <a:lnTo>
                  <a:pt x="13481" y="20297"/>
                </a:lnTo>
                <a:lnTo>
                  <a:pt x="13431" y="20071"/>
                </a:lnTo>
                <a:lnTo>
                  <a:pt x="14032" y="19871"/>
                </a:lnTo>
                <a:lnTo>
                  <a:pt x="14609" y="19645"/>
                </a:lnTo>
                <a:lnTo>
                  <a:pt x="15135" y="19395"/>
                </a:lnTo>
                <a:lnTo>
                  <a:pt x="15686" y="19094"/>
                </a:lnTo>
                <a:lnTo>
                  <a:pt x="16213" y="18768"/>
                </a:lnTo>
                <a:lnTo>
                  <a:pt x="16739" y="18393"/>
                </a:lnTo>
                <a:lnTo>
                  <a:pt x="17165" y="18017"/>
                </a:lnTo>
                <a:lnTo>
                  <a:pt x="17641" y="17591"/>
                </a:lnTo>
                <a:close/>
              </a:path>
              <a:path w="21600" h="21600">
                <a:moveTo>
                  <a:pt x="13431" y="1503"/>
                </a:moveTo>
                <a:lnTo>
                  <a:pt x="13080" y="1428"/>
                </a:lnTo>
                <a:lnTo>
                  <a:pt x="12780" y="1378"/>
                </a:lnTo>
                <a:lnTo>
                  <a:pt x="12479" y="1278"/>
                </a:lnTo>
                <a:lnTo>
                  <a:pt x="12128" y="1253"/>
                </a:lnTo>
                <a:lnTo>
                  <a:pt x="11802" y="1203"/>
                </a:lnTo>
                <a:lnTo>
                  <a:pt x="11477" y="1203"/>
                </a:lnTo>
                <a:lnTo>
                  <a:pt x="11151" y="1153"/>
                </a:lnTo>
                <a:lnTo>
                  <a:pt x="10825" y="1153"/>
                </a:lnTo>
                <a:lnTo>
                  <a:pt x="10449" y="1153"/>
                </a:lnTo>
                <a:lnTo>
                  <a:pt x="10174" y="1203"/>
                </a:lnTo>
                <a:lnTo>
                  <a:pt x="9798" y="1203"/>
                </a:lnTo>
                <a:lnTo>
                  <a:pt x="9472" y="1253"/>
                </a:lnTo>
                <a:lnTo>
                  <a:pt x="9171" y="1278"/>
                </a:lnTo>
                <a:lnTo>
                  <a:pt x="8820" y="1378"/>
                </a:lnTo>
                <a:lnTo>
                  <a:pt x="8545" y="1428"/>
                </a:lnTo>
                <a:lnTo>
                  <a:pt x="8219" y="1503"/>
                </a:lnTo>
                <a:moveTo>
                  <a:pt x="1529" y="8169"/>
                </a:moveTo>
                <a:lnTo>
                  <a:pt x="1453" y="8520"/>
                </a:lnTo>
                <a:lnTo>
                  <a:pt x="1403" y="8820"/>
                </a:lnTo>
                <a:lnTo>
                  <a:pt x="1303" y="9121"/>
                </a:lnTo>
                <a:lnTo>
                  <a:pt x="1253" y="9447"/>
                </a:lnTo>
                <a:lnTo>
                  <a:pt x="1228" y="9823"/>
                </a:lnTo>
                <a:lnTo>
                  <a:pt x="1228" y="10098"/>
                </a:lnTo>
                <a:lnTo>
                  <a:pt x="1178" y="10449"/>
                </a:lnTo>
                <a:lnTo>
                  <a:pt x="1178" y="10800"/>
                </a:lnTo>
                <a:lnTo>
                  <a:pt x="1178" y="11126"/>
                </a:lnTo>
                <a:lnTo>
                  <a:pt x="1228" y="11502"/>
                </a:lnTo>
                <a:lnTo>
                  <a:pt x="1228" y="11777"/>
                </a:lnTo>
                <a:lnTo>
                  <a:pt x="1253" y="12128"/>
                </a:lnTo>
                <a:lnTo>
                  <a:pt x="1303" y="12429"/>
                </a:lnTo>
                <a:lnTo>
                  <a:pt x="1403" y="12755"/>
                </a:lnTo>
                <a:lnTo>
                  <a:pt x="1453" y="13080"/>
                </a:lnTo>
                <a:lnTo>
                  <a:pt x="1529" y="13406"/>
                </a:lnTo>
                <a:moveTo>
                  <a:pt x="13431" y="20071"/>
                </a:moveTo>
                <a:lnTo>
                  <a:pt x="13080" y="20172"/>
                </a:lnTo>
                <a:lnTo>
                  <a:pt x="12780" y="20222"/>
                </a:lnTo>
                <a:lnTo>
                  <a:pt x="12479" y="20297"/>
                </a:lnTo>
                <a:lnTo>
                  <a:pt x="12128" y="20347"/>
                </a:lnTo>
                <a:lnTo>
                  <a:pt x="11802" y="20397"/>
                </a:lnTo>
                <a:lnTo>
                  <a:pt x="11477" y="20397"/>
                </a:lnTo>
                <a:lnTo>
                  <a:pt x="11151" y="20447"/>
                </a:lnTo>
                <a:lnTo>
                  <a:pt x="10825" y="20447"/>
                </a:lnTo>
                <a:lnTo>
                  <a:pt x="10449" y="20447"/>
                </a:lnTo>
                <a:lnTo>
                  <a:pt x="10174" y="20397"/>
                </a:lnTo>
                <a:lnTo>
                  <a:pt x="9798" y="20397"/>
                </a:lnTo>
                <a:lnTo>
                  <a:pt x="9472" y="20347"/>
                </a:lnTo>
                <a:lnTo>
                  <a:pt x="9171" y="20297"/>
                </a:lnTo>
                <a:lnTo>
                  <a:pt x="8820" y="20222"/>
                </a:lnTo>
                <a:lnTo>
                  <a:pt x="8545" y="20172"/>
                </a:lnTo>
                <a:lnTo>
                  <a:pt x="8219" y="20071"/>
                </a:lnTo>
                <a:moveTo>
                  <a:pt x="20071" y="13406"/>
                </a:moveTo>
                <a:lnTo>
                  <a:pt x="20172" y="13080"/>
                </a:lnTo>
                <a:lnTo>
                  <a:pt x="20222" y="12755"/>
                </a:lnTo>
                <a:lnTo>
                  <a:pt x="20297" y="12429"/>
                </a:lnTo>
                <a:lnTo>
                  <a:pt x="20347" y="12128"/>
                </a:lnTo>
                <a:lnTo>
                  <a:pt x="20397" y="11777"/>
                </a:lnTo>
                <a:lnTo>
                  <a:pt x="20447" y="11502"/>
                </a:lnTo>
                <a:lnTo>
                  <a:pt x="20447" y="11126"/>
                </a:lnTo>
                <a:lnTo>
                  <a:pt x="20447" y="10800"/>
                </a:lnTo>
                <a:lnTo>
                  <a:pt x="20447" y="10449"/>
                </a:lnTo>
                <a:lnTo>
                  <a:pt x="20447" y="10098"/>
                </a:lnTo>
                <a:lnTo>
                  <a:pt x="20397" y="9823"/>
                </a:lnTo>
                <a:lnTo>
                  <a:pt x="20347" y="9447"/>
                </a:lnTo>
                <a:lnTo>
                  <a:pt x="20297" y="9121"/>
                </a:lnTo>
                <a:lnTo>
                  <a:pt x="20222" y="8820"/>
                </a:lnTo>
                <a:lnTo>
                  <a:pt x="20172" y="8520"/>
                </a:lnTo>
                <a:lnTo>
                  <a:pt x="20071" y="8169"/>
                </a:lnTo>
              </a:path>
            </a:pathLst>
          </a:cu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25" name="chair3"/>
          <p:cNvSpPr/>
          <p:nvPr/>
        </p:nvSpPr>
        <p:spPr>
          <a:xfrm>
            <a:off x="3200400" y="2627280"/>
            <a:ext cx="465120" cy="343080"/>
          </a:xfrm>
          <a:custGeom>
            <a:avLst/>
            <a:gdLst>
              <a:gd name="textAreaLeft" fmla="*/ 104040 w 465120"/>
              <a:gd name="textAreaRight" fmla="*/ 362880 w 465120"/>
              <a:gd name="textAreaTop" fmla="*/ 105480 h 343080"/>
              <a:gd name="textAreaBottom" fmla="*/ 312120 h 343080"/>
            </a:gdLst>
            <a:ahLst/>
            <a:rect l="textAreaLeft" t="textAreaTop" r="textAreaRight" b="textAreaBottom"/>
            <a:pathLst>
              <a:path w="21600" h="21600">
                <a:moveTo>
                  <a:pt x="10661" y="21600"/>
                </a:moveTo>
                <a:lnTo>
                  <a:pt x="11964" y="21600"/>
                </a:lnTo>
                <a:lnTo>
                  <a:pt x="12969" y="21477"/>
                </a:lnTo>
                <a:lnTo>
                  <a:pt x="13951" y="21379"/>
                </a:lnTo>
                <a:lnTo>
                  <a:pt x="14742" y="21134"/>
                </a:lnTo>
                <a:lnTo>
                  <a:pt x="15575" y="20765"/>
                </a:lnTo>
                <a:lnTo>
                  <a:pt x="16152" y="20520"/>
                </a:lnTo>
                <a:lnTo>
                  <a:pt x="16579" y="20225"/>
                </a:lnTo>
                <a:lnTo>
                  <a:pt x="16942" y="19857"/>
                </a:lnTo>
                <a:lnTo>
                  <a:pt x="17455" y="20520"/>
                </a:lnTo>
                <a:lnTo>
                  <a:pt x="17989" y="21011"/>
                </a:lnTo>
                <a:lnTo>
                  <a:pt x="18459" y="21379"/>
                </a:lnTo>
                <a:lnTo>
                  <a:pt x="19079" y="21477"/>
                </a:lnTo>
                <a:lnTo>
                  <a:pt x="19656" y="21477"/>
                </a:lnTo>
                <a:lnTo>
                  <a:pt x="20275" y="21379"/>
                </a:lnTo>
                <a:lnTo>
                  <a:pt x="20660" y="21011"/>
                </a:lnTo>
                <a:lnTo>
                  <a:pt x="21173" y="20643"/>
                </a:lnTo>
                <a:lnTo>
                  <a:pt x="21386" y="20225"/>
                </a:lnTo>
                <a:lnTo>
                  <a:pt x="21600" y="19636"/>
                </a:lnTo>
                <a:lnTo>
                  <a:pt x="21600" y="19145"/>
                </a:lnTo>
                <a:lnTo>
                  <a:pt x="21600" y="18605"/>
                </a:lnTo>
                <a:lnTo>
                  <a:pt x="21386" y="18115"/>
                </a:lnTo>
                <a:lnTo>
                  <a:pt x="21066" y="17525"/>
                </a:lnTo>
                <a:lnTo>
                  <a:pt x="20660" y="17108"/>
                </a:lnTo>
                <a:lnTo>
                  <a:pt x="20275" y="16740"/>
                </a:lnTo>
                <a:lnTo>
                  <a:pt x="20275" y="10628"/>
                </a:lnTo>
                <a:lnTo>
                  <a:pt x="20275" y="5695"/>
                </a:lnTo>
                <a:lnTo>
                  <a:pt x="20275" y="5105"/>
                </a:lnTo>
                <a:lnTo>
                  <a:pt x="20190" y="4492"/>
                </a:lnTo>
                <a:lnTo>
                  <a:pt x="19976" y="4075"/>
                </a:lnTo>
                <a:lnTo>
                  <a:pt x="19763" y="3485"/>
                </a:lnTo>
                <a:lnTo>
                  <a:pt x="19442" y="2995"/>
                </a:lnTo>
                <a:lnTo>
                  <a:pt x="19079" y="2455"/>
                </a:lnTo>
                <a:lnTo>
                  <a:pt x="18673" y="2086"/>
                </a:lnTo>
                <a:lnTo>
                  <a:pt x="18139" y="1620"/>
                </a:lnTo>
                <a:lnTo>
                  <a:pt x="17562" y="1325"/>
                </a:lnTo>
                <a:lnTo>
                  <a:pt x="16836" y="957"/>
                </a:lnTo>
                <a:lnTo>
                  <a:pt x="16045" y="589"/>
                </a:lnTo>
                <a:lnTo>
                  <a:pt x="15169" y="344"/>
                </a:lnTo>
                <a:lnTo>
                  <a:pt x="14272" y="245"/>
                </a:lnTo>
                <a:lnTo>
                  <a:pt x="13182" y="123"/>
                </a:lnTo>
                <a:lnTo>
                  <a:pt x="12028" y="0"/>
                </a:lnTo>
                <a:lnTo>
                  <a:pt x="10832" y="0"/>
                </a:lnTo>
                <a:lnTo>
                  <a:pt x="9572" y="0"/>
                </a:lnTo>
                <a:lnTo>
                  <a:pt x="8418" y="123"/>
                </a:lnTo>
                <a:lnTo>
                  <a:pt x="7328" y="245"/>
                </a:lnTo>
                <a:lnTo>
                  <a:pt x="6431" y="344"/>
                </a:lnTo>
                <a:lnTo>
                  <a:pt x="5555" y="589"/>
                </a:lnTo>
                <a:lnTo>
                  <a:pt x="4764" y="957"/>
                </a:lnTo>
                <a:lnTo>
                  <a:pt x="4038" y="1325"/>
                </a:lnTo>
                <a:lnTo>
                  <a:pt x="3461" y="1620"/>
                </a:lnTo>
                <a:lnTo>
                  <a:pt x="2927" y="2086"/>
                </a:lnTo>
                <a:lnTo>
                  <a:pt x="2521" y="2455"/>
                </a:lnTo>
                <a:lnTo>
                  <a:pt x="2158" y="2995"/>
                </a:lnTo>
                <a:lnTo>
                  <a:pt x="1837" y="3485"/>
                </a:lnTo>
                <a:lnTo>
                  <a:pt x="1624" y="4075"/>
                </a:lnTo>
                <a:lnTo>
                  <a:pt x="1410" y="4492"/>
                </a:lnTo>
                <a:lnTo>
                  <a:pt x="1303" y="5105"/>
                </a:lnTo>
                <a:lnTo>
                  <a:pt x="1303" y="5695"/>
                </a:lnTo>
                <a:lnTo>
                  <a:pt x="1303" y="10874"/>
                </a:lnTo>
                <a:lnTo>
                  <a:pt x="1303" y="16740"/>
                </a:lnTo>
                <a:lnTo>
                  <a:pt x="940" y="17108"/>
                </a:lnTo>
                <a:lnTo>
                  <a:pt x="534" y="17525"/>
                </a:lnTo>
                <a:lnTo>
                  <a:pt x="214" y="18115"/>
                </a:lnTo>
                <a:lnTo>
                  <a:pt x="0" y="18605"/>
                </a:lnTo>
                <a:lnTo>
                  <a:pt x="0" y="19145"/>
                </a:lnTo>
                <a:lnTo>
                  <a:pt x="0" y="19636"/>
                </a:lnTo>
                <a:lnTo>
                  <a:pt x="214" y="20225"/>
                </a:lnTo>
                <a:lnTo>
                  <a:pt x="427" y="20643"/>
                </a:lnTo>
                <a:lnTo>
                  <a:pt x="833" y="21011"/>
                </a:lnTo>
                <a:lnTo>
                  <a:pt x="1303" y="21379"/>
                </a:lnTo>
                <a:lnTo>
                  <a:pt x="1944" y="21477"/>
                </a:lnTo>
                <a:lnTo>
                  <a:pt x="2521" y="21477"/>
                </a:lnTo>
                <a:lnTo>
                  <a:pt x="3141" y="21379"/>
                </a:lnTo>
                <a:lnTo>
                  <a:pt x="3611" y="21011"/>
                </a:lnTo>
                <a:lnTo>
                  <a:pt x="4145" y="20520"/>
                </a:lnTo>
                <a:lnTo>
                  <a:pt x="4658" y="19857"/>
                </a:lnTo>
                <a:lnTo>
                  <a:pt x="4914" y="20225"/>
                </a:lnTo>
                <a:lnTo>
                  <a:pt x="5448" y="20520"/>
                </a:lnTo>
                <a:lnTo>
                  <a:pt x="6025" y="20765"/>
                </a:lnTo>
                <a:lnTo>
                  <a:pt x="6751" y="21134"/>
                </a:lnTo>
                <a:lnTo>
                  <a:pt x="7542" y="21379"/>
                </a:lnTo>
                <a:lnTo>
                  <a:pt x="8418" y="21477"/>
                </a:lnTo>
                <a:lnTo>
                  <a:pt x="9465" y="21600"/>
                </a:lnTo>
                <a:lnTo>
                  <a:pt x="10661" y="21600"/>
                </a:lnTo>
                <a:close/>
              </a:path>
              <a:path w="21600" h="21600">
                <a:moveTo>
                  <a:pt x="17049" y="19857"/>
                </a:moveTo>
                <a:lnTo>
                  <a:pt x="17049" y="19268"/>
                </a:lnTo>
                <a:lnTo>
                  <a:pt x="17049" y="18016"/>
                </a:lnTo>
                <a:lnTo>
                  <a:pt x="17049" y="16274"/>
                </a:lnTo>
                <a:lnTo>
                  <a:pt x="17049" y="14114"/>
                </a:lnTo>
                <a:lnTo>
                  <a:pt x="17049" y="11880"/>
                </a:lnTo>
                <a:lnTo>
                  <a:pt x="17049" y="9843"/>
                </a:lnTo>
                <a:lnTo>
                  <a:pt x="17049" y="8100"/>
                </a:lnTo>
                <a:lnTo>
                  <a:pt x="17049" y="7069"/>
                </a:lnTo>
                <a:lnTo>
                  <a:pt x="16942" y="6725"/>
                </a:lnTo>
                <a:lnTo>
                  <a:pt x="16836" y="6357"/>
                </a:lnTo>
                <a:lnTo>
                  <a:pt x="16686" y="6112"/>
                </a:lnTo>
                <a:lnTo>
                  <a:pt x="16472" y="5768"/>
                </a:lnTo>
                <a:lnTo>
                  <a:pt x="15746" y="5351"/>
                </a:lnTo>
                <a:lnTo>
                  <a:pt x="14849" y="4983"/>
                </a:lnTo>
                <a:lnTo>
                  <a:pt x="13951" y="4615"/>
                </a:lnTo>
                <a:lnTo>
                  <a:pt x="12862" y="4369"/>
                </a:lnTo>
                <a:lnTo>
                  <a:pt x="11879" y="4271"/>
                </a:lnTo>
                <a:lnTo>
                  <a:pt x="10832" y="4197"/>
                </a:lnTo>
                <a:lnTo>
                  <a:pt x="9828" y="4271"/>
                </a:lnTo>
                <a:lnTo>
                  <a:pt x="8845" y="4369"/>
                </a:lnTo>
                <a:lnTo>
                  <a:pt x="7734" y="4615"/>
                </a:lnTo>
                <a:lnTo>
                  <a:pt x="6751" y="4983"/>
                </a:lnTo>
                <a:lnTo>
                  <a:pt x="5961" y="5351"/>
                </a:lnTo>
                <a:lnTo>
                  <a:pt x="5234" y="5768"/>
                </a:lnTo>
                <a:lnTo>
                  <a:pt x="4914" y="6112"/>
                </a:lnTo>
                <a:lnTo>
                  <a:pt x="4764" y="6357"/>
                </a:lnTo>
                <a:lnTo>
                  <a:pt x="4658" y="6725"/>
                </a:lnTo>
                <a:lnTo>
                  <a:pt x="4658" y="7069"/>
                </a:lnTo>
                <a:lnTo>
                  <a:pt x="4658" y="8100"/>
                </a:lnTo>
                <a:lnTo>
                  <a:pt x="4658" y="9843"/>
                </a:lnTo>
                <a:lnTo>
                  <a:pt x="4658" y="11880"/>
                </a:lnTo>
                <a:lnTo>
                  <a:pt x="4658" y="14114"/>
                </a:lnTo>
                <a:lnTo>
                  <a:pt x="4658" y="16274"/>
                </a:lnTo>
                <a:lnTo>
                  <a:pt x="4658" y="18016"/>
                </a:lnTo>
                <a:lnTo>
                  <a:pt x="4658" y="19268"/>
                </a:lnTo>
                <a:lnTo>
                  <a:pt x="4658" y="19857"/>
                </a:lnTo>
              </a:path>
            </a:pathLst>
          </a:custGeom>
          <a:solidFill>
            <a:srgbClr val="99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26" name="chair3"/>
          <p:cNvSpPr/>
          <p:nvPr/>
        </p:nvSpPr>
        <p:spPr>
          <a:xfrm>
            <a:off x="4384800" y="2941560"/>
            <a:ext cx="533160" cy="266760"/>
          </a:xfrm>
          <a:custGeom>
            <a:avLst/>
            <a:gdLst>
              <a:gd name="textAreaLeft" fmla="*/ 119160 w 533160"/>
              <a:gd name="textAreaRight" fmla="*/ 415800 w 533160"/>
              <a:gd name="textAreaTop" fmla="*/ 82080 h 266760"/>
              <a:gd name="textAreaBottom" fmla="*/ 242640 h 266760"/>
            </a:gdLst>
            <a:ahLst/>
            <a:rect l="textAreaLeft" t="textAreaTop" r="textAreaRight" b="textAreaBottom"/>
            <a:pathLst>
              <a:path w="21600" h="21600">
                <a:moveTo>
                  <a:pt x="10661" y="21600"/>
                </a:moveTo>
                <a:lnTo>
                  <a:pt x="11964" y="21600"/>
                </a:lnTo>
                <a:lnTo>
                  <a:pt x="12969" y="21477"/>
                </a:lnTo>
                <a:lnTo>
                  <a:pt x="13951" y="21379"/>
                </a:lnTo>
                <a:lnTo>
                  <a:pt x="14742" y="21134"/>
                </a:lnTo>
                <a:lnTo>
                  <a:pt x="15575" y="20765"/>
                </a:lnTo>
                <a:lnTo>
                  <a:pt x="16152" y="20520"/>
                </a:lnTo>
                <a:lnTo>
                  <a:pt x="16579" y="20225"/>
                </a:lnTo>
                <a:lnTo>
                  <a:pt x="16942" y="19857"/>
                </a:lnTo>
                <a:lnTo>
                  <a:pt x="17455" y="20520"/>
                </a:lnTo>
                <a:lnTo>
                  <a:pt x="17989" y="21011"/>
                </a:lnTo>
                <a:lnTo>
                  <a:pt x="18459" y="21379"/>
                </a:lnTo>
                <a:lnTo>
                  <a:pt x="19079" y="21477"/>
                </a:lnTo>
                <a:lnTo>
                  <a:pt x="19656" y="21477"/>
                </a:lnTo>
                <a:lnTo>
                  <a:pt x="20275" y="21379"/>
                </a:lnTo>
                <a:lnTo>
                  <a:pt x="20660" y="21011"/>
                </a:lnTo>
                <a:lnTo>
                  <a:pt x="21173" y="20643"/>
                </a:lnTo>
                <a:lnTo>
                  <a:pt x="21386" y="20225"/>
                </a:lnTo>
                <a:lnTo>
                  <a:pt x="21600" y="19636"/>
                </a:lnTo>
                <a:lnTo>
                  <a:pt x="21600" y="19145"/>
                </a:lnTo>
                <a:lnTo>
                  <a:pt x="21600" y="18605"/>
                </a:lnTo>
                <a:lnTo>
                  <a:pt x="21386" y="18115"/>
                </a:lnTo>
                <a:lnTo>
                  <a:pt x="21066" y="17525"/>
                </a:lnTo>
                <a:lnTo>
                  <a:pt x="20660" y="17108"/>
                </a:lnTo>
                <a:lnTo>
                  <a:pt x="20275" y="16740"/>
                </a:lnTo>
                <a:lnTo>
                  <a:pt x="20275" y="10628"/>
                </a:lnTo>
                <a:lnTo>
                  <a:pt x="20275" y="5695"/>
                </a:lnTo>
                <a:lnTo>
                  <a:pt x="20275" y="5105"/>
                </a:lnTo>
                <a:lnTo>
                  <a:pt x="20190" y="4492"/>
                </a:lnTo>
                <a:lnTo>
                  <a:pt x="19976" y="4075"/>
                </a:lnTo>
                <a:lnTo>
                  <a:pt x="19763" y="3485"/>
                </a:lnTo>
                <a:lnTo>
                  <a:pt x="19442" y="2995"/>
                </a:lnTo>
                <a:lnTo>
                  <a:pt x="19079" y="2455"/>
                </a:lnTo>
                <a:lnTo>
                  <a:pt x="18673" y="2086"/>
                </a:lnTo>
                <a:lnTo>
                  <a:pt x="18139" y="1620"/>
                </a:lnTo>
                <a:lnTo>
                  <a:pt x="17562" y="1325"/>
                </a:lnTo>
                <a:lnTo>
                  <a:pt x="16836" y="957"/>
                </a:lnTo>
                <a:lnTo>
                  <a:pt x="16045" y="589"/>
                </a:lnTo>
                <a:lnTo>
                  <a:pt x="15169" y="344"/>
                </a:lnTo>
                <a:lnTo>
                  <a:pt x="14272" y="245"/>
                </a:lnTo>
                <a:lnTo>
                  <a:pt x="13182" y="123"/>
                </a:lnTo>
                <a:lnTo>
                  <a:pt x="12028" y="0"/>
                </a:lnTo>
                <a:lnTo>
                  <a:pt x="10832" y="0"/>
                </a:lnTo>
                <a:lnTo>
                  <a:pt x="9572" y="0"/>
                </a:lnTo>
                <a:lnTo>
                  <a:pt x="8418" y="123"/>
                </a:lnTo>
                <a:lnTo>
                  <a:pt x="7328" y="245"/>
                </a:lnTo>
                <a:lnTo>
                  <a:pt x="6431" y="344"/>
                </a:lnTo>
                <a:lnTo>
                  <a:pt x="5555" y="589"/>
                </a:lnTo>
                <a:lnTo>
                  <a:pt x="4764" y="957"/>
                </a:lnTo>
                <a:lnTo>
                  <a:pt x="4038" y="1325"/>
                </a:lnTo>
                <a:lnTo>
                  <a:pt x="3461" y="1620"/>
                </a:lnTo>
                <a:lnTo>
                  <a:pt x="2927" y="2086"/>
                </a:lnTo>
                <a:lnTo>
                  <a:pt x="2521" y="2455"/>
                </a:lnTo>
                <a:lnTo>
                  <a:pt x="2158" y="2995"/>
                </a:lnTo>
                <a:lnTo>
                  <a:pt x="1837" y="3485"/>
                </a:lnTo>
                <a:lnTo>
                  <a:pt x="1624" y="4075"/>
                </a:lnTo>
                <a:lnTo>
                  <a:pt x="1410" y="4492"/>
                </a:lnTo>
                <a:lnTo>
                  <a:pt x="1303" y="5105"/>
                </a:lnTo>
                <a:lnTo>
                  <a:pt x="1303" y="5695"/>
                </a:lnTo>
                <a:lnTo>
                  <a:pt x="1303" y="10874"/>
                </a:lnTo>
                <a:lnTo>
                  <a:pt x="1303" y="16740"/>
                </a:lnTo>
                <a:lnTo>
                  <a:pt x="940" y="17108"/>
                </a:lnTo>
                <a:lnTo>
                  <a:pt x="534" y="17525"/>
                </a:lnTo>
                <a:lnTo>
                  <a:pt x="214" y="18115"/>
                </a:lnTo>
                <a:lnTo>
                  <a:pt x="0" y="18605"/>
                </a:lnTo>
                <a:lnTo>
                  <a:pt x="0" y="19145"/>
                </a:lnTo>
                <a:lnTo>
                  <a:pt x="0" y="19636"/>
                </a:lnTo>
                <a:lnTo>
                  <a:pt x="214" y="20225"/>
                </a:lnTo>
                <a:lnTo>
                  <a:pt x="427" y="20643"/>
                </a:lnTo>
                <a:lnTo>
                  <a:pt x="833" y="21011"/>
                </a:lnTo>
                <a:lnTo>
                  <a:pt x="1303" y="21379"/>
                </a:lnTo>
                <a:lnTo>
                  <a:pt x="1944" y="21477"/>
                </a:lnTo>
                <a:lnTo>
                  <a:pt x="2521" y="21477"/>
                </a:lnTo>
                <a:lnTo>
                  <a:pt x="3141" y="21379"/>
                </a:lnTo>
                <a:lnTo>
                  <a:pt x="3611" y="21011"/>
                </a:lnTo>
                <a:lnTo>
                  <a:pt x="4145" y="20520"/>
                </a:lnTo>
                <a:lnTo>
                  <a:pt x="4658" y="19857"/>
                </a:lnTo>
                <a:lnTo>
                  <a:pt x="4914" y="20225"/>
                </a:lnTo>
                <a:lnTo>
                  <a:pt x="5448" y="20520"/>
                </a:lnTo>
                <a:lnTo>
                  <a:pt x="6025" y="20765"/>
                </a:lnTo>
                <a:lnTo>
                  <a:pt x="6751" y="21134"/>
                </a:lnTo>
                <a:lnTo>
                  <a:pt x="7542" y="21379"/>
                </a:lnTo>
                <a:lnTo>
                  <a:pt x="8418" y="21477"/>
                </a:lnTo>
                <a:lnTo>
                  <a:pt x="9465" y="21600"/>
                </a:lnTo>
                <a:lnTo>
                  <a:pt x="10661" y="21600"/>
                </a:lnTo>
                <a:close/>
              </a:path>
              <a:path w="21600" h="21600">
                <a:moveTo>
                  <a:pt x="17049" y="19857"/>
                </a:moveTo>
                <a:lnTo>
                  <a:pt x="17049" y="19268"/>
                </a:lnTo>
                <a:lnTo>
                  <a:pt x="17049" y="18016"/>
                </a:lnTo>
                <a:lnTo>
                  <a:pt x="17049" y="16274"/>
                </a:lnTo>
                <a:lnTo>
                  <a:pt x="17049" y="14114"/>
                </a:lnTo>
                <a:lnTo>
                  <a:pt x="17049" y="11880"/>
                </a:lnTo>
                <a:lnTo>
                  <a:pt x="17049" y="9843"/>
                </a:lnTo>
                <a:lnTo>
                  <a:pt x="17049" y="8100"/>
                </a:lnTo>
                <a:lnTo>
                  <a:pt x="17049" y="7069"/>
                </a:lnTo>
                <a:lnTo>
                  <a:pt x="16942" y="6725"/>
                </a:lnTo>
                <a:lnTo>
                  <a:pt x="16836" y="6357"/>
                </a:lnTo>
                <a:lnTo>
                  <a:pt x="16686" y="6112"/>
                </a:lnTo>
                <a:lnTo>
                  <a:pt x="16472" y="5768"/>
                </a:lnTo>
                <a:lnTo>
                  <a:pt x="15746" y="5351"/>
                </a:lnTo>
                <a:lnTo>
                  <a:pt x="14849" y="4983"/>
                </a:lnTo>
                <a:lnTo>
                  <a:pt x="13951" y="4615"/>
                </a:lnTo>
                <a:lnTo>
                  <a:pt x="12862" y="4369"/>
                </a:lnTo>
                <a:lnTo>
                  <a:pt x="11879" y="4271"/>
                </a:lnTo>
                <a:lnTo>
                  <a:pt x="10832" y="4197"/>
                </a:lnTo>
                <a:lnTo>
                  <a:pt x="9828" y="4271"/>
                </a:lnTo>
                <a:lnTo>
                  <a:pt x="8845" y="4369"/>
                </a:lnTo>
                <a:lnTo>
                  <a:pt x="7734" y="4615"/>
                </a:lnTo>
                <a:lnTo>
                  <a:pt x="6751" y="4983"/>
                </a:lnTo>
                <a:lnTo>
                  <a:pt x="5961" y="5351"/>
                </a:lnTo>
                <a:lnTo>
                  <a:pt x="5234" y="5768"/>
                </a:lnTo>
                <a:lnTo>
                  <a:pt x="4914" y="6112"/>
                </a:lnTo>
                <a:lnTo>
                  <a:pt x="4764" y="6357"/>
                </a:lnTo>
                <a:lnTo>
                  <a:pt x="4658" y="6725"/>
                </a:lnTo>
                <a:lnTo>
                  <a:pt x="4658" y="7069"/>
                </a:lnTo>
                <a:lnTo>
                  <a:pt x="4658" y="8100"/>
                </a:lnTo>
                <a:lnTo>
                  <a:pt x="4658" y="9843"/>
                </a:lnTo>
                <a:lnTo>
                  <a:pt x="4658" y="11880"/>
                </a:lnTo>
                <a:lnTo>
                  <a:pt x="4658" y="14114"/>
                </a:lnTo>
                <a:lnTo>
                  <a:pt x="4658" y="16274"/>
                </a:lnTo>
                <a:lnTo>
                  <a:pt x="4658" y="18016"/>
                </a:lnTo>
                <a:lnTo>
                  <a:pt x="4658" y="19268"/>
                </a:lnTo>
                <a:lnTo>
                  <a:pt x="4658" y="19857"/>
                </a:lnTo>
              </a:path>
            </a:pathLst>
          </a:custGeom>
          <a:solidFill>
            <a:srgbClr val="99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27" name="chair1"/>
          <p:cNvSpPr/>
          <p:nvPr/>
        </p:nvSpPr>
        <p:spPr>
          <a:xfrm rot="11915400">
            <a:off x="4232160" y="3683880"/>
            <a:ext cx="279360" cy="307800"/>
          </a:xfrm>
          <a:custGeom>
            <a:avLst/>
            <a:gdLst>
              <a:gd name="textAreaLeft" fmla="*/ 20520 w 279360"/>
              <a:gd name="textAreaRight" fmla="*/ 262800 w 279360"/>
              <a:gd name="textAreaTop" fmla="*/ 111960 h 307800"/>
              <a:gd name="textAreaBottom" fmla="*/ 250560 h 307800"/>
            </a:gdLst>
            <a:ahLst/>
            <a:rect l="textAreaLeft" t="textAreaTop" r="textAreaRight" b="textAreaBottom"/>
            <a:pathLst>
              <a:path w="21600" h="21600">
                <a:moveTo>
                  <a:pt x="17752" y="5993"/>
                </a:moveTo>
                <a:lnTo>
                  <a:pt x="13862" y="5993"/>
                </a:lnTo>
                <a:lnTo>
                  <a:pt x="13862" y="3443"/>
                </a:lnTo>
                <a:lnTo>
                  <a:pt x="18455" y="3443"/>
                </a:lnTo>
                <a:lnTo>
                  <a:pt x="18952" y="3443"/>
                </a:lnTo>
                <a:lnTo>
                  <a:pt x="19448" y="3354"/>
                </a:lnTo>
                <a:lnTo>
                  <a:pt x="19697" y="3220"/>
                </a:lnTo>
                <a:lnTo>
                  <a:pt x="20234" y="3041"/>
                </a:lnTo>
                <a:lnTo>
                  <a:pt x="20566" y="2817"/>
                </a:lnTo>
                <a:lnTo>
                  <a:pt x="20731" y="2460"/>
                </a:lnTo>
                <a:lnTo>
                  <a:pt x="20897" y="2102"/>
                </a:lnTo>
                <a:lnTo>
                  <a:pt x="20897" y="1744"/>
                </a:lnTo>
                <a:lnTo>
                  <a:pt x="20897" y="1431"/>
                </a:lnTo>
                <a:lnTo>
                  <a:pt x="20731" y="1073"/>
                </a:lnTo>
                <a:lnTo>
                  <a:pt x="20566" y="716"/>
                </a:lnTo>
                <a:lnTo>
                  <a:pt x="20234" y="492"/>
                </a:lnTo>
                <a:lnTo>
                  <a:pt x="19697" y="224"/>
                </a:lnTo>
                <a:lnTo>
                  <a:pt x="19448" y="134"/>
                </a:lnTo>
                <a:lnTo>
                  <a:pt x="18952" y="0"/>
                </a:lnTo>
                <a:lnTo>
                  <a:pt x="18455" y="0"/>
                </a:lnTo>
                <a:lnTo>
                  <a:pt x="10966" y="0"/>
                </a:lnTo>
                <a:lnTo>
                  <a:pt x="3641" y="0"/>
                </a:lnTo>
                <a:lnTo>
                  <a:pt x="3145" y="0"/>
                </a:lnTo>
                <a:lnTo>
                  <a:pt x="2648" y="134"/>
                </a:lnTo>
                <a:lnTo>
                  <a:pt x="2276" y="224"/>
                </a:lnTo>
                <a:lnTo>
                  <a:pt x="1945" y="492"/>
                </a:lnTo>
                <a:lnTo>
                  <a:pt x="1697" y="716"/>
                </a:lnTo>
                <a:lnTo>
                  <a:pt x="1366" y="1073"/>
                </a:lnTo>
                <a:lnTo>
                  <a:pt x="1200" y="1431"/>
                </a:lnTo>
                <a:lnTo>
                  <a:pt x="1200" y="1744"/>
                </a:lnTo>
                <a:lnTo>
                  <a:pt x="1200" y="2102"/>
                </a:lnTo>
                <a:lnTo>
                  <a:pt x="1366" y="2460"/>
                </a:lnTo>
                <a:lnTo>
                  <a:pt x="1697" y="2817"/>
                </a:lnTo>
                <a:lnTo>
                  <a:pt x="1945" y="3041"/>
                </a:lnTo>
                <a:lnTo>
                  <a:pt x="2276" y="3220"/>
                </a:lnTo>
                <a:lnTo>
                  <a:pt x="2648" y="3354"/>
                </a:lnTo>
                <a:lnTo>
                  <a:pt x="3145" y="3443"/>
                </a:lnTo>
                <a:lnTo>
                  <a:pt x="3641" y="3443"/>
                </a:lnTo>
                <a:lnTo>
                  <a:pt x="8152" y="3443"/>
                </a:lnTo>
                <a:lnTo>
                  <a:pt x="8152" y="5993"/>
                </a:lnTo>
                <a:lnTo>
                  <a:pt x="3890" y="5993"/>
                </a:lnTo>
                <a:lnTo>
                  <a:pt x="3145" y="6127"/>
                </a:lnTo>
                <a:lnTo>
                  <a:pt x="2276" y="6306"/>
                </a:lnTo>
                <a:lnTo>
                  <a:pt x="1697" y="6663"/>
                </a:lnTo>
                <a:lnTo>
                  <a:pt x="1200" y="7155"/>
                </a:lnTo>
                <a:lnTo>
                  <a:pt x="662" y="7737"/>
                </a:lnTo>
                <a:lnTo>
                  <a:pt x="166" y="8273"/>
                </a:lnTo>
                <a:lnTo>
                  <a:pt x="0" y="8989"/>
                </a:lnTo>
                <a:lnTo>
                  <a:pt x="0" y="9525"/>
                </a:lnTo>
                <a:lnTo>
                  <a:pt x="0" y="10822"/>
                </a:lnTo>
                <a:lnTo>
                  <a:pt x="0" y="15831"/>
                </a:lnTo>
                <a:lnTo>
                  <a:pt x="166" y="16547"/>
                </a:lnTo>
                <a:lnTo>
                  <a:pt x="662" y="17307"/>
                </a:lnTo>
                <a:lnTo>
                  <a:pt x="1697" y="18380"/>
                </a:lnTo>
                <a:lnTo>
                  <a:pt x="2814" y="19275"/>
                </a:lnTo>
                <a:lnTo>
                  <a:pt x="3641" y="19766"/>
                </a:lnTo>
                <a:lnTo>
                  <a:pt x="4428" y="20169"/>
                </a:lnTo>
                <a:lnTo>
                  <a:pt x="5421" y="20527"/>
                </a:lnTo>
                <a:lnTo>
                  <a:pt x="6372" y="20884"/>
                </a:lnTo>
                <a:lnTo>
                  <a:pt x="7572" y="21242"/>
                </a:lnTo>
                <a:lnTo>
                  <a:pt x="8648" y="21466"/>
                </a:lnTo>
                <a:lnTo>
                  <a:pt x="9766" y="21600"/>
                </a:lnTo>
                <a:lnTo>
                  <a:pt x="11131" y="21600"/>
                </a:lnTo>
                <a:lnTo>
                  <a:pt x="12414" y="21600"/>
                </a:lnTo>
                <a:lnTo>
                  <a:pt x="13779" y="21466"/>
                </a:lnTo>
                <a:lnTo>
                  <a:pt x="14855" y="21242"/>
                </a:lnTo>
                <a:lnTo>
                  <a:pt x="15807" y="20884"/>
                </a:lnTo>
                <a:lnTo>
                  <a:pt x="16841" y="20527"/>
                </a:lnTo>
                <a:lnTo>
                  <a:pt x="17669" y="20169"/>
                </a:lnTo>
                <a:lnTo>
                  <a:pt x="18455" y="19766"/>
                </a:lnTo>
                <a:lnTo>
                  <a:pt x="19117" y="19275"/>
                </a:lnTo>
                <a:lnTo>
                  <a:pt x="20234" y="18380"/>
                </a:lnTo>
                <a:lnTo>
                  <a:pt x="21062" y="17307"/>
                </a:lnTo>
                <a:lnTo>
                  <a:pt x="21600" y="16547"/>
                </a:lnTo>
                <a:lnTo>
                  <a:pt x="21600" y="15831"/>
                </a:lnTo>
                <a:lnTo>
                  <a:pt x="21600" y="10733"/>
                </a:lnTo>
                <a:lnTo>
                  <a:pt x="21600" y="9525"/>
                </a:lnTo>
                <a:lnTo>
                  <a:pt x="21600" y="8989"/>
                </a:lnTo>
                <a:lnTo>
                  <a:pt x="21434" y="8273"/>
                </a:lnTo>
                <a:lnTo>
                  <a:pt x="21062" y="7737"/>
                </a:lnTo>
                <a:lnTo>
                  <a:pt x="20566" y="7155"/>
                </a:lnTo>
                <a:lnTo>
                  <a:pt x="19903" y="6663"/>
                </a:lnTo>
                <a:lnTo>
                  <a:pt x="19283" y="6306"/>
                </a:lnTo>
                <a:lnTo>
                  <a:pt x="18621" y="6127"/>
                </a:lnTo>
                <a:lnTo>
                  <a:pt x="17752" y="5993"/>
                </a:lnTo>
                <a:close/>
              </a:path>
              <a:path w="21600" h="21600">
                <a:moveTo>
                  <a:pt x="8152" y="3443"/>
                </a:moveTo>
                <a:lnTo>
                  <a:pt x="13862" y="3443"/>
                </a:lnTo>
              </a:path>
              <a:path w="21600" h="21600">
                <a:moveTo>
                  <a:pt x="8152" y="5993"/>
                </a:moveTo>
                <a:lnTo>
                  <a:pt x="13862" y="5993"/>
                </a:lnTo>
              </a:path>
            </a:pathLst>
          </a:custGeom>
          <a:solidFill>
            <a:srgbClr val="99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28" name="chair1"/>
          <p:cNvSpPr/>
          <p:nvPr/>
        </p:nvSpPr>
        <p:spPr>
          <a:xfrm rot="9436800">
            <a:off x="4613040" y="3684240"/>
            <a:ext cx="279360" cy="307800"/>
          </a:xfrm>
          <a:custGeom>
            <a:avLst/>
            <a:gdLst>
              <a:gd name="textAreaLeft" fmla="*/ 20520 w 279360"/>
              <a:gd name="textAreaRight" fmla="*/ 262800 w 279360"/>
              <a:gd name="textAreaTop" fmla="*/ 111960 h 307800"/>
              <a:gd name="textAreaBottom" fmla="*/ 250560 h 307800"/>
            </a:gdLst>
            <a:ahLst/>
            <a:rect l="textAreaLeft" t="textAreaTop" r="textAreaRight" b="textAreaBottom"/>
            <a:pathLst>
              <a:path w="21600" h="21600">
                <a:moveTo>
                  <a:pt x="17752" y="5993"/>
                </a:moveTo>
                <a:lnTo>
                  <a:pt x="13862" y="5993"/>
                </a:lnTo>
                <a:lnTo>
                  <a:pt x="13862" y="3443"/>
                </a:lnTo>
                <a:lnTo>
                  <a:pt x="18455" y="3443"/>
                </a:lnTo>
                <a:lnTo>
                  <a:pt x="18952" y="3443"/>
                </a:lnTo>
                <a:lnTo>
                  <a:pt x="19448" y="3354"/>
                </a:lnTo>
                <a:lnTo>
                  <a:pt x="19697" y="3220"/>
                </a:lnTo>
                <a:lnTo>
                  <a:pt x="20234" y="3041"/>
                </a:lnTo>
                <a:lnTo>
                  <a:pt x="20566" y="2817"/>
                </a:lnTo>
                <a:lnTo>
                  <a:pt x="20731" y="2460"/>
                </a:lnTo>
                <a:lnTo>
                  <a:pt x="20897" y="2102"/>
                </a:lnTo>
                <a:lnTo>
                  <a:pt x="20897" y="1744"/>
                </a:lnTo>
                <a:lnTo>
                  <a:pt x="20897" y="1431"/>
                </a:lnTo>
                <a:lnTo>
                  <a:pt x="20731" y="1073"/>
                </a:lnTo>
                <a:lnTo>
                  <a:pt x="20566" y="716"/>
                </a:lnTo>
                <a:lnTo>
                  <a:pt x="20234" y="492"/>
                </a:lnTo>
                <a:lnTo>
                  <a:pt x="19697" y="224"/>
                </a:lnTo>
                <a:lnTo>
                  <a:pt x="19448" y="134"/>
                </a:lnTo>
                <a:lnTo>
                  <a:pt x="18952" y="0"/>
                </a:lnTo>
                <a:lnTo>
                  <a:pt x="18455" y="0"/>
                </a:lnTo>
                <a:lnTo>
                  <a:pt x="10966" y="0"/>
                </a:lnTo>
                <a:lnTo>
                  <a:pt x="3641" y="0"/>
                </a:lnTo>
                <a:lnTo>
                  <a:pt x="3145" y="0"/>
                </a:lnTo>
                <a:lnTo>
                  <a:pt x="2648" y="134"/>
                </a:lnTo>
                <a:lnTo>
                  <a:pt x="2276" y="224"/>
                </a:lnTo>
                <a:lnTo>
                  <a:pt x="1945" y="492"/>
                </a:lnTo>
                <a:lnTo>
                  <a:pt x="1697" y="716"/>
                </a:lnTo>
                <a:lnTo>
                  <a:pt x="1366" y="1073"/>
                </a:lnTo>
                <a:lnTo>
                  <a:pt x="1200" y="1431"/>
                </a:lnTo>
                <a:lnTo>
                  <a:pt x="1200" y="1744"/>
                </a:lnTo>
                <a:lnTo>
                  <a:pt x="1200" y="2102"/>
                </a:lnTo>
                <a:lnTo>
                  <a:pt x="1366" y="2460"/>
                </a:lnTo>
                <a:lnTo>
                  <a:pt x="1697" y="2817"/>
                </a:lnTo>
                <a:lnTo>
                  <a:pt x="1945" y="3041"/>
                </a:lnTo>
                <a:lnTo>
                  <a:pt x="2276" y="3220"/>
                </a:lnTo>
                <a:lnTo>
                  <a:pt x="2648" y="3354"/>
                </a:lnTo>
                <a:lnTo>
                  <a:pt x="3145" y="3443"/>
                </a:lnTo>
                <a:lnTo>
                  <a:pt x="3641" y="3443"/>
                </a:lnTo>
                <a:lnTo>
                  <a:pt x="8152" y="3443"/>
                </a:lnTo>
                <a:lnTo>
                  <a:pt x="8152" y="5993"/>
                </a:lnTo>
                <a:lnTo>
                  <a:pt x="3890" y="5993"/>
                </a:lnTo>
                <a:lnTo>
                  <a:pt x="3145" y="6127"/>
                </a:lnTo>
                <a:lnTo>
                  <a:pt x="2276" y="6306"/>
                </a:lnTo>
                <a:lnTo>
                  <a:pt x="1697" y="6663"/>
                </a:lnTo>
                <a:lnTo>
                  <a:pt x="1200" y="7155"/>
                </a:lnTo>
                <a:lnTo>
                  <a:pt x="662" y="7737"/>
                </a:lnTo>
                <a:lnTo>
                  <a:pt x="166" y="8273"/>
                </a:lnTo>
                <a:lnTo>
                  <a:pt x="0" y="8989"/>
                </a:lnTo>
                <a:lnTo>
                  <a:pt x="0" y="9525"/>
                </a:lnTo>
                <a:lnTo>
                  <a:pt x="0" y="10822"/>
                </a:lnTo>
                <a:lnTo>
                  <a:pt x="0" y="15831"/>
                </a:lnTo>
                <a:lnTo>
                  <a:pt x="166" y="16547"/>
                </a:lnTo>
                <a:lnTo>
                  <a:pt x="662" y="17307"/>
                </a:lnTo>
                <a:lnTo>
                  <a:pt x="1697" y="18380"/>
                </a:lnTo>
                <a:lnTo>
                  <a:pt x="2814" y="19275"/>
                </a:lnTo>
                <a:lnTo>
                  <a:pt x="3641" y="19766"/>
                </a:lnTo>
                <a:lnTo>
                  <a:pt x="4428" y="20169"/>
                </a:lnTo>
                <a:lnTo>
                  <a:pt x="5421" y="20527"/>
                </a:lnTo>
                <a:lnTo>
                  <a:pt x="6372" y="20884"/>
                </a:lnTo>
                <a:lnTo>
                  <a:pt x="7572" y="21242"/>
                </a:lnTo>
                <a:lnTo>
                  <a:pt x="8648" y="21466"/>
                </a:lnTo>
                <a:lnTo>
                  <a:pt x="9766" y="21600"/>
                </a:lnTo>
                <a:lnTo>
                  <a:pt x="11131" y="21600"/>
                </a:lnTo>
                <a:lnTo>
                  <a:pt x="12414" y="21600"/>
                </a:lnTo>
                <a:lnTo>
                  <a:pt x="13779" y="21466"/>
                </a:lnTo>
                <a:lnTo>
                  <a:pt x="14855" y="21242"/>
                </a:lnTo>
                <a:lnTo>
                  <a:pt x="15807" y="20884"/>
                </a:lnTo>
                <a:lnTo>
                  <a:pt x="16841" y="20527"/>
                </a:lnTo>
                <a:lnTo>
                  <a:pt x="17669" y="20169"/>
                </a:lnTo>
                <a:lnTo>
                  <a:pt x="18455" y="19766"/>
                </a:lnTo>
                <a:lnTo>
                  <a:pt x="19117" y="19275"/>
                </a:lnTo>
                <a:lnTo>
                  <a:pt x="20234" y="18380"/>
                </a:lnTo>
                <a:lnTo>
                  <a:pt x="21062" y="17307"/>
                </a:lnTo>
                <a:lnTo>
                  <a:pt x="21600" y="16547"/>
                </a:lnTo>
                <a:lnTo>
                  <a:pt x="21600" y="15831"/>
                </a:lnTo>
                <a:lnTo>
                  <a:pt x="21600" y="10733"/>
                </a:lnTo>
                <a:lnTo>
                  <a:pt x="21600" y="9525"/>
                </a:lnTo>
                <a:lnTo>
                  <a:pt x="21600" y="8989"/>
                </a:lnTo>
                <a:lnTo>
                  <a:pt x="21434" y="8273"/>
                </a:lnTo>
                <a:lnTo>
                  <a:pt x="21062" y="7737"/>
                </a:lnTo>
                <a:lnTo>
                  <a:pt x="20566" y="7155"/>
                </a:lnTo>
                <a:lnTo>
                  <a:pt x="19903" y="6663"/>
                </a:lnTo>
                <a:lnTo>
                  <a:pt x="19283" y="6306"/>
                </a:lnTo>
                <a:lnTo>
                  <a:pt x="18621" y="6127"/>
                </a:lnTo>
                <a:lnTo>
                  <a:pt x="17752" y="5993"/>
                </a:lnTo>
                <a:close/>
              </a:path>
              <a:path w="21600" h="21600">
                <a:moveTo>
                  <a:pt x="8152" y="3443"/>
                </a:moveTo>
                <a:lnTo>
                  <a:pt x="13862" y="3443"/>
                </a:lnTo>
              </a:path>
              <a:path w="21600" h="21600">
                <a:moveTo>
                  <a:pt x="8152" y="5993"/>
                </a:moveTo>
                <a:lnTo>
                  <a:pt x="13862" y="5993"/>
                </a:lnTo>
              </a:path>
            </a:pathLst>
          </a:custGeom>
          <a:solidFill>
            <a:srgbClr val="99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29" name="Straight Connector 28"/>
          <p:cNvSpPr/>
          <p:nvPr/>
        </p:nvSpPr>
        <p:spPr>
          <a:xfrm flipH="1">
            <a:off x="2504880" y="2516040"/>
            <a:ext cx="29880" cy="17337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0" name="Straight Connector 30"/>
          <p:cNvSpPr/>
          <p:nvPr/>
        </p:nvSpPr>
        <p:spPr>
          <a:xfrm flipH="1">
            <a:off x="3736800" y="2516040"/>
            <a:ext cx="14400" cy="17337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1" name="Straight Connector 98304"/>
          <p:cNvSpPr/>
          <p:nvPr/>
        </p:nvSpPr>
        <p:spPr>
          <a:xfrm>
            <a:off x="2556000" y="4249800"/>
            <a:ext cx="37335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2" name="Straight Connector 98307"/>
          <p:cNvSpPr/>
          <p:nvPr/>
        </p:nvSpPr>
        <p:spPr>
          <a:xfrm flipV="1">
            <a:off x="2535120" y="4115880"/>
            <a:ext cx="554040" cy="13356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3" name="Straight Connector 37"/>
          <p:cNvSpPr/>
          <p:nvPr/>
        </p:nvSpPr>
        <p:spPr>
          <a:xfrm flipV="1">
            <a:off x="3765600" y="4115880"/>
            <a:ext cx="466560" cy="13356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934" name="Picture 27" descr=""/>
          <p:cNvPicPr/>
          <p:nvPr/>
        </p:nvPicPr>
        <p:blipFill>
          <a:blip r:embed="rId2"/>
          <a:stretch/>
        </p:blipFill>
        <p:spPr>
          <a:xfrm>
            <a:off x="4079880" y="4556160"/>
            <a:ext cx="414360" cy="237960"/>
          </a:xfrm>
          <a:prstGeom prst="rect">
            <a:avLst/>
          </a:prstGeom>
          <a:ln w="0">
            <a:noFill/>
          </a:ln>
        </p:spPr>
      </p:pic>
      <p:pic>
        <p:nvPicPr>
          <p:cNvPr id="935" name="Picture 28" descr=""/>
          <p:cNvPicPr/>
          <p:nvPr/>
        </p:nvPicPr>
        <p:blipFill>
          <a:blip r:embed="rId3"/>
          <a:stretch/>
        </p:blipFill>
        <p:spPr>
          <a:xfrm>
            <a:off x="3448080" y="4340160"/>
            <a:ext cx="414360" cy="238320"/>
          </a:xfrm>
          <a:prstGeom prst="rect">
            <a:avLst/>
          </a:prstGeom>
          <a:ln w="0">
            <a:noFill/>
          </a:ln>
        </p:spPr>
      </p:pic>
      <p:sp>
        <p:nvSpPr>
          <p:cNvPr id="936" name="Rectangle 29"/>
          <p:cNvSpPr/>
          <p:nvPr/>
        </p:nvSpPr>
        <p:spPr>
          <a:xfrm>
            <a:off x="5705640" y="5589720"/>
            <a:ext cx="457200" cy="342720"/>
          </a:xfrm>
          <a:prstGeom prst="rect">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937" name="computr1"/>
          <p:cNvSpPr/>
          <p:nvPr/>
        </p:nvSpPr>
        <p:spPr>
          <a:xfrm>
            <a:off x="752400" y="4675320"/>
            <a:ext cx="381240" cy="355320"/>
          </a:xfrm>
          <a:custGeom>
            <a:avLst/>
            <a:gdLst>
              <a:gd name="textAreaLeft" fmla="*/ 86760 w 381240"/>
              <a:gd name="textAreaRight" fmla="*/ 295920 w 381240"/>
              <a:gd name="textAreaTop" fmla="*/ 41760 h 355320"/>
              <a:gd name="textAreaBottom" fmla="*/ 183600 h 355320"/>
            </a:gdLst>
            <a:ahLst/>
            <a:rect l="textAreaLeft" t="textAreaTop" r="textAreaRight" b="textAreaBottom"/>
            <a:pathLst>
              <a:path w="21600" h="21600">
                <a:moveTo>
                  <a:pt x="16994" y="15388"/>
                </a:moveTo>
                <a:lnTo>
                  <a:pt x="16994" y="13553"/>
                </a:lnTo>
                <a:lnTo>
                  <a:pt x="19535" y="13553"/>
                </a:lnTo>
                <a:lnTo>
                  <a:pt x="19535" y="10729"/>
                </a:lnTo>
                <a:lnTo>
                  <a:pt x="19535" y="6776"/>
                </a:lnTo>
                <a:lnTo>
                  <a:pt x="19535" y="0"/>
                </a:lnTo>
                <a:lnTo>
                  <a:pt x="10800" y="0"/>
                </a:lnTo>
                <a:lnTo>
                  <a:pt x="2065" y="0"/>
                </a:lnTo>
                <a:lnTo>
                  <a:pt x="2065" y="6776"/>
                </a:lnTo>
                <a:lnTo>
                  <a:pt x="2065" y="10729"/>
                </a:lnTo>
                <a:lnTo>
                  <a:pt x="2065" y="13553"/>
                </a:lnTo>
                <a:lnTo>
                  <a:pt x="4606" y="13553"/>
                </a:lnTo>
                <a:lnTo>
                  <a:pt x="4606" y="15388"/>
                </a:lnTo>
                <a:lnTo>
                  <a:pt x="0" y="15388"/>
                </a:lnTo>
                <a:lnTo>
                  <a:pt x="0" y="21600"/>
                </a:lnTo>
                <a:lnTo>
                  <a:pt x="10800" y="21600"/>
                </a:lnTo>
                <a:lnTo>
                  <a:pt x="21600" y="21600"/>
                </a:lnTo>
                <a:lnTo>
                  <a:pt x="21600" y="15388"/>
                </a:lnTo>
                <a:lnTo>
                  <a:pt x="16994" y="15388"/>
                </a:lnTo>
                <a:close/>
              </a:path>
              <a:path w="21600" h="21600">
                <a:moveTo>
                  <a:pt x="4606" y="15388"/>
                </a:moveTo>
                <a:lnTo>
                  <a:pt x="4606" y="13553"/>
                </a:lnTo>
                <a:lnTo>
                  <a:pt x="16994" y="13553"/>
                </a:lnTo>
                <a:lnTo>
                  <a:pt x="16994" y="15388"/>
                </a:lnTo>
                <a:lnTo>
                  <a:pt x="4606" y="15388"/>
                </a:lnTo>
              </a:path>
              <a:path w="21600" h="21600">
                <a:moveTo>
                  <a:pt x="4606" y="11294"/>
                </a:moveTo>
                <a:lnTo>
                  <a:pt x="4606" y="2259"/>
                </a:lnTo>
                <a:lnTo>
                  <a:pt x="16994" y="2259"/>
                </a:lnTo>
                <a:lnTo>
                  <a:pt x="16994" y="11294"/>
                </a:lnTo>
                <a:lnTo>
                  <a:pt x="4606" y="11294"/>
                </a:lnTo>
                <a:moveTo>
                  <a:pt x="13976" y="17082"/>
                </a:moveTo>
                <a:lnTo>
                  <a:pt x="13976" y="16376"/>
                </a:lnTo>
                <a:lnTo>
                  <a:pt x="20171" y="16376"/>
                </a:lnTo>
                <a:lnTo>
                  <a:pt x="20171" y="17082"/>
                </a:lnTo>
                <a:lnTo>
                  <a:pt x="13976" y="17082"/>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8" name="laptop"/>
          <p:cNvSpPr/>
          <p:nvPr/>
        </p:nvSpPr>
        <p:spPr>
          <a:xfrm rot="10800000">
            <a:off x="5705280" y="5703840"/>
            <a:ext cx="430200" cy="241200"/>
          </a:xfrm>
          <a:custGeom>
            <a:avLst/>
            <a:gdLst>
              <a:gd name="textAreaLeft" fmla="*/ 88560 w 430200"/>
              <a:gd name="textAreaRight" fmla="*/ 344880 w 430200"/>
              <a:gd name="textAreaTop" fmla="*/ 20520 h 241200"/>
              <a:gd name="textAreaBottom" fmla="*/ 137520 h 24120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9" name="Rectangle 32"/>
          <p:cNvSpPr/>
          <p:nvPr/>
        </p:nvSpPr>
        <p:spPr>
          <a:xfrm rot="5400000">
            <a:off x="3711600" y="2573280"/>
            <a:ext cx="457200" cy="342720"/>
          </a:xfrm>
          <a:prstGeom prst="rect">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940" name="laptop"/>
          <p:cNvSpPr/>
          <p:nvPr/>
        </p:nvSpPr>
        <p:spPr>
          <a:xfrm rot="16200000">
            <a:off x="3674160" y="2653560"/>
            <a:ext cx="430560" cy="241200"/>
          </a:xfrm>
          <a:custGeom>
            <a:avLst/>
            <a:gdLst>
              <a:gd name="textAreaLeft" fmla="*/ 88560 w 430560"/>
              <a:gd name="textAreaRight" fmla="*/ 345240 w 430560"/>
              <a:gd name="textAreaTop" fmla="*/ 20520 h 241200"/>
              <a:gd name="textAreaBottom" fmla="*/ 137520 h 24120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41" name="couch2"/>
          <p:cNvSpPr/>
          <p:nvPr/>
        </p:nvSpPr>
        <p:spPr>
          <a:xfrm rot="16200000">
            <a:off x="153000" y="3048480"/>
            <a:ext cx="1486080" cy="474840"/>
          </a:xfrm>
          <a:custGeom>
            <a:avLst/>
            <a:gdLst>
              <a:gd name="textAreaLeft" fmla="*/ 210600 w 1486080"/>
              <a:gd name="textAreaRight" fmla="*/ 1276560 w 1486080"/>
              <a:gd name="textAreaTop" fmla="*/ 142200 h 474840"/>
              <a:gd name="textAreaBottom" fmla="*/ 392040 h 474840"/>
            </a:gdLst>
            <a:ahLst/>
            <a:rect l="textAreaLeft" t="textAreaTop" r="textAreaRight" b="textAreaBottom"/>
            <a:pathLst>
              <a:path w="21600" h="21600">
                <a:moveTo>
                  <a:pt x="19477" y="19515"/>
                </a:moveTo>
                <a:lnTo>
                  <a:pt x="19563" y="19889"/>
                </a:lnTo>
                <a:lnTo>
                  <a:pt x="19672" y="20263"/>
                </a:lnTo>
                <a:lnTo>
                  <a:pt x="19780" y="20531"/>
                </a:lnTo>
                <a:lnTo>
                  <a:pt x="19888" y="20691"/>
                </a:lnTo>
                <a:lnTo>
                  <a:pt x="20170" y="21119"/>
                </a:lnTo>
                <a:lnTo>
                  <a:pt x="20408" y="21172"/>
                </a:lnTo>
                <a:lnTo>
                  <a:pt x="20712" y="21172"/>
                </a:lnTo>
                <a:lnTo>
                  <a:pt x="20950" y="21119"/>
                </a:lnTo>
                <a:lnTo>
                  <a:pt x="21167" y="20691"/>
                </a:lnTo>
                <a:lnTo>
                  <a:pt x="21362" y="20370"/>
                </a:lnTo>
                <a:lnTo>
                  <a:pt x="21513" y="19889"/>
                </a:lnTo>
                <a:lnTo>
                  <a:pt x="21600" y="19408"/>
                </a:lnTo>
                <a:lnTo>
                  <a:pt x="21600" y="18873"/>
                </a:lnTo>
                <a:lnTo>
                  <a:pt x="21557" y="18285"/>
                </a:lnTo>
                <a:lnTo>
                  <a:pt x="21470" y="17857"/>
                </a:lnTo>
                <a:lnTo>
                  <a:pt x="21362" y="17376"/>
                </a:lnTo>
                <a:lnTo>
                  <a:pt x="21167" y="16895"/>
                </a:lnTo>
                <a:lnTo>
                  <a:pt x="20993" y="16574"/>
                </a:lnTo>
                <a:lnTo>
                  <a:pt x="20993" y="10533"/>
                </a:lnTo>
                <a:lnTo>
                  <a:pt x="20993" y="2887"/>
                </a:lnTo>
                <a:lnTo>
                  <a:pt x="20993" y="2513"/>
                </a:lnTo>
                <a:lnTo>
                  <a:pt x="20950" y="2192"/>
                </a:lnTo>
                <a:lnTo>
                  <a:pt x="20950" y="1925"/>
                </a:lnTo>
                <a:lnTo>
                  <a:pt x="20863" y="1604"/>
                </a:lnTo>
                <a:lnTo>
                  <a:pt x="20820" y="1390"/>
                </a:lnTo>
                <a:lnTo>
                  <a:pt x="20755" y="1176"/>
                </a:lnTo>
                <a:lnTo>
                  <a:pt x="20668" y="962"/>
                </a:lnTo>
                <a:lnTo>
                  <a:pt x="20582" y="802"/>
                </a:lnTo>
                <a:lnTo>
                  <a:pt x="20300" y="481"/>
                </a:lnTo>
                <a:lnTo>
                  <a:pt x="19997" y="321"/>
                </a:lnTo>
                <a:lnTo>
                  <a:pt x="19628" y="107"/>
                </a:lnTo>
                <a:lnTo>
                  <a:pt x="19195" y="0"/>
                </a:lnTo>
                <a:lnTo>
                  <a:pt x="18654" y="0"/>
                </a:lnTo>
                <a:lnTo>
                  <a:pt x="18047" y="0"/>
                </a:lnTo>
                <a:lnTo>
                  <a:pt x="17375" y="0"/>
                </a:lnTo>
                <a:lnTo>
                  <a:pt x="16617" y="0"/>
                </a:lnTo>
                <a:lnTo>
                  <a:pt x="10768" y="0"/>
                </a:lnTo>
                <a:lnTo>
                  <a:pt x="4983" y="0"/>
                </a:lnTo>
                <a:lnTo>
                  <a:pt x="4225" y="0"/>
                </a:lnTo>
                <a:lnTo>
                  <a:pt x="3553" y="0"/>
                </a:lnTo>
                <a:lnTo>
                  <a:pt x="2946" y="0"/>
                </a:lnTo>
                <a:lnTo>
                  <a:pt x="2405" y="0"/>
                </a:lnTo>
                <a:lnTo>
                  <a:pt x="1972" y="107"/>
                </a:lnTo>
                <a:lnTo>
                  <a:pt x="1582" y="321"/>
                </a:lnTo>
                <a:lnTo>
                  <a:pt x="1257" y="481"/>
                </a:lnTo>
                <a:lnTo>
                  <a:pt x="1018" y="802"/>
                </a:lnTo>
                <a:lnTo>
                  <a:pt x="932" y="962"/>
                </a:lnTo>
                <a:lnTo>
                  <a:pt x="845" y="1176"/>
                </a:lnTo>
                <a:lnTo>
                  <a:pt x="780" y="1390"/>
                </a:lnTo>
                <a:lnTo>
                  <a:pt x="737" y="1604"/>
                </a:lnTo>
                <a:lnTo>
                  <a:pt x="650" y="1925"/>
                </a:lnTo>
                <a:lnTo>
                  <a:pt x="650" y="2192"/>
                </a:lnTo>
                <a:lnTo>
                  <a:pt x="607" y="2513"/>
                </a:lnTo>
                <a:lnTo>
                  <a:pt x="607" y="2887"/>
                </a:lnTo>
                <a:lnTo>
                  <a:pt x="607" y="10800"/>
                </a:lnTo>
                <a:lnTo>
                  <a:pt x="607" y="16574"/>
                </a:lnTo>
                <a:lnTo>
                  <a:pt x="433" y="16895"/>
                </a:lnTo>
                <a:lnTo>
                  <a:pt x="238" y="17376"/>
                </a:lnTo>
                <a:lnTo>
                  <a:pt x="130" y="17857"/>
                </a:lnTo>
                <a:lnTo>
                  <a:pt x="43" y="18285"/>
                </a:lnTo>
                <a:lnTo>
                  <a:pt x="0" y="18873"/>
                </a:lnTo>
                <a:lnTo>
                  <a:pt x="0" y="19408"/>
                </a:lnTo>
                <a:lnTo>
                  <a:pt x="87" y="19889"/>
                </a:lnTo>
                <a:lnTo>
                  <a:pt x="238" y="20370"/>
                </a:lnTo>
                <a:lnTo>
                  <a:pt x="433" y="20691"/>
                </a:lnTo>
                <a:lnTo>
                  <a:pt x="650" y="21119"/>
                </a:lnTo>
                <a:lnTo>
                  <a:pt x="888" y="21172"/>
                </a:lnTo>
                <a:lnTo>
                  <a:pt x="1148" y="21172"/>
                </a:lnTo>
                <a:lnTo>
                  <a:pt x="1430" y="21119"/>
                </a:lnTo>
                <a:lnTo>
                  <a:pt x="1668" y="20691"/>
                </a:lnTo>
                <a:lnTo>
                  <a:pt x="1820" y="20531"/>
                </a:lnTo>
                <a:lnTo>
                  <a:pt x="1928" y="20263"/>
                </a:lnTo>
                <a:lnTo>
                  <a:pt x="2037" y="19889"/>
                </a:lnTo>
                <a:lnTo>
                  <a:pt x="2123" y="19515"/>
                </a:lnTo>
                <a:lnTo>
                  <a:pt x="2275" y="19889"/>
                </a:lnTo>
                <a:lnTo>
                  <a:pt x="2491" y="20210"/>
                </a:lnTo>
                <a:lnTo>
                  <a:pt x="2795" y="20370"/>
                </a:lnTo>
                <a:lnTo>
                  <a:pt x="3141" y="20638"/>
                </a:lnTo>
                <a:lnTo>
                  <a:pt x="3553" y="20798"/>
                </a:lnTo>
                <a:lnTo>
                  <a:pt x="3965" y="21012"/>
                </a:lnTo>
                <a:lnTo>
                  <a:pt x="4398" y="21119"/>
                </a:lnTo>
                <a:lnTo>
                  <a:pt x="4896" y="21172"/>
                </a:lnTo>
                <a:lnTo>
                  <a:pt x="5373" y="21172"/>
                </a:lnTo>
                <a:lnTo>
                  <a:pt x="5828" y="21172"/>
                </a:lnTo>
                <a:lnTo>
                  <a:pt x="6283" y="21119"/>
                </a:lnTo>
                <a:lnTo>
                  <a:pt x="6738" y="20905"/>
                </a:lnTo>
                <a:lnTo>
                  <a:pt x="7128" y="20691"/>
                </a:lnTo>
                <a:lnTo>
                  <a:pt x="7453" y="20531"/>
                </a:lnTo>
                <a:lnTo>
                  <a:pt x="7713" y="20210"/>
                </a:lnTo>
                <a:lnTo>
                  <a:pt x="7908" y="19782"/>
                </a:lnTo>
                <a:lnTo>
                  <a:pt x="8059" y="20103"/>
                </a:lnTo>
                <a:lnTo>
                  <a:pt x="8276" y="20263"/>
                </a:lnTo>
                <a:lnTo>
                  <a:pt x="8579" y="20424"/>
                </a:lnTo>
                <a:lnTo>
                  <a:pt x="8926" y="20638"/>
                </a:lnTo>
                <a:lnTo>
                  <a:pt x="9381" y="20798"/>
                </a:lnTo>
                <a:lnTo>
                  <a:pt x="9814" y="21012"/>
                </a:lnTo>
                <a:lnTo>
                  <a:pt x="10313" y="21119"/>
                </a:lnTo>
                <a:lnTo>
                  <a:pt x="10789" y="21119"/>
                </a:lnTo>
                <a:lnTo>
                  <a:pt x="11244" y="21119"/>
                </a:lnTo>
                <a:lnTo>
                  <a:pt x="11699" y="21119"/>
                </a:lnTo>
                <a:lnTo>
                  <a:pt x="12111" y="21012"/>
                </a:lnTo>
                <a:lnTo>
                  <a:pt x="12522" y="20905"/>
                </a:lnTo>
                <a:lnTo>
                  <a:pt x="12912" y="20798"/>
                </a:lnTo>
                <a:lnTo>
                  <a:pt x="13194" y="20531"/>
                </a:lnTo>
                <a:lnTo>
                  <a:pt x="13454" y="20370"/>
                </a:lnTo>
                <a:lnTo>
                  <a:pt x="13692" y="20103"/>
                </a:lnTo>
                <a:lnTo>
                  <a:pt x="13844" y="20424"/>
                </a:lnTo>
                <a:lnTo>
                  <a:pt x="14104" y="20691"/>
                </a:lnTo>
                <a:lnTo>
                  <a:pt x="14386" y="21012"/>
                </a:lnTo>
                <a:lnTo>
                  <a:pt x="14797" y="21279"/>
                </a:lnTo>
                <a:lnTo>
                  <a:pt x="15165" y="21493"/>
                </a:lnTo>
                <a:lnTo>
                  <a:pt x="15599" y="21600"/>
                </a:lnTo>
                <a:lnTo>
                  <a:pt x="16097" y="21600"/>
                </a:lnTo>
                <a:lnTo>
                  <a:pt x="16552" y="21600"/>
                </a:lnTo>
                <a:lnTo>
                  <a:pt x="17029" y="21600"/>
                </a:lnTo>
                <a:lnTo>
                  <a:pt x="17484" y="21386"/>
                </a:lnTo>
                <a:lnTo>
                  <a:pt x="17939" y="21279"/>
                </a:lnTo>
                <a:lnTo>
                  <a:pt x="18350" y="21012"/>
                </a:lnTo>
                <a:lnTo>
                  <a:pt x="18719" y="20691"/>
                </a:lnTo>
                <a:lnTo>
                  <a:pt x="19022" y="20370"/>
                </a:lnTo>
                <a:lnTo>
                  <a:pt x="19282" y="19996"/>
                </a:lnTo>
                <a:lnTo>
                  <a:pt x="19477" y="19515"/>
                </a:lnTo>
                <a:close/>
              </a:path>
              <a:path w="21600" h="21600">
                <a:moveTo>
                  <a:pt x="19477" y="19515"/>
                </a:moveTo>
                <a:lnTo>
                  <a:pt x="19477" y="19515"/>
                </a:lnTo>
                <a:lnTo>
                  <a:pt x="19477" y="19087"/>
                </a:lnTo>
                <a:lnTo>
                  <a:pt x="19477" y="17697"/>
                </a:lnTo>
                <a:lnTo>
                  <a:pt x="19477" y="15719"/>
                </a:lnTo>
                <a:lnTo>
                  <a:pt x="19477" y="13473"/>
                </a:lnTo>
                <a:lnTo>
                  <a:pt x="19477" y="11174"/>
                </a:lnTo>
                <a:lnTo>
                  <a:pt x="19477" y="8929"/>
                </a:lnTo>
                <a:lnTo>
                  <a:pt x="19477" y="7218"/>
                </a:lnTo>
                <a:lnTo>
                  <a:pt x="19477" y="6042"/>
                </a:lnTo>
                <a:lnTo>
                  <a:pt x="19434" y="5988"/>
                </a:lnTo>
                <a:lnTo>
                  <a:pt x="19434" y="5828"/>
                </a:lnTo>
                <a:lnTo>
                  <a:pt x="19434" y="5721"/>
                </a:lnTo>
                <a:lnTo>
                  <a:pt x="19390" y="5614"/>
                </a:lnTo>
                <a:lnTo>
                  <a:pt x="19390" y="5507"/>
                </a:lnTo>
                <a:lnTo>
                  <a:pt x="19369" y="5400"/>
                </a:lnTo>
                <a:lnTo>
                  <a:pt x="19325" y="5347"/>
                </a:lnTo>
                <a:lnTo>
                  <a:pt x="19282" y="5240"/>
                </a:lnTo>
                <a:lnTo>
                  <a:pt x="19065" y="4865"/>
                </a:lnTo>
                <a:lnTo>
                  <a:pt x="18784" y="4705"/>
                </a:lnTo>
                <a:lnTo>
                  <a:pt x="18459" y="4491"/>
                </a:lnTo>
                <a:lnTo>
                  <a:pt x="18134" y="4384"/>
                </a:lnTo>
                <a:lnTo>
                  <a:pt x="17765" y="4331"/>
                </a:lnTo>
                <a:lnTo>
                  <a:pt x="17375" y="4224"/>
                </a:lnTo>
                <a:lnTo>
                  <a:pt x="16964" y="4224"/>
                </a:lnTo>
                <a:lnTo>
                  <a:pt x="16617" y="4224"/>
                </a:lnTo>
                <a:lnTo>
                  <a:pt x="4983" y="4224"/>
                </a:lnTo>
                <a:lnTo>
                  <a:pt x="4593" y="4224"/>
                </a:lnTo>
                <a:lnTo>
                  <a:pt x="4225" y="4224"/>
                </a:lnTo>
                <a:lnTo>
                  <a:pt x="3835" y="4331"/>
                </a:lnTo>
                <a:lnTo>
                  <a:pt x="3466" y="4384"/>
                </a:lnTo>
                <a:lnTo>
                  <a:pt x="3141" y="4491"/>
                </a:lnTo>
                <a:lnTo>
                  <a:pt x="2795" y="4705"/>
                </a:lnTo>
                <a:lnTo>
                  <a:pt x="2535" y="4865"/>
                </a:lnTo>
                <a:lnTo>
                  <a:pt x="2318" y="5240"/>
                </a:lnTo>
                <a:lnTo>
                  <a:pt x="2275" y="5347"/>
                </a:lnTo>
                <a:lnTo>
                  <a:pt x="2231" y="5400"/>
                </a:lnTo>
                <a:lnTo>
                  <a:pt x="2188" y="5507"/>
                </a:lnTo>
                <a:lnTo>
                  <a:pt x="2188" y="5614"/>
                </a:lnTo>
                <a:lnTo>
                  <a:pt x="2166" y="5721"/>
                </a:lnTo>
                <a:lnTo>
                  <a:pt x="2166" y="5828"/>
                </a:lnTo>
                <a:lnTo>
                  <a:pt x="2123" y="5988"/>
                </a:lnTo>
                <a:lnTo>
                  <a:pt x="2123" y="6042"/>
                </a:lnTo>
                <a:lnTo>
                  <a:pt x="2123" y="7218"/>
                </a:lnTo>
                <a:lnTo>
                  <a:pt x="2123" y="8929"/>
                </a:lnTo>
                <a:lnTo>
                  <a:pt x="2123" y="11174"/>
                </a:lnTo>
                <a:lnTo>
                  <a:pt x="2123" y="13473"/>
                </a:lnTo>
                <a:lnTo>
                  <a:pt x="2123" y="15719"/>
                </a:lnTo>
                <a:lnTo>
                  <a:pt x="2123" y="17697"/>
                </a:lnTo>
                <a:lnTo>
                  <a:pt x="2123" y="19087"/>
                </a:lnTo>
                <a:lnTo>
                  <a:pt x="2123" y="19515"/>
                </a:lnTo>
                <a:moveTo>
                  <a:pt x="2318" y="5240"/>
                </a:moveTo>
                <a:lnTo>
                  <a:pt x="2123" y="4865"/>
                </a:lnTo>
                <a:lnTo>
                  <a:pt x="1907" y="4331"/>
                </a:lnTo>
                <a:lnTo>
                  <a:pt x="1712" y="3743"/>
                </a:lnTo>
                <a:lnTo>
                  <a:pt x="1473" y="3101"/>
                </a:lnTo>
                <a:lnTo>
                  <a:pt x="1343" y="2406"/>
                </a:lnTo>
                <a:lnTo>
                  <a:pt x="1170" y="1818"/>
                </a:lnTo>
                <a:lnTo>
                  <a:pt x="1062" y="1230"/>
                </a:lnTo>
                <a:lnTo>
                  <a:pt x="1018" y="802"/>
                </a:lnTo>
                <a:moveTo>
                  <a:pt x="19282" y="5240"/>
                </a:moveTo>
                <a:lnTo>
                  <a:pt x="19477" y="4865"/>
                </a:lnTo>
                <a:lnTo>
                  <a:pt x="19693" y="4331"/>
                </a:lnTo>
                <a:lnTo>
                  <a:pt x="19888" y="3743"/>
                </a:lnTo>
                <a:lnTo>
                  <a:pt x="20127" y="3101"/>
                </a:lnTo>
                <a:lnTo>
                  <a:pt x="20257" y="2406"/>
                </a:lnTo>
                <a:lnTo>
                  <a:pt x="20408" y="1818"/>
                </a:lnTo>
                <a:lnTo>
                  <a:pt x="20538" y="1230"/>
                </a:lnTo>
                <a:lnTo>
                  <a:pt x="20582" y="802"/>
                </a:lnTo>
                <a:moveTo>
                  <a:pt x="7908" y="4224"/>
                </a:moveTo>
                <a:lnTo>
                  <a:pt x="7908" y="6790"/>
                </a:lnTo>
                <a:lnTo>
                  <a:pt x="7908" y="16574"/>
                </a:lnTo>
                <a:lnTo>
                  <a:pt x="7908" y="19782"/>
                </a:lnTo>
                <a:lnTo>
                  <a:pt x="7908" y="4224"/>
                </a:lnTo>
                <a:moveTo>
                  <a:pt x="13692" y="4224"/>
                </a:moveTo>
                <a:lnTo>
                  <a:pt x="13692" y="6844"/>
                </a:lnTo>
                <a:lnTo>
                  <a:pt x="13692" y="16788"/>
                </a:lnTo>
                <a:lnTo>
                  <a:pt x="13692" y="20103"/>
                </a:lnTo>
                <a:lnTo>
                  <a:pt x="13692" y="4224"/>
                </a:lnTo>
              </a:path>
            </a:pathLst>
          </a:custGeom>
          <a:solidFill>
            <a:srgbClr val="b9b9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942" name="Picture 35" descr=""/>
          <p:cNvPicPr/>
          <p:nvPr/>
        </p:nvPicPr>
        <p:blipFill>
          <a:blip r:embed="rId4"/>
          <a:stretch/>
        </p:blipFill>
        <p:spPr>
          <a:xfrm>
            <a:off x="1989000" y="4675320"/>
            <a:ext cx="567000" cy="158760"/>
          </a:xfrm>
          <a:prstGeom prst="rect">
            <a:avLst/>
          </a:prstGeom>
          <a:ln w="0">
            <a:noFill/>
          </a:ln>
        </p:spPr>
      </p:pic>
      <p:sp>
        <p:nvSpPr>
          <p:cNvPr id="943" name="Rectangle 7"/>
          <p:cNvSpPr/>
          <p:nvPr/>
        </p:nvSpPr>
        <p:spPr>
          <a:xfrm>
            <a:off x="2631960" y="2595600"/>
            <a:ext cx="457200" cy="1143000"/>
          </a:xfrm>
          <a:prstGeom prst="rect">
            <a:avLst/>
          </a:prstGeom>
          <a:solidFill>
            <a:srgbClr val="b9b9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944" name="Rectangle 8"/>
          <p:cNvSpPr/>
          <p:nvPr/>
        </p:nvSpPr>
        <p:spPr>
          <a:xfrm>
            <a:off x="2708280" y="2595600"/>
            <a:ext cx="3049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945" name="Rectangle 98320"/>
          <p:cNvSpPr/>
          <p:nvPr/>
        </p:nvSpPr>
        <p:spPr>
          <a:xfrm>
            <a:off x="6723000" y="2909880"/>
            <a:ext cx="242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Sensitivity </a:t>
            </a:r>
            <a:endParaRPr b="0" lang="en-US" sz="1800" spc="-1" strike="noStrike">
              <a:solidFill>
                <a:srgbClr val="002143"/>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Classification </a:t>
            </a:r>
            <a:endParaRPr b="0" lang="en-US" sz="1800" spc="-1" strike="noStrike">
              <a:solidFill>
                <a:srgbClr val="002143"/>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Color Key:</a:t>
            </a:r>
            <a:endParaRPr b="0" lang="en-US" sz="1800" spc="-1" strike="noStrike">
              <a:solidFill>
                <a:srgbClr val="002143"/>
              </a:solidFill>
              <a:latin typeface="Arial"/>
            </a:endParaRPr>
          </a:p>
          <a:p>
            <a:pPr>
              <a:buClr>
                <a:srgbClr val="002143"/>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Green: Public</a:t>
            </a:r>
            <a:endParaRPr b="0" lang="en-US" sz="1800" spc="-1" strike="noStrike">
              <a:solidFill>
                <a:srgbClr val="002143"/>
              </a:solidFill>
              <a:latin typeface="Arial"/>
            </a:endParaRPr>
          </a:p>
          <a:p>
            <a:pPr>
              <a:buClr>
                <a:srgbClr val="002143"/>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Yellow: Privileged</a:t>
            </a:r>
            <a:endParaRPr b="0" lang="en-US" sz="1800" spc="-1" strike="noStrike">
              <a:solidFill>
                <a:srgbClr val="002143"/>
              </a:solidFill>
              <a:latin typeface="Arial"/>
            </a:endParaRPr>
          </a:p>
          <a:p>
            <a:pPr>
              <a:buClr>
                <a:srgbClr val="002143"/>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Orange: Private</a:t>
            </a:r>
            <a:endParaRPr b="0" lang="en-US" sz="1800" spc="-1" strike="noStrike">
              <a:solidFill>
                <a:srgbClr val="002143"/>
              </a:solidFill>
              <a:latin typeface="Arial"/>
            </a:endParaRPr>
          </a:p>
          <a:p>
            <a:pPr>
              <a:buClr>
                <a:srgbClr val="002143"/>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ed: Confidential</a:t>
            </a:r>
            <a:r>
              <a:rPr b="0" lang="en-US" sz="1100" spc="-1" strike="noStrike">
                <a:solidFill>
                  <a:srgbClr val="002143"/>
                </a:solidFill>
                <a:latin typeface="Arial"/>
                <a:ea typeface="ヒラギノ角ゴ Pro W3"/>
              </a:rPr>
              <a:t> </a:t>
            </a:r>
            <a:endParaRPr b="0" lang="en-US" sz="1100" spc="-1" strike="noStrike">
              <a:solidFill>
                <a:srgbClr val="00214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hysical Security</a:t>
            </a:r>
            <a:br>
              <a:rPr sz="3200"/>
            </a:br>
            <a:r>
              <a:rPr b="1" lang="en-US" sz="3600" spc="-1" strike="noStrike">
                <a:solidFill>
                  <a:srgbClr val="00468a"/>
                </a:solidFill>
                <a:latin typeface="Calibri"/>
              </a:rPr>
              <a:t>Allocation of Assets</a:t>
            </a:r>
            <a:endParaRPr b="1" lang="en-US" sz="3600" spc="-1" strike="noStrike">
              <a:solidFill>
                <a:srgbClr val="00468a"/>
              </a:solidFill>
              <a:latin typeface="Calibri"/>
            </a:endParaRPr>
          </a:p>
        </p:txBody>
      </p:sp>
      <p:graphicFrame>
        <p:nvGraphicFramePr>
          <p:cNvPr id="947" name=""/>
          <p:cNvGraphicFramePr/>
          <p:nvPr/>
        </p:nvGraphicFramePr>
        <p:xfrm>
          <a:off x="304920" y="1828800"/>
          <a:ext cx="8534160" cy="4830840"/>
        </p:xfrm>
        <a:graphic>
          <a:graphicData uri="http://schemas.openxmlformats.org/drawingml/2006/table">
            <a:tbl>
              <a:tblPr/>
              <a:tblGrid>
                <a:gridCol w="1523880"/>
                <a:gridCol w="3276720"/>
                <a:gridCol w="3733560"/>
              </a:tblGrid>
              <a:tr h="99036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Times New Roman"/>
                          <a:ea typeface="Times New Roman"/>
                        </a:rPr>
                        <a:t>Room</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Times New Roman"/>
                          <a:ea typeface="Times New Roman"/>
                        </a:rPr>
                        <a:t>Sensitive Assets or Information</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Times New Roman"/>
                          <a:ea typeface="Times New Roman"/>
                        </a:rPr>
                        <a:t>Room Controls</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2801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Rm 123</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Computer Lab: Computers, Printer</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Cable locking system</a:t>
                      </a:r>
                      <a:endParaRPr b="0" lang="en-US" sz="28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Doors locked 9PM-8AM by security</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280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Rm 125</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Classroom: Computer &amp; projector</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Cable locking system</a:t>
                      </a:r>
                      <a:endParaRPr b="0" lang="en-US" sz="28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Teachers have keys to door.  </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2801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Rm 132</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Servers and critical/sensitive information</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Key-card entry logs personnel.  Badges required.</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20200" y="68580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member Data </a:t>
            </a:r>
            <a:br>
              <a:rPr sz="3600"/>
            </a:br>
            <a:r>
              <a:rPr b="1" lang="en-US" sz="3600" spc="-1" strike="noStrike">
                <a:solidFill>
                  <a:srgbClr val="00468a"/>
                </a:solidFill>
                <a:latin typeface="Calibri"/>
              </a:rPr>
              <a:t>Criticality Classification?</a:t>
            </a:r>
            <a:endParaRPr b="1" lang="en-US" sz="3600" spc="-1" strike="noStrike">
              <a:solidFill>
                <a:srgbClr val="00468a"/>
              </a:solidFill>
              <a:latin typeface="Calibri"/>
            </a:endParaRPr>
          </a:p>
        </p:txBody>
      </p:sp>
      <p:sp>
        <p:nvSpPr>
          <p:cNvPr id="693"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ritical $$$$</a:t>
            </a:r>
            <a:r>
              <a:rPr b="0" lang="en-US" sz="2400" spc="-1" strike="noStrike">
                <a:solidFill>
                  <a:srgbClr val="5f5f5f"/>
                </a:solidFill>
                <a:latin typeface="Calibri"/>
              </a:rPr>
              <a:t>:  Cannot be performed manually.  Tolerance to interruption is very low</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Vital $$</a:t>
            </a:r>
            <a:r>
              <a:rPr b="0" lang="en-US" sz="2400" spc="-1" strike="noStrike">
                <a:solidFill>
                  <a:srgbClr val="5f5f5f"/>
                </a:solidFill>
                <a:latin typeface="Calibri"/>
              </a:rPr>
              <a:t>: Can be performed manually for very short tim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nsitive $</a:t>
            </a:r>
            <a:r>
              <a:rPr b="0" lang="en-US" sz="2400" spc="-1" strike="noStrike">
                <a:solidFill>
                  <a:srgbClr val="5f5f5f"/>
                </a:solidFill>
                <a:latin typeface="Calibri"/>
              </a:rPr>
              <a:t>: Can be performed manually for a period of time, but may cost more in staff</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onsensitive </a:t>
            </a:r>
            <a:r>
              <a:rPr b="1" lang="en-US" sz="2400" spc="-1" strike="noStrike">
                <a:solidFill>
                  <a:srgbClr val="5f5f5f"/>
                </a:solidFill>
                <a:latin typeface="Calibri"/>
                <a:ea typeface="Arial"/>
              </a:rPr>
              <a:t>¢</a:t>
            </a:r>
            <a:r>
              <a:rPr b="0" lang="en-US" sz="2400" spc="-1" strike="noStrike">
                <a:solidFill>
                  <a:srgbClr val="5f5f5f"/>
                </a:solidFill>
                <a:latin typeface="Calibri"/>
              </a:rPr>
              <a:t>: Can be performed manually for an extended period of time with little additional cost and minimal recovery effort</a:t>
            </a:r>
            <a:endParaRPr b="0" lang="en-US" sz="2400" spc="-1" strike="noStrike">
              <a:solidFill>
                <a:srgbClr val="5f5f5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68544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 </a:t>
            </a:r>
            <a:r>
              <a:rPr b="1" lang="en-US" sz="3600" spc="-1" strike="noStrike">
                <a:solidFill>
                  <a:srgbClr val="00468a"/>
                </a:solidFill>
                <a:latin typeface="Calibri"/>
              </a:rPr>
              <a:t>and Sensitivity Classification?</a:t>
            </a:r>
            <a:br>
              <a:rPr sz="3600"/>
            </a:br>
            <a:endParaRPr b="1" lang="en-US" sz="3600" spc="-1" strike="noStrike">
              <a:solidFill>
                <a:srgbClr val="00468a"/>
              </a:solidFill>
              <a:latin typeface="Calibri"/>
            </a:endParaRPr>
          </a:p>
        </p:txBody>
      </p:sp>
      <p:pic>
        <p:nvPicPr>
          <p:cNvPr id="695" name="Diagram 1" descr=""/>
          <p:cNvPicPr/>
          <p:nvPr/>
        </p:nvPicPr>
        <p:blipFill>
          <a:blip r:embed="rId1"/>
          <a:stretch/>
        </p:blipFill>
        <p:spPr>
          <a:xfrm>
            <a:off x="792000" y="1530360"/>
            <a:ext cx="8339400" cy="4797360"/>
          </a:xfrm>
          <a:prstGeom prst="rect">
            <a:avLst/>
          </a:prstGeom>
          <a:ln w="0">
            <a:noFill/>
          </a:ln>
        </p:spPr>
      </p:pic>
      <p:pic>
        <p:nvPicPr>
          <p:cNvPr id="696" name="Picture 9" descr="BD18204_"/>
          <p:cNvPicPr/>
          <p:nvPr/>
        </p:nvPicPr>
        <p:blipFill>
          <a:blip r:embed="rId2"/>
          <a:stretch/>
        </p:blipFill>
        <p:spPr>
          <a:xfrm>
            <a:off x="6858000" y="4038480"/>
            <a:ext cx="1511280" cy="979560"/>
          </a:xfrm>
          <a:prstGeom prst="rect">
            <a:avLst/>
          </a:prstGeom>
          <a:ln w="0">
            <a:noFill/>
          </a:ln>
        </p:spPr>
      </p:pic>
      <p:sp>
        <p:nvSpPr>
          <p:cNvPr id="697" name="Text Box 10"/>
          <p:cNvSpPr/>
          <p:nvPr/>
        </p:nvSpPr>
        <p:spPr>
          <a:xfrm>
            <a:off x="6921000" y="437976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nternal</a:t>
            </a:r>
            <a:endParaRPr b="0" lang="en-US" sz="1800" spc="-1" strike="noStrike">
              <a:solidFill>
                <a:srgbClr val="002143"/>
              </a:solidFill>
              <a:latin typeface="Arial"/>
            </a:endParaRPr>
          </a:p>
        </p:txBody>
      </p:sp>
      <p:pic>
        <p:nvPicPr>
          <p:cNvPr id="698" name="Picture 11" descr="j0397050[1]"/>
          <p:cNvPicPr/>
          <p:nvPr/>
        </p:nvPicPr>
        <p:blipFill>
          <a:blip r:embed="rId3"/>
          <a:stretch/>
        </p:blipFill>
        <p:spPr>
          <a:xfrm>
            <a:off x="1371600" y="3048120"/>
            <a:ext cx="880920" cy="900000"/>
          </a:xfrm>
          <a:prstGeom prst="rect">
            <a:avLst/>
          </a:prstGeom>
          <a:ln w="0">
            <a:noFill/>
          </a:ln>
        </p:spPr>
      </p:pic>
      <p:pic>
        <p:nvPicPr>
          <p:cNvPr id="699" name="Picture 12" descr="j0250466[1]"/>
          <p:cNvPicPr/>
          <p:nvPr/>
        </p:nvPicPr>
        <p:blipFill>
          <a:blip r:embed="rId4"/>
          <a:stretch/>
        </p:blipFill>
        <p:spPr>
          <a:xfrm>
            <a:off x="7010280" y="1676520"/>
            <a:ext cx="1235160" cy="1269720"/>
          </a:xfrm>
          <a:prstGeom prst="rect">
            <a:avLst/>
          </a:prstGeom>
          <a:ln w="0">
            <a:noFill/>
          </a:ln>
        </p:spPr>
      </p:pic>
      <p:pic>
        <p:nvPicPr>
          <p:cNvPr id="700" name="Picture 13" descr="j0371064[1]"/>
          <p:cNvPicPr/>
          <p:nvPr/>
        </p:nvPicPr>
        <p:blipFill>
          <a:blip r:embed="rId5"/>
          <a:stretch/>
        </p:blipFill>
        <p:spPr>
          <a:xfrm>
            <a:off x="598320" y="5257800"/>
            <a:ext cx="121284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view: Security: Defense in Depth</a:t>
            </a:r>
            <a:endParaRPr b="1" lang="en-US" sz="3600" spc="-1" strike="noStrike">
              <a:solidFill>
                <a:srgbClr val="00468a"/>
              </a:solidFill>
              <a:latin typeface="Calibri"/>
            </a:endParaRPr>
          </a:p>
        </p:txBody>
      </p:sp>
      <p:sp>
        <p:nvSpPr>
          <p:cNvPr id="702" name="Oval 3"/>
          <p:cNvSpPr/>
          <p:nvPr/>
        </p:nvSpPr>
        <p:spPr>
          <a:xfrm>
            <a:off x="4952880" y="1447920"/>
            <a:ext cx="3886200" cy="2895480"/>
          </a:xfrm>
          <a:prstGeom prst="ellipse">
            <a:avLst/>
          </a:prstGeom>
          <a:solidFill>
            <a:srgbClr val="333399"/>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03" name="Oval 4"/>
          <p:cNvSpPr/>
          <p:nvPr/>
        </p:nvSpPr>
        <p:spPr>
          <a:xfrm>
            <a:off x="5334120" y="1752480"/>
            <a:ext cx="3124080" cy="2286000"/>
          </a:xfrm>
          <a:prstGeom prst="ellipse">
            <a:avLst/>
          </a:prstGeom>
          <a:solidFill>
            <a:srgbClr val="3333c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04" name="Oval 5"/>
          <p:cNvSpPr/>
          <p:nvPr/>
        </p:nvSpPr>
        <p:spPr>
          <a:xfrm>
            <a:off x="5638680" y="2057400"/>
            <a:ext cx="2514600" cy="1752480"/>
          </a:xfrm>
          <a:prstGeom prst="ellipse">
            <a:avLst/>
          </a:prstGeom>
          <a:solidFill>
            <a:srgbClr val="6666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05" name="Oval 6"/>
          <p:cNvSpPr/>
          <p:nvPr/>
        </p:nvSpPr>
        <p:spPr>
          <a:xfrm>
            <a:off x="5867280" y="2286000"/>
            <a:ext cx="2057400" cy="1295280"/>
          </a:xfrm>
          <a:prstGeom prst="ellipse">
            <a:avLst/>
          </a:prstGeom>
          <a:solidFill>
            <a:srgbClr val="9999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06" name="Oval 7"/>
          <p:cNvSpPr/>
          <p:nvPr/>
        </p:nvSpPr>
        <p:spPr>
          <a:xfrm>
            <a:off x="6095880" y="2438280"/>
            <a:ext cx="1600200" cy="990720"/>
          </a:xfrm>
          <a:prstGeom prst="ellipse">
            <a:avLst/>
          </a:prstGeom>
          <a:solidFill>
            <a:srgbClr val="bdbd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07" name="Oval 8"/>
          <p:cNvSpPr/>
          <p:nvPr/>
        </p:nvSpPr>
        <p:spPr>
          <a:xfrm>
            <a:off x="6324480" y="2590920"/>
            <a:ext cx="1219320" cy="685800"/>
          </a:xfrm>
          <a:prstGeom prst="ellipse">
            <a:avLst/>
          </a:prstGeom>
          <a:solidFill>
            <a:srgbClr val="cccc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08" name="Oval 9"/>
          <p:cNvSpPr/>
          <p:nvPr/>
        </p:nvSpPr>
        <p:spPr>
          <a:xfrm>
            <a:off x="6553080" y="2743200"/>
            <a:ext cx="762120" cy="380880"/>
          </a:xfrm>
          <a:prstGeom prst="ellipse">
            <a:avLst/>
          </a:prstGeom>
          <a:solidFill>
            <a:srgbClr val="ccec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09" name="Oval 10"/>
          <p:cNvSpPr/>
          <p:nvPr/>
        </p:nvSpPr>
        <p:spPr>
          <a:xfrm>
            <a:off x="6705720" y="2819520"/>
            <a:ext cx="457200" cy="228600"/>
          </a:xfrm>
          <a:prstGeom prst="ellipse">
            <a:avLst/>
          </a:prstGeom>
          <a:solidFill>
            <a:srgbClr val="ebf7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10" name="Text Box 11"/>
          <p:cNvSpPr/>
          <p:nvPr/>
        </p:nvSpPr>
        <p:spPr>
          <a:xfrm>
            <a:off x="5109120" y="4419720"/>
            <a:ext cx="33264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order Rout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erimeter firewal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nternal firewal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ntrusion Detection System</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olicies &amp; Procedures &amp; Audi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uthentic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ccess Controls</a:t>
            </a:r>
            <a:endParaRPr b="0" lang="en-US" sz="1800" spc="-1" strike="noStrike">
              <a:solidFill>
                <a:srgbClr val="002143"/>
              </a:solidFill>
              <a:latin typeface="Arial"/>
            </a:endParaRPr>
          </a:p>
        </p:txBody>
      </p:sp>
      <p:pic>
        <p:nvPicPr>
          <p:cNvPr id="711" name="Picture 12" descr="MCj04063320000[1]"/>
          <p:cNvPicPr/>
          <p:nvPr/>
        </p:nvPicPr>
        <p:blipFill>
          <a:blip r:embed="rId1"/>
          <a:stretch/>
        </p:blipFill>
        <p:spPr>
          <a:xfrm>
            <a:off x="380880" y="1905120"/>
            <a:ext cx="384012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2" name="Diagram 7"/>
          <p:cNvGrpSpPr/>
          <p:nvPr/>
        </p:nvGrpSpPr>
        <p:grpSpPr>
          <a:xfrm>
            <a:off x="457920" y="182160"/>
            <a:ext cx="7158600" cy="6080040"/>
            <a:chOff x="457920" y="182160"/>
            <a:chExt cx="7158600" cy="6080040"/>
          </a:xfrm>
        </p:grpSpPr>
        <p:sp>
          <p:nvSpPr>
            <p:cNvPr id="713" name="_s1028"/>
            <p:cNvSpPr/>
            <p:nvPr/>
          </p:nvSpPr>
          <p:spPr>
            <a:xfrm>
              <a:off x="840960" y="1052640"/>
              <a:ext cx="5078520" cy="5209560"/>
            </a:xfrm>
            <a:prstGeom prst="donut">
              <a:avLst>
                <a:gd name="adj" fmla="val 8333"/>
              </a:avLst>
            </a:prstGeom>
            <a:solidFill>
              <a:srgbClr val="48231c"/>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4" name="_s1029"/>
            <p:cNvSpPr/>
            <p:nvPr/>
          </p:nvSpPr>
          <p:spPr>
            <a:xfrm>
              <a:off x="6600240" y="2658600"/>
              <a:ext cx="1016280" cy="49500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Not advertising location of </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sensitive facilities</a:t>
              </a:r>
              <a:endParaRPr b="0" lang="en-US" sz="1600" spc="-1" strike="noStrike">
                <a:solidFill>
                  <a:srgbClr val="002143"/>
                </a:solidFill>
                <a:latin typeface="Arial"/>
              </a:endParaRPr>
            </a:p>
          </p:txBody>
        </p:sp>
        <p:sp>
          <p:nvSpPr>
            <p:cNvPr id="715" name="_s1030"/>
            <p:cNvSpPr/>
            <p:nvPr/>
          </p:nvSpPr>
          <p:spPr>
            <a:xfrm>
              <a:off x="1265400" y="1487880"/>
              <a:ext cx="4232160" cy="4341240"/>
            </a:xfrm>
            <a:prstGeom prst="donut">
              <a:avLst>
                <a:gd name="adj" fmla="val 10000"/>
              </a:avLst>
            </a:prstGeom>
            <a:solidFill>
              <a:srgbClr val="00468a"/>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6" name="_s1031"/>
            <p:cNvSpPr/>
            <p:nvPr/>
          </p:nvSpPr>
          <p:spPr>
            <a:xfrm>
              <a:off x="6600240" y="2163600"/>
              <a:ext cx="1016280" cy="49500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Controlled single entry</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point &amp; barred windows</a:t>
              </a:r>
              <a:endParaRPr b="0" lang="en-US" sz="1600" spc="-1" strike="noStrike">
                <a:solidFill>
                  <a:srgbClr val="002143"/>
                </a:solidFill>
                <a:latin typeface="Arial"/>
              </a:endParaRPr>
            </a:p>
          </p:txBody>
        </p:sp>
        <p:sp>
          <p:nvSpPr>
            <p:cNvPr id="717" name="_s1032"/>
            <p:cNvSpPr/>
            <p:nvPr/>
          </p:nvSpPr>
          <p:spPr>
            <a:xfrm>
              <a:off x="1687320" y="1920600"/>
              <a:ext cx="3385800" cy="3473280"/>
            </a:xfrm>
            <a:prstGeom prst="donut">
              <a:avLst>
                <a:gd name="adj" fmla="val 12500"/>
              </a:avLst>
            </a:prstGeom>
            <a:solidFill>
              <a:srgbClr val="0176c3"/>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8" name="_s1033"/>
            <p:cNvSpPr/>
            <p:nvPr/>
          </p:nvSpPr>
          <p:spPr>
            <a:xfrm>
              <a:off x="6600240" y="1668240"/>
              <a:ext cx="1016280" cy="49500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Security Guards, manual</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logging &amp; photo ID badges</a:t>
              </a:r>
              <a:endParaRPr b="0" lang="en-US" sz="1600" spc="-1" strike="noStrike">
                <a:solidFill>
                  <a:srgbClr val="002143"/>
                </a:solidFill>
                <a:latin typeface="Arial"/>
              </a:endParaRPr>
            </a:p>
          </p:txBody>
        </p:sp>
        <p:sp>
          <p:nvSpPr>
            <p:cNvPr id="719" name="_s1034"/>
            <p:cNvSpPr/>
            <p:nvPr/>
          </p:nvSpPr>
          <p:spPr>
            <a:xfrm>
              <a:off x="2111760" y="2355840"/>
              <a:ext cx="2539440" cy="2604600"/>
            </a:xfrm>
            <a:prstGeom prst="donut">
              <a:avLst>
                <a:gd name="adj" fmla="val 16666"/>
              </a:avLst>
            </a:prstGeom>
            <a:solidFill>
              <a:srgbClr val="999999"/>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0" name="_s1035"/>
            <p:cNvSpPr/>
            <p:nvPr/>
          </p:nvSpPr>
          <p:spPr>
            <a:xfrm>
              <a:off x="6600240" y="1172520"/>
              <a:ext cx="1016280" cy="49536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Bonded personnel</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Controlled visitor access</a:t>
              </a:r>
              <a:endParaRPr b="0" lang="en-US" sz="1600" spc="-1" strike="noStrike">
                <a:solidFill>
                  <a:srgbClr val="002143"/>
                </a:solidFill>
                <a:latin typeface="Arial"/>
              </a:endParaRPr>
            </a:p>
          </p:txBody>
        </p:sp>
        <p:sp>
          <p:nvSpPr>
            <p:cNvPr id="721" name="_s1036"/>
            <p:cNvSpPr/>
            <p:nvPr/>
          </p:nvSpPr>
          <p:spPr>
            <a:xfrm>
              <a:off x="2534040" y="2789280"/>
              <a:ext cx="1692720" cy="1735920"/>
            </a:xfrm>
            <a:prstGeom prst="donut">
              <a:avLst>
                <a:gd name="adj" fmla="val 25000"/>
              </a:avLst>
            </a:prstGeom>
            <a:solidFill>
              <a:srgbClr val="0176c3"/>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2" name="_s1037"/>
            <p:cNvSpPr/>
            <p:nvPr/>
          </p:nvSpPr>
          <p:spPr>
            <a:xfrm>
              <a:off x="6600240" y="677520"/>
              <a:ext cx="1016280" cy="49500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Video cameras &amp;</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Alarm system</a:t>
              </a:r>
              <a:endParaRPr b="0" lang="en-US" sz="1600" spc="-1" strike="noStrike">
                <a:solidFill>
                  <a:srgbClr val="002143"/>
                </a:solidFill>
                <a:latin typeface="Arial"/>
              </a:endParaRPr>
            </a:p>
          </p:txBody>
        </p:sp>
        <p:sp>
          <p:nvSpPr>
            <p:cNvPr id="723" name="_s1038"/>
            <p:cNvSpPr/>
            <p:nvPr/>
          </p:nvSpPr>
          <p:spPr>
            <a:xfrm>
              <a:off x="2958480" y="3224520"/>
              <a:ext cx="846000" cy="86796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4" name="_s1039"/>
            <p:cNvSpPr/>
            <p:nvPr/>
          </p:nvSpPr>
          <p:spPr>
            <a:xfrm>
              <a:off x="6600240" y="182160"/>
              <a:ext cx="1016280" cy="49500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Locked Work</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Stations</a:t>
              </a:r>
              <a:endParaRPr b="0" lang="en-US" sz="1600" spc="-1" strike="noStrike">
                <a:solidFill>
                  <a:srgbClr val="002143"/>
                </a:solidFill>
                <a:latin typeface="Arial"/>
              </a:endParaRPr>
            </a:p>
          </p:txBody>
        </p:sp>
        <p:pic>
          <p:nvPicPr>
            <p:cNvPr id="725" name="Picture 22" descr=""/>
            <p:cNvPicPr/>
            <p:nvPr/>
          </p:nvPicPr>
          <p:blipFill>
            <a:blip r:embed="rId1"/>
            <a:stretch/>
          </p:blipFill>
          <p:spPr>
            <a:xfrm>
              <a:off x="457920" y="380880"/>
              <a:ext cx="1512720" cy="1523520"/>
            </a:xfrm>
            <a:prstGeom prst="rect">
              <a:avLst/>
            </a:prstGeom>
            <a:ln w="0">
              <a:noFill/>
            </a:ln>
          </p:spPr>
        </p:pic>
      </p:grpSp>
      <p:sp>
        <p:nvSpPr>
          <p:cNvPr id="726" name="Text Box 21"/>
          <p:cNvSpPr/>
          <p:nvPr/>
        </p:nvSpPr>
        <p:spPr>
          <a:xfrm>
            <a:off x="5789880" y="4146480"/>
            <a:ext cx="3231720" cy="2715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ヒラギノ角ゴ Pro W3"/>
              </a:rPr>
              <a:t>Defense in Depth:</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ヒラギノ角ゴ Pro W3"/>
              </a:rPr>
              <a:t>Physical access </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ヒラギノ角ゴ Pro W3"/>
              </a:rPr>
              <a:t>controls with Guards</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ea typeface="ヒラギノ角ゴ Pro W3"/>
              </a:rPr>
              <a:t>Which controls are</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ea typeface="ヒラギノ角ゴ Pro W3"/>
              </a:rPr>
              <a:t>Preventive?</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ea typeface="ヒラギノ角ゴ Pro W3"/>
              </a:rPr>
              <a:t>Reactive?</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ea typeface="ヒラギノ角ゴ Pro W3"/>
              </a:rPr>
              <a:t>Corrective?</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14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722160" y="4406760"/>
            <a:ext cx="7772400" cy="1911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c3f5e"/>
                </a:solidFill>
                <a:latin typeface="Calibri"/>
              </a:rPr>
              <a:t>PHYSICAL ISSUES</a:t>
            </a:r>
            <a:br>
              <a:rPr sz="4600"/>
            </a:br>
            <a:r>
              <a:rPr b="1" lang="en-US" sz="4600" spc="-1" strike="noStrike">
                <a:solidFill>
                  <a:srgbClr val="0c3f5e"/>
                </a:solidFill>
                <a:latin typeface="Calibri"/>
              </a:rPr>
              <a:t>AND CONTROLS</a:t>
            </a:r>
            <a:br>
              <a:rPr sz="4600"/>
            </a:br>
            <a:r>
              <a:rPr b="1" lang="en-US" sz="4600" spc="-1" strike="noStrike">
                <a:solidFill>
                  <a:srgbClr val="0c3f5e"/>
                </a:solidFill>
                <a:latin typeface="Calibri"/>
              </a:rPr>
              <a:t>FOR AVAILABILITY</a:t>
            </a:r>
            <a:endParaRPr b="1" lang="en-US" sz="4600" spc="-1" strike="noStrike">
              <a:solidFill>
                <a:srgbClr val="00468a"/>
              </a:solidFill>
              <a:latin typeface="Calibri"/>
            </a:endParaRPr>
          </a:p>
        </p:txBody>
      </p:sp>
      <p:sp>
        <p:nvSpPr>
          <p:cNvPr id="728" name="PlaceHolder 2"/>
          <p:cNvSpPr>
            <a:spLocks noGrp="1"/>
          </p:cNvSpPr>
          <p:nvPr>
            <p:ph/>
          </p:nvPr>
        </p:nvSpPr>
        <p:spPr>
          <a:xfrm>
            <a:off x="722160" y="2906280"/>
            <a:ext cx="7772400" cy="1500120"/>
          </a:xfrm>
          <a:prstGeom prst="rect">
            <a:avLst/>
          </a:prstGeom>
          <a:noFill/>
          <a:ln w="0">
            <a:noFill/>
          </a:ln>
        </p:spPr>
        <p:txBody>
          <a:bodyPr lIns="0" rIns="0" tIns="0" bIns="0" anchor="b">
            <a:normAutofit fontScale="83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Power Protection</a:t>
            </a:r>
            <a:endParaRPr b="0" lang="en-US" sz="3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Fire Suppression</a:t>
            </a:r>
            <a:endParaRPr b="0" lang="en-US" sz="3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IPF Environment</a:t>
            </a:r>
            <a:endParaRPr b="0" lang="en-US" sz="3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External Security</a:t>
            </a:r>
            <a:endParaRPr b="0" lang="en-US" sz="3000" spc="-1" strike="noStrike">
              <a:solidFill>
                <a:srgbClr val="5f5f5f"/>
              </a:solidFill>
              <a:latin typeface="Calibri"/>
            </a:endParaRPr>
          </a:p>
        </p:txBody>
      </p:sp>
      <p:pic>
        <p:nvPicPr>
          <p:cNvPr id="729" name="Picture 8" descr="MCj04315620000[1]"/>
          <p:cNvPicPr/>
          <p:nvPr/>
        </p:nvPicPr>
        <p:blipFill>
          <a:blip r:embed="rId1"/>
          <a:stretch/>
        </p:blipFill>
        <p:spPr>
          <a:xfrm>
            <a:off x="5638680" y="3584520"/>
            <a:ext cx="3251160" cy="3273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ower Protection Systems</a:t>
            </a:r>
            <a:endParaRPr b="1" lang="en-US" sz="3600" spc="-1" strike="noStrike">
              <a:solidFill>
                <a:srgbClr val="00468a"/>
              </a:solidFill>
              <a:latin typeface="Calibri"/>
            </a:endParaRPr>
          </a:p>
        </p:txBody>
      </p:sp>
      <p:sp>
        <p:nvSpPr>
          <p:cNvPr id="731" name="PlaceHolder 2"/>
          <p:cNvSpPr>
            <a:spLocks noGrp="1"/>
          </p:cNvSpPr>
          <p:nvPr>
            <p:ph/>
          </p:nvPr>
        </p:nvSpPr>
        <p:spPr>
          <a:xfrm>
            <a:off x="457200" y="3877920"/>
            <a:ext cx="8229600" cy="1878120"/>
          </a:xfrm>
          <a:prstGeom prst="rect">
            <a:avLst/>
          </a:prstGeom>
          <a:noFill/>
          <a:ln w="0">
            <a:noFill/>
          </a:ln>
        </p:spPr>
        <p:txBody>
          <a:bodyPr lIns="0" rIns="0" tIns="0" bIns="0" anchor="t">
            <a:normAutofit fontScale="95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Blackout</a:t>
            </a:r>
            <a:r>
              <a:rPr b="0" lang="en-US" sz="2200" spc="-1" strike="noStrike">
                <a:solidFill>
                  <a:srgbClr val="5f5f5f"/>
                </a:solidFill>
                <a:latin typeface="Calibri"/>
              </a:rPr>
              <a:t>:  Total loss of power</a:t>
            </a:r>
            <a:endParaRPr b="0" lang="en-US" sz="22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Brownout</a:t>
            </a:r>
            <a:r>
              <a:rPr b="0" lang="en-US" sz="2200" spc="-1" strike="noStrike">
                <a:solidFill>
                  <a:srgbClr val="5f5f5f"/>
                </a:solidFill>
                <a:latin typeface="Calibri"/>
              </a:rPr>
              <a:t>:  Reduced, nonstandard power levels may cause damage</a:t>
            </a:r>
            <a:endParaRPr b="0" lang="en-US" sz="22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Sags, spikes &amp; surges</a:t>
            </a:r>
            <a:r>
              <a:rPr b="0" lang="en-US" sz="2200" spc="-1" strike="noStrike">
                <a:solidFill>
                  <a:srgbClr val="5f5f5f"/>
                </a:solidFill>
                <a:latin typeface="Calibri"/>
              </a:rPr>
              <a:t>:  Temporary changes in power level (sag=drop) may cause damage</a:t>
            </a:r>
            <a:endParaRPr b="0" lang="en-US" sz="22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Electromagnetic Interference (EMI):</a:t>
            </a:r>
            <a:r>
              <a:rPr b="0" lang="en-US" sz="2200" spc="-1" strike="noStrike">
                <a:solidFill>
                  <a:srgbClr val="5f5f5f"/>
                </a:solidFill>
                <a:latin typeface="Calibri"/>
              </a:rPr>
              <a:t> Fluctuations in power due to electrical storms or electrical equipment may cause computer crash or damage</a:t>
            </a:r>
            <a:endParaRPr b="0" lang="en-US" sz="2200" spc="-1" strike="noStrike">
              <a:solidFill>
                <a:srgbClr val="5f5f5f"/>
              </a:solidFill>
              <a:latin typeface="Calibri"/>
            </a:endParaRPr>
          </a:p>
        </p:txBody>
      </p:sp>
      <p:sp>
        <p:nvSpPr>
          <p:cNvPr id="732" name="Line 5"/>
          <p:cNvSpPr/>
          <p:nvPr/>
        </p:nvSpPr>
        <p:spPr>
          <a:xfrm>
            <a:off x="914400" y="2438280"/>
            <a:ext cx="7162920" cy="0"/>
          </a:xfrm>
          <a:prstGeom prst="line">
            <a:avLst/>
          </a:prstGeom>
          <a:ln w="381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3" name="AutoShape 6"/>
          <p:cNvSpPr/>
          <p:nvPr/>
        </p:nvSpPr>
        <p:spPr>
          <a:xfrm rot="16200000">
            <a:off x="876240" y="1866240"/>
            <a:ext cx="609480" cy="533520"/>
          </a:xfrm>
          <a:custGeom>
            <a:avLst/>
            <a:gdLst>
              <a:gd name="textAreaLeft" fmla="*/ 0 w 609480"/>
              <a:gd name="textAreaRight" fmla="*/ 219960 w 6094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8357"/>
                </a:lnTo>
                <a:cubicBezTo>
                  <a:pt x="10800" y="9257"/>
                  <a:pt x="16200" y="10157"/>
                  <a:pt x="21600" y="10157"/>
                </a:cubicBezTo>
                <a:cubicBezTo>
                  <a:pt x="16200" y="10157"/>
                  <a:pt x="10800" y="11057"/>
                  <a:pt x="10800" y="11957"/>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34" name="Text Box 7"/>
          <p:cNvSpPr/>
          <p:nvPr/>
        </p:nvSpPr>
        <p:spPr>
          <a:xfrm>
            <a:off x="838800" y="1523880"/>
            <a:ext cx="86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ヒラギノ角ゴ Pro W3"/>
              </a:rPr>
              <a:t>&lt; x ms</a:t>
            </a:r>
            <a:endParaRPr b="0" lang="en-US" sz="1800" spc="-1" strike="noStrike">
              <a:solidFill>
                <a:srgbClr val="002143"/>
              </a:solidFill>
              <a:latin typeface="Arial"/>
            </a:endParaRPr>
          </a:p>
        </p:txBody>
      </p:sp>
      <p:sp>
        <p:nvSpPr>
          <p:cNvPr id="735" name="Text Box 8"/>
          <p:cNvSpPr/>
          <p:nvPr/>
        </p:nvSpPr>
        <p:spPr>
          <a:xfrm>
            <a:off x="824040" y="2550960"/>
            <a:ext cx="110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ヒラギノ角ゴ Pro W3"/>
              </a:rPr>
              <a:t>Surg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ヒラギノ角ゴ Pro W3"/>
              </a:rPr>
              <a:t>Protector</a:t>
            </a:r>
            <a:endParaRPr b="0" lang="en-US" sz="1800" spc="-1" strike="noStrike">
              <a:solidFill>
                <a:srgbClr val="002143"/>
              </a:solidFill>
              <a:latin typeface="Arial"/>
            </a:endParaRPr>
          </a:p>
        </p:txBody>
      </p:sp>
      <p:sp>
        <p:nvSpPr>
          <p:cNvPr id="736" name="AutoShape 9"/>
          <p:cNvSpPr/>
          <p:nvPr/>
        </p:nvSpPr>
        <p:spPr>
          <a:xfrm rot="16200000">
            <a:off x="2019240" y="876240"/>
            <a:ext cx="457200" cy="2666880"/>
          </a:xfrm>
          <a:custGeom>
            <a:avLst/>
            <a:gdLst>
              <a:gd name="textAreaLeft" fmla="*/ 0 w 457200"/>
              <a:gd name="textAreaRight" fmla="*/ 164880 w 45720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8357"/>
                </a:lnTo>
                <a:cubicBezTo>
                  <a:pt x="10800" y="9257"/>
                  <a:pt x="16200" y="10157"/>
                  <a:pt x="21600" y="10157"/>
                </a:cubicBezTo>
                <a:cubicBezTo>
                  <a:pt x="16200" y="10157"/>
                  <a:pt x="10800" y="11057"/>
                  <a:pt x="10800" y="11957"/>
                </a:cubicBezTo>
                <a:lnTo>
                  <a:pt x="10800" y="19800"/>
                </a:lnTo>
                <a:cubicBezTo>
                  <a:pt x="10800" y="20700"/>
                  <a:pt x="5400" y="21600"/>
                  <a:pt x="0" y="21600"/>
                </a:cubicBezTo>
              </a:path>
            </a:pathLst>
          </a:custGeom>
          <a:noFill/>
          <a:ln w="9360">
            <a:solidFill>
              <a:srgbClr val="0176c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37" name="Text Box 10"/>
          <p:cNvSpPr/>
          <p:nvPr/>
        </p:nvSpPr>
        <p:spPr>
          <a:xfrm>
            <a:off x="1754640" y="1676520"/>
            <a:ext cx="149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76c3"/>
                </a:solidFill>
                <a:latin typeface="Arial"/>
                <a:ea typeface="ヒラギノ角ゴ Pro W3"/>
              </a:rPr>
              <a:t>&lt; 30 minutes</a:t>
            </a:r>
            <a:endParaRPr b="0" lang="en-US" sz="1800" spc="-1" strike="noStrike">
              <a:solidFill>
                <a:srgbClr val="002143"/>
              </a:solidFill>
              <a:latin typeface="Arial"/>
            </a:endParaRPr>
          </a:p>
        </p:txBody>
      </p:sp>
      <p:sp>
        <p:nvSpPr>
          <p:cNvPr id="738" name="Text Box 11"/>
          <p:cNvSpPr/>
          <p:nvPr/>
        </p:nvSpPr>
        <p:spPr>
          <a:xfrm>
            <a:off x="2212920" y="2666880"/>
            <a:ext cx="1130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76c3"/>
                </a:solidFill>
                <a:latin typeface="Arial"/>
                <a:ea typeface="ヒラギノ角ゴ Pro W3"/>
              </a:rPr>
              <a:t>UP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76c3"/>
                </a:solidFill>
                <a:latin typeface="Arial"/>
                <a:ea typeface="ヒラギノ角ゴ Pro W3"/>
              </a:rPr>
              <a:t>Universa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76c3"/>
                </a:solidFill>
                <a:latin typeface="Arial"/>
                <a:ea typeface="ヒラギノ角ゴ Pro W3"/>
              </a:rPr>
              <a:t>Pow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76c3"/>
                </a:solidFill>
                <a:latin typeface="Arial"/>
                <a:ea typeface="ヒラギノ角ゴ Pro W3"/>
              </a:rPr>
              <a:t>Supply</a:t>
            </a:r>
            <a:endParaRPr b="0" lang="en-US" sz="1800" spc="-1" strike="noStrike">
              <a:solidFill>
                <a:srgbClr val="002143"/>
              </a:solidFill>
              <a:latin typeface="Arial"/>
            </a:endParaRPr>
          </a:p>
        </p:txBody>
      </p:sp>
      <p:sp>
        <p:nvSpPr>
          <p:cNvPr id="739" name="AutoShape 12"/>
          <p:cNvSpPr/>
          <p:nvPr/>
        </p:nvSpPr>
        <p:spPr>
          <a:xfrm rot="16200000">
            <a:off x="4229280" y="-1180800"/>
            <a:ext cx="304560" cy="6934320"/>
          </a:xfrm>
          <a:custGeom>
            <a:avLst/>
            <a:gdLst>
              <a:gd name="textAreaLeft" fmla="*/ 0 w 304560"/>
              <a:gd name="textAreaRight" fmla="*/ 109800 w 304560"/>
              <a:gd name="textAreaTop" fmla="*/ 180720 h 6934320"/>
              <a:gd name="textAreaBottom" fmla="*/ 6753600 h 6934320"/>
            </a:gdLst>
            <a:ahLst/>
            <a:rect l="textAreaLeft" t="textAreaTop" r="textAreaRight" b="textAreaBottom"/>
            <a:pathLst>
              <a:path w="21600" h="21600">
                <a:moveTo>
                  <a:pt x="0" y="0"/>
                </a:moveTo>
                <a:cubicBezTo>
                  <a:pt x="5400" y="0"/>
                  <a:pt x="10800" y="900"/>
                  <a:pt x="10800" y="1800"/>
                </a:cubicBezTo>
                <a:lnTo>
                  <a:pt x="10800" y="8357"/>
                </a:lnTo>
                <a:cubicBezTo>
                  <a:pt x="10800" y="9257"/>
                  <a:pt x="16200" y="10157"/>
                  <a:pt x="21600" y="10157"/>
                </a:cubicBezTo>
                <a:cubicBezTo>
                  <a:pt x="16200" y="10157"/>
                  <a:pt x="10800" y="11057"/>
                  <a:pt x="10800" y="11957"/>
                </a:cubicBezTo>
                <a:lnTo>
                  <a:pt x="10800" y="19800"/>
                </a:lnTo>
                <a:cubicBezTo>
                  <a:pt x="10800" y="20700"/>
                  <a:pt x="5400" y="21600"/>
                  <a:pt x="0" y="21600"/>
                </a:cubicBezTo>
              </a:path>
            </a:pathLst>
          </a:custGeom>
          <a:noFill/>
          <a:ln w="9360">
            <a:solidFill>
              <a:srgbClr val="4823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0" name="Text Box 13"/>
          <p:cNvSpPr/>
          <p:nvPr/>
        </p:nvSpPr>
        <p:spPr>
          <a:xfrm>
            <a:off x="4026240" y="2703600"/>
            <a:ext cx="300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1c"/>
                </a:solidFill>
                <a:latin typeface="Arial"/>
                <a:ea typeface="ヒラギノ角ゴ Pro W3"/>
              </a:rPr>
              <a:t>Alternate Power Generators</a:t>
            </a:r>
            <a:endParaRPr b="0" lang="en-US" sz="1800" spc="-1" strike="noStrike">
              <a:solidFill>
                <a:srgbClr val="002143"/>
              </a:solidFill>
              <a:latin typeface="Arial"/>
            </a:endParaRPr>
          </a:p>
        </p:txBody>
      </p:sp>
      <p:sp>
        <p:nvSpPr>
          <p:cNvPr id="741" name="Text Box 14"/>
          <p:cNvSpPr/>
          <p:nvPr/>
        </p:nvSpPr>
        <p:spPr>
          <a:xfrm>
            <a:off x="3720600" y="1789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1c"/>
                </a:solidFill>
                <a:latin typeface="Arial"/>
                <a:ea typeface="ヒラギノ角ゴ Pro W3"/>
              </a:rPr>
              <a:t>Hours or days</a:t>
            </a:r>
            <a:endParaRPr b="0" lang="en-US" sz="1800" spc="-1" strike="noStrike">
              <a:solidFill>
                <a:srgbClr val="00214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16:23:49Z</dcterms:created>
  <dc:creator>Susan J Lincke</dc:creator>
  <dc:description/>
  <dc:language>en-US</dc:language>
  <cp:lastModifiedBy>301201</cp:lastModifiedBy>
  <dcterms:modified xsi:type="dcterms:W3CDTF">2015-06-17T06:04:27Z</dcterms:modified>
  <cp:revision>406</cp:revision>
  <dc:subject/>
  <dc:title>Information Security</dc:title>
</cp:coreProperties>
</file>